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wmf" ContentType="image/x-wmf"/>
  <Override PartName="/ppt/media/image14.png" ContentType="image/png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23.wmf" ContentType="image/x-wmf"/>
  <Override PartName="/ppt/media/image22.png" ContentType="image/png"/>
  <Override PartName="/ppt/media/image1.jpeg" ContentType="image/jpeg"/>
  <Override PartName="/ppt/media/image4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24.jpeg" ContentType="image/jpeg"/>
  <Override PartName="/ppt/media/image3.jpeg" ContentType="image/jpeg"/>
  <Override PartName="/ppt/media/image15.png" ContentType="image/png"/>
  <Override PartName="/ppt/media/image6.png" ContentType="image/png"/>
  <Override PartName="/ppt/media/image7.jpeg" ContentType="image/jpeg"/>
  <Override PartName="/ppt/media/image18.png" ContentType="image/png"/>
  <Override PartName="/ppt/media/image2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23E62-3593-450F-8583-10E1B452F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64FD-4C26-4E51-AE68-4D17A4395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C1F4-3531-41E1-BF9C-935B7B91B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64392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9748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36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64392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9748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5062-4881-445B-8236-453D0D817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65A58-6D6D-4A68-9D1D-9BD64ACA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BF59A-41E5-4950-86C6-ED911992C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87E43-F2EA-4B40-81E5-F67E6FC21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F7677-51A3-4528-8AF1-2F3A17010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4C5E-0787-43F9-9140-39FA1A9B6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22400" y="114480"/>
            <a:ext cx="8534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2D541-8556-4F76-B7FC-9D68D83A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FE301-27C9-479B-A0F3-D0556CAD3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6CD2-8519-4BC8-8B5B-D1A130399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675AD-842C-4C62-A991-C1E51B4D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6D90F-95F5-4C5C-9B99-00974BD75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C364-BA0A-4E10-A50F-3C6897C19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4CD3-EE21-461F-BA72-5EECEAFC5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4392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297480" y="15109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99036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4392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297480" y="3100320"/>
            <a:ext cx="252684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6482-BA09-429D-9DAC-8A39F2017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CF56-D0D3-4097-B67E-717DFA9F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DF36F-5853-4CF5-A2B0-96C3B7587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3732-B54D-424D-AF0C-DEE9BA14E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22400" y="114480"/>
            <a:ext cx="8534160" cy="206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A4F-FA28-4F99-9AC9-18F5E608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AE555-5142-4B9F-B406-2E9D0B22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11920" y="31003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D96-84EE-4C9A-B9EA-6D23C6A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36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1920" y="1510920"/>
            <a:ext cx="382968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360" y="3100320"/>
            <a:ext cx="7848360" cy="14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0376-6A2E-4421-A227-7590CB19B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1073160" y="6346800"/>
            <a:ext cx="8070840" cy="289080"/>
          </a:xfrm>
          <a:prstGeom prst="rect">
            <a:avLst/>
          </a:prstGeom>
          <a:solidFill>
            <a:srgbClr val="00a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</a:rPr>
              <a:t>Click to edit the title text format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90360" y="1510920"/>
            <a:ext cx="7848360" cy="304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spcBef>
                <a:spcPts val="1349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1" marL="673200" indent="-190440">
              <a:spcBef>
                <a:spcPts val="134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2" marL="1143000" indent="-279360">
              <a:spcBef>
                <a:spcPts val="1349"/>
              </a:spcBef>
              <a:buClr>
                <a:srgbClr val="00a8e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3" marL="1523880" indent="-190440">
              <a:spcBef>
                <a:spcPts val="1349"/>
              </a:spcBef>
              <a:buClr>
                <a:srgbClr val="00a8e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4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5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6" marL="2666880" indent="-190440">
              <a:spcBef>
                <a:spcPts val="1349"/>
              </a:spcBef>
              <a:buClr>
                <a:srgbClr val="32449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2449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287360" y="6363720"/>
            <a:ext cx="997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>
          <a:xfrm>
            <a:off x="7346880" y="6365160"/>
            <a:ext cx="8064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6680" y="6212880"/>
            <a:ext cx="5061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Slajd: </a:t>
            </a:r>
            <a:fld id="{E4825563-9347-434B-B232-B5D16EE24BA6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6324480"/>
            <a:ext cx="998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073160" y="6346800"/>
            <a:ext cx="8070840" cy="289080"/>
          </a:xfrm>
          <a:prstGeom prst="rect">
            <a:avLst/>
          </a:prstGeom>
          <a:solidFill>
            <a:srgbClr val="00a8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394000"/>
            <a:ext cx="85341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324496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1287360" y="6363720"/>
            <a:ext cx="997200" cy="2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5"/>
          </p:nvPr>
        </p:nvSpPr>
        <p:spPr>
          <a:xfrm>
            <a:off x="7346880" y="6365160"/>
            <a:ext cx="806400" cy="2462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8356680" y="6212880"/>
            <a:ext cx="506160" cy="398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Slajd: </a:t>
            </a:r>
            <a:fld id="{60F9546F-3B79-4451-A8C0-BF57CBFFF05E}" type="slidenum">
              <a:rPr b="0" lang="fr-F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6324480"/>
            <a:ext cx="998640" cy="465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jpe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image" Target="../media/image22.png"/><Relationship Id="rId18" Type="http://schemas.openxmlformats.org/officeDocument/2006/relationships/package" Target="../embeddings/oleObject3.xlsx"/><Relationship Id="rId19" Type="http://schemas.openxmlformats.org/officeDocument/2006/relationships/image" Target="../media/image23.wmf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4789440" y="2413080"/>
            <a:ext cx="4354560" cy="20224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105680" y="5813280"/>
            <a:ext cx="1695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24496"/>
                </a:solidFill>
                <a:latin typeface="Arial"/>
              </a:rPr>
              <a:t>Gdańsk</a:t>
            </a:r>
            <a:br>
              <a:rPr sz="1200"/>
            </a:br>
            <a:r>
              <a:rPr b="1" lang="pl-PL" sz="1200" spc="-1" strike="noStrike">
                <a:solidFill>
                  <a:srgbClr val="00a8ec"/>
                </a:solidFill>
                <a:latin typeface="Arial"/>
              </a:rPr>
              <a:t>28 października 2008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7120" y="5838840"/>
            <a:ext cx="1811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324496"/>
                </a:solidFill>
                <a:latin typeface="Arial"/>
              </a:rPr>
              <a:t>Agata Matla</a:t>
            </a:r>
            <a:br>
              <a:rPr sz="1200"/>
            </a:br>
            <a:r>
              <a:rPr b="1" lang="pl-PL" sz="1200" spc="-1" strike="noStrike">
                <a:solidFill>
                  <a:srgbClr val="00a8ec"/>
                </a:solidFill>
                <a:latin typeface="Arial"/>
              </a:rPr>
              <a:t>Zamówienia Publiczne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7680" y="574200"/>
            <a:ext cx="7078680" cy="10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Mo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liwo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ś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ci wspó</a:t>
            </a:r>
            <a:r>
              <a:rPr b="1" lang="en-US" sz="28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ł</a:t>
            </a:r>
            <a:r>
              <a:rPr b="1" lang="pl-PL" sz="2800" spc="-1" strike="noStrike" u="sng">
                <a:solidFill>
                  <a:srgbClr val="324496"/>
                </a:solidFill>
                <a:uFillTx/>
                <a:latin typeface="Arial"/>
              </a:rPr>
              <a:t>pracy </a:t>
            </a:r>
            <a:br>
              <a:rPr sz="2800"/>
            </a:b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z niezale</a:t>
            </a:r>
            <a:r>
              <a:rPr b="1" lang="en-US" sz="2800" spc="-1" strike="noStrike" u="sng">
                <a:solidFill>
                  <a:srgbClr val="00a8ec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nym sprzedawc</a:t>
            </a:r>
            <a:r>
              <a:rPr b="1" lang="en-US" sz="2800" spc="-1" strike="noStrike" u="sng">
                <a:solidFill>
                  <a:srgbClr val="00a8ec"/>
                </a:solidFill>
                <a:uFillTx/>
                <a:latin typeface="Arial"/>
                <a:ea typeface="Arial"/>
              </a:rPr>
              <a:t>ą</a:t>
            </a:r>
            <a:r>
              <a:rPr b="1" lang="pl-PL" sz="2800" spc="-1" strike="noStrike" u="sng">
                <a:solidFill>
                  <a:srgbClr val="00a8ec"/>
                </a:solidFill>
                <a:uFillTx/>
                <a:latin typeface="Arial"/>
              </a:rPr>
              <a:t> energii.</a:t>
            </a:r>
            <a:endParaRPr b="1" lang="en-US" sz="28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FAF1-B48F-4ECA-BB6A-C6859C2E08AD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dbiorca - Dystrybutor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48" name=""/>
          <p:cNvCxnSpPr>
            <a:stCxn id="447" idx="1"/>
            <a:endCxn id="449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50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51" name=""/>
          <p:cNvCxnSpPr>
            <a:stCxn id="449" idx="5"/>
            <a:endCxn id="452" idx="1"/>
          </p:cNvCxnSpPr>
          <p:nvPr/>
        </p:nvCxnSpPr>
        <p:spPr>
          <a:xfrm>
            <a:off x="2494080" y="4208040"/>
            <a:ext cx="334080" cy="37548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453" name=""/>
          <p:cNvSpPr/>
          <p:nvPr/>
        </p:nvSpPr>
        <p:spPr>
          <a:xfrm>
            <a:off x="284040" y="3540240"/>
            <a:ext cx="184176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o świadczenie usług dystrybucyjnych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2" idx="2"/>
            <a:endCxn id="454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56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07B3-E498-4719-99E0-41E47BD16E8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Sprzedawca (URB) - Dystrybutor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97" name=""/>
          <p:cNvCxnSpPr>
            <a:stCxn id="496" idx="1"/>
            <a:endCxn id="498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99" name=""/>
          <p:cNvSpPr/>
          <p:nvPr/>
        </p:nvSpPr>
        <p:spPr>
          <a:xfrm>
            <a:off x="4552920" y="331632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Generalna umowa dystrybucji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5430960" y="397368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dystrybucyjna (bilansująca)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92080" y="405144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Arial"/>
              </a:rPr>
              <a:t>Sprzedawc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382720" y="4724280"/>
            <a:ext cx="45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Arial"/>
              </a:rPr>
              <a:t>URB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05" name=""/>
          <p:cNvCxnSpPr>
            <a:stCxn id="504" idx="4"/>
            <a:endCxn id="503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06" name=""/>
          <p:cNvSpPr/>
          <p:nvPr/>
        </p:nvSpPr>
        <p:spPr>
          <a:xfrm>
            <a:off x="2505240" y="4192560"/>
            <a:ext cx="1955520" cy="379440"/>
          </a:xfrm>
          <a:prstGeom prst="line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30440" y="4057560"/>
            <a:ext cx="1955880" cy="379440"/>
          </a:xfrm>
          <a:prstGeom prst="line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F94E-7BD6-4BE8-AD0A-27C33F00C35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SP – umowy przesyłowe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57840" y="1325520"/>
            <a:ext cx="3322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P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Przesyłow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49" name=""/>
          <p:cNvCxnSpPr>
            <a:stCxn id="548" idx="1"/>
            <a:endCxn id="547" idx="0"/>
          </p:cNvCxnSpPr>
          <p:nvPr/>
        </p:nvCxnSpPr>
        <p:spPr>
          <a:xfrm flipV="1" rot="10800000">
            <a:off x="4307760" y="1596600"/>
            <a:ext cx="1450080" cy="14040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50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1" name=""/>
          <p:cNvCxnSpPr>
            <a:stCxn id="550" idx="1"/>
            <a:endCxn id="552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553" name=""/>
          <p:cNvCxnSpPr>
            <a:stCxn id="552" idx="7"/>
            <a:endCxn id="547" idx="3"/>
          </p:cNvCxnSpPr>
          <p:nvPr/>
        </p:nvCxnSpPr>
        <p:spPr>
          <a:xfrm flipV="1">
            <a:off x="2494080" y="3243960"/>
            <a:ext cx="1713600" cy="7628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554" name=""/>
          <p:cNvSpPr/>
          <p:nvPr/>
        </p:nvSpPr>
        <p:spPr>
          <a:xfrm>
            <a:off x="2238480" y="240660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przesyłowa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5" name=""/>
          <p:cNvCxnSpPr>
            <a:stCxn id="556" idx="0"/>
            <a:endCxn id="547" idx="4"/>
          </p:cNvCxnSpPr>
          <p:nvPr/>
        </p:nvCxnSpPr>
        <p:spPr>
          <a:xfrm flipH="1" flipV="1">
            <a:off x="4308120" y="3287160"/>
            <a:ext cx="280080" cy="11228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557" name=""/>
          <p:cNvSpPr/>
          <p:nvPr/>
        </p:nvSpPr>
        <p:spPr>
          <a:xfrm>
            <a:off x="4759200" y="3279600"/>
            <a:ext cx="1841760" cy="97344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przesyłowa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559" name=""/>
          <p:cNvCxnSpPr>
            <a:stCxn id="556" idx="4"/>
            <a:endCxn id="558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560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A8E3-929E-47CA-B95D-65F7CE24830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Mo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 by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ć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 równie</a:t>
            </a:r>
            <a:r>
              <a:rPr b="1" lang="en-US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ż</a:t>
            </a: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  <a:ea typeface="Arial"/>
              </a:rPr>
              <a:t>..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np. elektrownia, dystrybutor, ...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00" name=""/>
          <p:cNvCxnSpPr>
            <a:stCxn id="601" idx="4"/>
            <a:endCxn id="599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602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3236760" y="4651200"/>
            <a:ext cx="28764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638680" y="5859360"/>
            <a:ext cx="350532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05" name=""/>
          <p:cNvCxnSpPr>
            <a:stCxn id="603" idx="4"/>
            <a:endCxn id="604" idx="1"/>
          </p:cNvCxnSpPr>
          <p:nvPr/>
        </p:nvCxnSpPr>
        <p:spPr>
          <a:xfrm flipH="1" rot="16200000">
            <a:off x="3967920" y="4351680"/>
            <a:ext cx="1084680" cy="22579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606" name=""/>
          <p:cNvCxnSpPr>
            <a:stCxn id="603" idx="6"/>
            <a:endCxn id="601" idx="2"/>
          </p:cNvCxnSpPr>
          <p:nvPr/>
        </p:nvCxnSpPr>
        <p:spPr>
          <a:xfrm flipV="1">
            <a:off x="3524040" y="4553640"/>
            <a:ext cx="919800" cy="24228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607" name=""/>
          <p:cNvSpPr/>
          <p:nvPr/>
        </p:nvSpPr>
        <p:spPr>
          <a:xfrm>
            <a:off x="1330200" y="4981680"/>
            <a:ext cx="184176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o świadczenie usług bilansujących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FADAF-9E66-4F1E-A08B-7775B708A68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Rola OSD, a rola sprzedawcy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47640" y="1765440"/>
            <a:ext cx="3759120" cy="4012920"/>
          </a:xfrm>
          <a:prstGeom prst="bracketPair">
            <a:avLst>
              <a:gd name="adj" fmla="val 6884"/>
            </a:avLst>
          </a:prstGeom>
          <a:solidFill>
            <a:srgbClr val="ffffff">
              <a:alpha val="50000"/>
            </a:srgbClr>
          </a:solidFill>
          <a:ln w="22320">
            <a:solidFill>
              <a:srgbClr val="00a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a8ec"/>
                </a:solidFill>
                <a:latin typeface="Arial"/>
              </a:rPr>
              <a:t>Rola Sprzedawcy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Sprzedawać energię elektryczną odbiorcy końcowemu (URD)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Załatwić u OSD sprawy związane ze zmianą sprzedawcy (czasami potrzebne upoważnienie URD)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Wybrać URB, który będzie odpowiedzialny za bilansowanie URD danego sprzedawcy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724280" y="1752480"/>
            <a:ext cx="3759480" cy="4013280"/>
          </a:xfrm>
          <a:prstGeom prst="bracketPair">
            <a:avLst>
              <a:gd name="adj" fmla="val 6884"/>
            </a:avLst>
          </a:prstGeom>
          <a:solidFill>
            <a:srgbClr val="ffffff">
              <a:alpha val="50000"/>
            </a:srgbClr>
          </a:solidFill>
          <a:ln w="22320">
            <a:solidFill>
              <a:srgbClr val="00a8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a8ec"/>
                </a:solidFill>
                <a:latin typeface="Arial"/>
              </a:rPr>
              <a:t>Rola OSD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Realizować fizyczne dostawy energii elektrycznej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Zapewnić odpowiednią jakość dostarczanej energii elektrycznej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marL="355680" indent="-355680">
              <a:spcBef>
                <a:spcPts val="1001"/>
              </a:spcBef>
              <a:buClr>
                <a:srgbClr val="00a8ec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konywać pomiarów zużycia energii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613" name=""/>
          <p:cNvCxnSpPr>
            <a:stCxn id="611" idx="0"/>
            <a:endCxn id="612" idx="0"/>
          </p:cNvCxnSpPr>
          <p:nvPr/>
        </p:nvCxnSpPr>
        <p:spPr>
          <a:xfrm flipH="1" flipV="1" rot="5400000">
            <a:off x="4558680" y="-290880"/>
            <a:ext cx="13680" cy="4077360"/>
          </a:xfrm>
          <a:prstGeom prst="bentConnector3">
            <a:avLst>
              <a:gd name="adj1" fmla="val 4710810"/>
            </a:avLst>
          </a:prstGeom>
          <a:ln w="50760">
            <a:solidFill>
              <a:srgbClr val="324496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0FA3-67DA-4FA0-8DE6-92FE97ED540D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4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615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643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659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16F58-2CA5-460E-B149-7005F095255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122400" y="114480"/>
            <a:ext cx="8534160" cy="44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Podsumowanie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231560" y="826560"/>
            <a:ext cx="7196040" cy="454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720" indent="-288720">
              <a:spcBef>
                <a:spcPts val="1349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324496"/>
                </a:solidFill>
                <a:latin typeface="Arial"/>
              </a:rPr>
              <a:t>Electrabel Polska skutecznym partnerem dla odbiorców końcowych w Polsce:</a:t>
            </a:r>
            <a:endParaRPr b="0" lang="en-US" sz="18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7 lat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świadczeń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na rynku TPA w Polsce, współpraca z wieloma spółkami dystrybucyjnymi i PSE-Operator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Referencje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w Polsce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Własne źródło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energii elektrycznej, konwencjonalnej i „zielonej”: 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1800 MW elektrownia w Połańcu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Wieloletnie i różnorodne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doświadczenia europejskie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Nowoczesny i stale rozwijający się portfel produktów i usług energetycznych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2" marL="1131480" indent="-276480">
              <a:spcBef>
                <a:spcPts val="1049"/>
              </a:spcBef>
              <a:buClr>
                <a:srgbClr val="00a8e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Doświadczenia we współpracy z miastami, gminami oraz klientami międzynarodowymi i brokerami, także w ramach przetargów międzynarodowych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lvl="1" marL="666360" indent="-188280">
              <a:spcBef>
                <a:spcPts val="1199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Internetowa </a:t>
            </a:r>
            <a:r>
              <a:rPr b="1" lang="pl-PL" sz="1600" spc="-1" strike="noStrike">
                <a:solidFill>
                  <a:srgbClr val="324496"/>
                </a:solidFill>
                <a:latin typeface="Arial"/>
              </a:rPr>
              <a:t>Platforma Wymiany Informacji</a:t>
            </a:r>
            <a:r>
              <a:rPr b="0" lang="pl-PL" sz="1600" spc="-1" strike="noStrike">
                <a:solidFill>
                  <a:srgbClr val="324496"/>
                </a:solidFill>
                <a:latin typeface="Arial"/>
              </a:rPr>
              <a:t> z klientami</a:t>
            </a:r>
            <a:endParaRPr b="0" lang="en-US" sz="16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AF39B-6A9D-4B36-8314-6DDD39319B22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2" name=""/>
          <p:cNvGrpSpPr/>
          <p:nvPr/>
        </p:nvGrpSpPr>
        <p:grpSpPr>
          <a:xfrm>
            <a:off x="0" y="0"/>
            <a:ext cx="9144000" cy="6859440"/>
            <a:chOff x="0" y="0"/>
            <a:chExt cx="9144000" cy="6859440"/>
          </a:xfrm>
        </p:grpSpPr>
        <p:pic>
          <p:nvPicPr>
            <p:cNvPr id="663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59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" name="" descr=""/>
            <p:cNvPicPr/>
            <p:nvPr/>
          </p:nvPicPr>
          <p:blipFill>
            <a:blip r:embed="rId3"/>
            <a:stretch/>
          </p:blipFill>
          <p:spPr>
            <a:xfrm>
              <a:off x="4560840" y="3936960"/>
              <a:ext cx="4583160" cy="2129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" name=""/>
          <p:cNvSpPr/>
          <p:nvPr/>
        </p:nvSpPr>
        <p:spPr>
          <a:xfrm>
            <a:off x="120960" y="6235560"/>
            <a:ext cx="17960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00a8ec"/>
                </a:solidFill>
                <a:latin typeface="Arial"/>
              </a:rPr>
              <a:t>Prezentacja: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Jacek Weigel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  <a:p>
            <a:pPr>
              <a:spcBef>
                <a:spcPts val="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Marketing Communication Manager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E8AF-C71C-4EF4-9DA9-2C23EF32BE88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93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121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137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D80-F927-488E-884F-7F363B2220B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170240" y="2997360"/>
            <a:ext cx="227160" cy="50760"/>
          </a:xfrm>
          <a:custGeom>
            <a:avLst/>
            <a:gdLst/>
            <a:ahLst/>
            <a:rect l="l" t="t" r="r" b="b"/>
            <a:pathLst>
              <a:path w="13" h="3">
                <a:moveTo>
                  <a:pt x="0" y="0"/>
                </a:moveTo>
                <a:lnTo>
                  <a:pt x="8" y="2"/>
                </a:lnTo>
                <a:lnTo>
                  <a:pt x="8" y="3"/>
                </a:lnTo>
                <a:lnTo>
                  <a:pt x="12" y="3"/>
                </a:lnTo>
                <a:lnTo>
                  <a:pt x="13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43320" y="1622520"/>
            <a:ext cx="69840" cy="122040"/>
          </a:xfrm>
          <a:custGeom>
            <a:avLst/>
            <a:gdLst/>
            <a:ahLst/>
            <a:rect l="l" t="t" r="r" b="b"/>
            <a:pathLst>
              <a:path w="4" h="7">
                <a:moveTo>
                  <a:pt x="4" y="0"/>
                </a:moveTo>
                <a:lnTo>
                  <a:pt x="4" y="4"/>
                </a:lnTo>
                <a:lnTo>
                  <a:pt x="1" y="7"/>
                </a:lnTo>
                <a:lnTo>
                  <a:pt x="0" y="6"/>
                </a:lnTo>
                <a:lnTo>
                  <a:pt x="2" y="4"/>
                </a:lnTo>
                <a:lnTo>
                  <a:pt x="2" y="2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308400" y="1622520"/>
            <a:ext cx="52200" cy="50760"/>
          </a:xfrm>
          <a:custGeom>
            <a:avLst/>
            <a:gdLst/>
            <a:ahLst/>
            <a:rect l="l" t="t" r="r" b="b"/>
            <a:pathLst>
              <a:path w="3" h="3">
                <a:moveTo>
                  <a:pt x="2" y="0"/>
                </a:moveTo>
                <a:lnTo>
                  <a:pt x="0" y="2"/>
                </a:lnTo>
                <a:lnTo>
                  <a:pt x="0" y="3"/>
                </a:lnTo>
                <a:lnTo>
                  <a:pt x="2" y="2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95520" y="1482840"/>
            <a:ext cx="106560" cy="87120"/>
          </a:xfrm>
          <a:custGeom>
            <a:avLst/>
            <a:gdLst/>
            <a:ahLst/>
            <a:rect l="l" t="t" r="r" b="b"/>
            <a:pathLst>
              <a:path w="6" h="5">
                <a:moveTo>
                  <a:pt x="1" y="1"/>
                </a:moveTo>
                <a:lnTo>
                  <a:pt x="0" y="3"/>
                </a:lnTo>
                <a:lnTo>
                  <a:pt x="0" y="5"/>
                </a:lnTo>
                <a:lnTo>
                  <a:pt x="4" y="5"/>
                </a:lnTo>
                <a:lnTo>
                  <a:pt x="6" y="3"/>
                </a:lnTo>
                <a:lnTo>
                  <a:pt x="4" y="1"/>
                </a:lnTo>
                <a:lnTo>
                  <a:pt x="2" y="0"/>
                </a:lnTo>
                <a:lnTo>
                  <a:pt x="1" y="1"/>
                </a:lnTo>
                <a:lnTo>
                  <a:pt x="1" y="1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01960" y="1569960"/>
            <a:ext cx="33480" cy="69840"/>
          </a:xfrm>
          <a:custGeom>
            <a:avLst/>
            <a:gdLst/>
            <a:ahLst/>
            <a:rect l="l" t="t" r="r" b="b"/>
            <a:pathLst>
              <a:path w="2" h="4">
                <a:moveTo>
                  <a:pt x="1" y="0"/>
                </a:moveTo>
                <a:lnTo>
                  <a:pt x="0" y="1"/>
                </a:lnTo>
                <a:lnTo>
                  <a:pt x="0" y="3"/>
                </a:lnTo>
                <a:lnTo>
                  <a:pt x="1" y="4"/>
                </a:lnTo>
                <a:lnTo>
                  <a:pt x="2" y="2"/>
                </a:lnTo>
                <a:lnTo>
                  <a:pt x="2" y="1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89120" y="4962600"/>
            <a:ext cx="87480" cy="50760"/>
          </a:xfrm>
          <a:custGeom>
            <a:avLst/>
            <a:gdLst/>
            <a:ahLst/>
            <a:rect l="l" t="t" r="r" b="b"/>
            <a:pathLst>
              <a:path w="5" h="3">
                <a:moveTo>
                  <a:pt x="2" y="0"/>
                </a:moveTo>
                <a:lnTo>
                  <a:pt x="0" y="1"/>
                </a:lnTo>
                <a:lnTo>
                  <a:pt x="3" y="3"/>
                </a:lnTo>
                <a:lnTo>
                  <a:pt x="5" y="2"/>
                </a:lnTo>
                <a:lnTo>
                  <a:pt x="3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5040" bIns="5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11520" y="4840200"/>
            <a:ext cx="122040" cy="122400"/>
          </a:xfrm>
          <a:custGeom>
            <a:avLst/>
            <a:gdLst/>
            <a:ahLst/>
            <a:rect l="l" t="t" r="r" b="b"/>
            <a:pathLst>
              <a:path w="7" h="7">
                <a:moveTo>
                  <a:pt x="0" y="1"/>
                </a:moveTo>
                <a:lnTo>
                  <a:pt x="0" y="4"/>
                </a:lnTo>
                <a:lnTo>
                  <a:pt x="4" y="7"/>
                </a:lnTo>
                <a:lnTo>
                  <a:pt x="7" y="3"/>
                </a:lnTo>
                <a:lnTo>
                  <a:pt x="3" y="0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395520" y="4995720"/>
            <a:ext cx="335160" cy="435240"/>
          </a:xfrm>
          <a:custGeom>
            <a:avLst/>
            <a:gdLst/>
            <a:ahLst/>
            <a:rect l="l" t="t" r="r" b="b"/>
            <a:pathLst>
              <a:path w="19" h="25">
                <a:moveTo>
                  <a:pt x="6" y="3"/>
                </a:moveTo>
                <a:lnTo>
                  <a:pt x="6" y="11"/>
                </a:lnTo>
                <a:lnTo>
                  <a:pt x="0" y="18"/>
                </a:lnTo>
                <a:lnTo>
                  <a:pt x="1" y="21"/>
                </a:lnTo>
                <a:lnTo>
                  <a:pt x="4" y="25"/>
                </a:lnTo>
                <a:lnTo>
                  <a:pt x="6" y="21"/>
                </a:lnTo>
                <a:lnTo>
                  <a:pt x="10" y="24"/>
                </a:lnTo>
                <a:lnTo>
                  <a:pt x="13" y="17"/>
                </a:lnTo>
                <a:lnTo>
                  <a:pt x="13" y="14"/>
                </a:lnTo>
                <a:lnTo>
                  <a:pt x="19" y="10"/>
                </a:lnTo>
                <a:lnTo>
                  <a:pt x="18" y="1"/>
                </a:lnTo>
                <a:lnTo>
                  <a:pt x="12" y="4"/>
                </a:lnTo>
                <a:lnTo>
                  <a:pt x="8" y="0"/>
                </a:lnTo>
                <a:lnTo>
                  <a:pt x="6" y="3"/>
                </a:lnTo>
                <a:lnTo>
                  <a:pt x="6" y="3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25920" y="4718160"/>
            <a:ext cx="209520" cy="261720"/>
          </a:xfrm>
          <a:custGeom>
            <a:avLst/>
            <a:gdLst/>
            <a:ahLst/>
            <a:rect l="l" t="t" r="r" b="b"/>
            <a:pathLst>
              <a:path w="12" h="15">
                <a:moveTo>
                  <a:pt x="2" y="4"/>
                </a:moveTo>
                <a:lnTo>
                  <a:pt x="0" y="11"/>
                </a:lnTo>
                <a:lnTo>
                  <a:pt x="2" y="15"/>
                </a:lnTo>
                <a:lnTo>
                  <a:pt x="5" y="15"/>
                </a:lnTo>
                <a:lnTo>
                  <a:pt x="9" y="7"/>
                </a:lnTo>
                <a:lnTo>
                  <a:pt x="12" y="4"/>
                </a:lnTo>
                <a:lnTo>
                  <a:pt x="12" y="0"/>
                </a:lnTo>
                <a:lnTo>
                  <a:pt x="9" y="2"/>
                </a:lnTo>
                <a:lnTo>
                  <a:pt x="6" y="1"/>
                </a:lnTo>
                <a:lnTo>
                  <a:pt x="5" y="4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852720" y="5675400"/>
            <a:ext cx="473040" cy="433440"/>
          </a:xfrm>
          <a:custGeom>
            <a:avLst/>
            <a:gdLst/>
            <a:ahLst/>
            <a:rect l="l" t="t" r="r" b="b"/>
            <a:pathLst>
              <a:path w="27" h="25">
                <a:moveTo>
                  <a:pt x="4" y="0"/>
                </a:moveTo>
                <a:lnTo>
                  <a:pt x="0" y="4"/>
                </a:lnTo>
                <a:lnTo>
                  <a:pt x="1" y="9"/>
                </a:lnTo>
                <a:lnTo>
                  <a:pt x="11" y="15"/>
                </a:lnTo>
                <a:lnTo>
                  <a:pt x="12" y="21"/>
                </a:lnTo>
                <a:lnTo>
                  <a:pt x="16" y="25"/>
                </a:lnTo>
                <a:lnTo>
                  <a:pt x="19" y="19"/>
                </a:lnTo>
                <a:lnTo>
                  <a:pt x="18" y="16"/>
                </a:lnTo>
                <a:lnTo>
                  <a:pt x="22" y="15"/>
                </a:lnTo>
                <a:lnTo>
                  <a:pt x="27" y="10"/>
                </a:lnTo>
                <a:lnTo>
                  <a:pt x="23" y="8"/>
                </a:lnTo>
                <a:lnTo>
                  <a:pt x="18" y="10"/>
                </a:lnTo>
                <a:lnTo>
                  <a:pt x="13" y="8"/>
                </a:lnTo>
                <a:lnTo>
                  <a:pt x="10" y="1"/>
                </a:lnTo>
                <a:lnTo>
                  <a:pt x="6" y="2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433840" y="5986440"/>
            <a:ext cx="314640" cy="33192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0"/>
                </a:moveTo>
                <a:lnTo>
                  <a:pt x="4" y="7"/>
                </a:lnTo>
                <a:lnTo>
                  <a:pt x="4" y="10"/>
                </a:lnTo>
                <a:lnTo>
                  <a:pt x="18" y="19"/>
                </a:lnTo>
                <a:lnTo>
                  <a:pt x="16" y="17"/>
                </a:lnTo>
                <a:lnTo>
                  <a:pt x="8" y="10"/>
                </a:lnTo>
                <a:lnTo>
                  <a:pt x="7" y="5"/>
                </a:lnTo>
                <a:lnTo>
                  <a:pt x="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65680" y="2595600"/>
            <a:ext cx="87480" cy="87120"/>
          </a:xfrm>
          <a:custGeom>
            <a:avLst/>
            <a:gdLst/>
            <a:ahLst/>
            <a:rect l="l" t="t" r="r" b="b"/>
            <a:pathLst>
              <a:path w="5" h="5">
                <a:moveTo>
                  <a:pt x="2" y="0"/>
                </a:moveTo>
                <a:lnTo>
                  <a:pt x="1" y="2"/>
                </a:lnTo>
                <a:lnTo>
                  <a:pt x="0" y="5"/>
                </a:lnTo>
                <a:lnTo>
                  <a:pt x="5" y="5"/>
                </a:lnTo>
                <a:lnTo>
                  <a:pt x="4" y="1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643280" y="2735280"/>
            <a:ext cx="88920" cy="87120"/>
          </a:xfrm>
          <a:custGeom>
            <a:avLst/>
            <a:gdLst/>
            <a:ahLst/>
            <a:rect l="l" t="t" r="r" b="b"/>
            <a:pathLst>
              <a:path w="5" h="5">
                <a:moveTo>
                  <a:pt x="0" y="4"/>
                </a:moveTo>
                <a:lnTo>
                  <a:pt x="2" y="5"/>
                </a:lnTo>
                <a:lnTo>
                  <a:pt x="5" y="2"/>
                </a:lnTo>
                <a:lnTo>
                  <a:pt x="4" y="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82960" y="2768760"/>
            <a:ext cx="106560" cy="88920"/>
          </a:xfrm>
          <a:custGeom>
            <a:avLst/>
            <a:gdLst/>
            <a:ahLst/>
            <a:rect l="l" t="t" r="r" b="b"/>
            <a:pathLst>
              <a:path w="6" h="5">
                <a:moveTo>
                  <a:pt x="2" y="0"/>
                </a:moveTo>
                <a:lnTo>
                  <a:pt x="0" y="3"/>
                </a:lnTo>
                <a:lnTo>
                  <a:pt x="1" y="5"/>
                </a:lnTo>
                <a:lnTo>
                  <a:pt x="4" y="4"/>
                </a:lnTo>
                <a:lnTo>
                  <a:pt x="6" y="3"/>
                </a:lnTo>
                <a:lnTo>
                  <a:pt x="6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3440" y="2352600"/>
            <a:ext cx="227160" cy="69840"/>
          </a:xfrm>
          <a:custGeom>
            <a:avLst/>
            <a:gdLst/>
            <a:ahLst/>
            <a:rect l="l" t="t" r="r" b="b"/>
            <a:pathLst>
              <a:path w="13" h="4">
                <a:moveTo>
                  <a:pt x="11" y="4"/>
                </a:moveTo>
                <a:lnTo>
                  <a:pt x="10" y="3"/>
                </a:lnTo>
                <a:lnTo>
                  <a:pt x="4" y="4"/>
                </a:lnTo>
                <a:lnTo>
                  <a:pt x="0" y="4"/>
                </a:lnTo>
                <a:lnTo>
                  <a:pt x="2" y="2"/>
                </a:lnTo>
                <a:lnTo>
                  <a:pt x="9" y="0"/>
                </a:lnTo>
                <a:lnTo>
                  <a:pt x="13" y="1"/>
                </a:lnTo>
                <a:lnTo>
                  <a:pt x="11" y="4"/>
                </a:lnTo>
                <a:lnTo>
                  <a:pt x="11" y="4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118120" y="2874960"/>
            <a:ext cx="87120" cy="50760"/>
          </a:xfrm>
          <a:custGeom>
            <a:avLst/>
            <a:gdLst/>
            <a:ahLst/>
            <a:rect l="l" t="t" r="r" b="b"/>
            <a:pathLst>
              <a:path w="5" h="3">
                <a:moveTo>
                  <a:pt x="1" y="0"/>
                </a:moveTo>
                <a:lnTo>
                  <a:pt x="0" y="2"/>
                </a:lnTo>
                <a:lnTo>
                  <a:pt x="1" y="3"/>
                </a:lnTo>
                <a:lnTo>
                  <a:pt x="5" y="2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45280" y="2700360"/>
            <a:ext cx="52200" cy="104760"/>
          </a:xfrm>
          <a:custGeom>
            <a:avLst/>
            <a:gdLst/>
            <a:ahLst/>
            <a:rect l="l" t="t" r="r" b="b"/>
            <a:pathLst>
              <a:path w="3" h="6">
                <a:moveTo>
                  <a:pt x="2" y="0"/>
                </a:moveTo>
                <a:lnTo>
                  <a:pt x="0" y="2"/>
                </a:lnTo>
                <a:lnTo>
                  <a:pt x="0" y="6"/>
                </a:lnTo>
                <a:lnTo>
                  <a:pt x="2" y="6"/>
                </a:lnTo>
                <a:lnTo>
                  <a:pt x="3" y="1"/>
                </a:lnTo>
                <a:lnTo>
                  <a:pt x="3" y="0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68760" y="2595600"/>
            <a:ext cx="123840" cy="139680"/>
          </a:xfrm>
          <a:custGeom>
            <a:avLst/>
            <a:gdLst/>
            <a:ahLst/>
            <a:rect l="l" t="t" r="r" b="b"/>
            <a:pathLst>
              <a:path w="7" h="8">
                <a:moveTo>
                  <a:pt x="4" y="0"/>
                </a:moveTo>
                <a:lnTo>
                  <a:pt x="2" y="4"/>
                </a:lnTo>
                <a:lnTo>
                  <a:pt x="0" y="8"/>
                </a:lnTo>
                <a:lnTo>
                  <a:pt x="1" y="8"/>
                </a:lnTo>
                <a:lnTo>
                  <a:pt x="4" y="6"/>
                </a:lnTo>
                <a:lnTo>
                  <a:pt x="4" y="3"/>
                </a:lnTo>
                <a:lnTo>
                  <a:pt x="7" y="2"/>
                </a:lnTo>
                <a:lnTo>
                  <a:pt x="7" y="1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872320" y="2543040"/>
            <a:ext cx="52200" cy="71640"/>
          </a:xfrm>
          <a:custGeom>
            <a:avLst/>
            <a:gdLst/>
            <a:ahLst/>
            <a:rect l="l" t="t" r="r" b="b"/>
            <a:pathLst>
              <a:path w="3" h="4">
                <a:moveTo>
                  <a:pt x="1" y="0"/>
                </a:moveTo>
                <a:lnTo>
                  <a:pt x="0" y="2"/>
                </a:lnTo>
                <a:lnTo>
                  <a:pt x="0" y="4"/>
                </a:lnTo>
                <a:lnTo>
                  <a:pt x="3" y="4"/>
                </a:lnTo>
                <a:lnTo>
                  <a:pt x="3" y="2"/>
                </a:lnTo>
                <a:lnTo>
                  <a:pt x="3" y="0"/>
                </a:lnTo>
                <a:lnTo>
                  <a:pt x="1" y="0"/>
                </a:lnTo>
                <a:lnTo>
                  <a:pt x="1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75040" y="1987560"/>
            <a:ext cx="299880" cy="262080"/>
          </a:xfrm>
          <a:custGeom>
            <a:avLst/>
            <a:gdLst/>
            <a:ahLst/>
            <a:rect l="l" t="t" r="r" b="b"/>
            <a:pathLst>
              <a:path w="17" h="15">
                <a:moveTo>
                  <a:pt x="12" y="0"/>
                </a:moveTo>
                <a:lnTo>
                  <a:pt x="4" y="2"/>
                </a:lnTo>
                <a:lnTo>
                  <a:pt x="0" y="6"/>
                </a:lnTo>
                <a:lnTo>
                  <a:pt x="1" y="9"/>
                </a:lnTo>
                <a:lnTo>
                  <a:pt x="4" y="9"/>
                </a:lnTo>
                <a:lnTo>
                  <a:pt x="8" y="15"/>
                </a:lnTo>
                <a:lnTo>
                  <a:pt x="9" y="15"/>
                </a:lnTo>
                <a:lnTo>
                  <a:pt x="16" y="12"/>
                </a:lnTo>
                <a:lnTo>
                  <a:pt x="17" y="4"/>
                </a:lnTo>
                <a:lnTo>
                  <a:pt x="13" y="2"/>
                </a:lnTo>
                <a:lnTo>
                  <a:pt x="12" y="0"/>
                </a:lnTo>
                <a:lnTo>
                  <a:pt x="12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71840" y="1952640"/>
            <a:ext cx="614160" cy="573120"/>
          </a:xfrm>
          <a:custGeom>
            <a:avLst/>
            <a:gdLst/>
            <a:ahLst/>
            <a:rect l="l" t="t" r="r" b="b"/>
            <a:pathLst>
              <a:path w="35" h="33">
                <a:moveTo>
                  <a:pt x="35" y="2"/>
                </a:moveTo>
                <a:lnTo>
                  <a:pt x="34" y="0"/>
                </a:lnTo>
                <a:lnTo>
                  <a:pt x="28" y="1"/>
                </a:lnTo>
                <a:lnTo>
                  <a:pt x="24" y="0"/>
                </a:lnTo>
                <a:lnTo>
                  <a:pt x="20" y="0"/>
                </a:lnTo>
                <a:lnTo>
                  <a:pt x="22" y="5"/>
                </a:lnTo>
                <a:lnTo>
                  <a:pt x="17" y="2"/>
                </a:lnTo>
                <a:lnTo>
                  <a:pt x="13" y="3"/>
                </a:lnTo>
                <a:lnTo>
                  <a:pt x="12" y="8"/>
                </a:lnTo>
                <a:lnTo>
                  <a:pt x="9" y="8"/>
                </a:lnTo>
                <a:lnTo>
                  <a:pt x="9" y="11"/>
                </a:lnTo>
                <a:lnTo>
                  <a:pt x="10" y="15"/>
                </a:lnTo>
                <a:lnTo>
                  <a:pt x="0" y="19"/>
                </a:lnTo>
                <a:lnTo>
                  <a:pt x="2" y="26"/>
                </a:lnTo>
                <a:lnTo>
                  <a:pt x="10" y="30"/>
                </a:lnTo>
                <a:lnTo>
                  <a:pt x="18" y="27"/>
                </a:lnTo>
                <a:lnTo>
                  <a:pt x="21" y="33"/>
                </a:lnTo>
                <a:lnTo>
                  <a:pt x="24" y="31"/>
                </a:lnTo>
                <a:lnTo>
                  <a:pt x="26" y="24"/>
                </a:lnTo>
                <a:lnTo>
                  <a:pt x="29" y="22"/>
                </a:lnTo>
                <a:lnTo>
                  <a:pt x="32" y="17"/>
                </a:lnTo>
                <a:lnTo>
                  <a:pt x="31" y="17"/>
                </a:lnTo>
                <a:lnTo>
                  <a:pt x="27" y="11"/>
                </a:lnTo>
                <a:lnTo>
                  <a:pt x="24" y="11"/>
                </a:lnTo>
                <a:lnTo>
                  <a:pt x="23" y="8"/>
                </a:lnTo>
                <a:lnTo>
                  <a:pt x="27" y="4"/>
                </a:lnTo>
                <a:lnTo>
                  <a:pt x="35" y="2"/>
                </a:lnTo>
                <a:lnTo>
                  <a:pt x="35" y="2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27240" y="2386080"/>
            <a:ext cx="333360" cy="331560"/>
          </a:xfrm>
          <a:custGeom>
            <a:avLst/>
            <a:gdLst/>
            <a:ahLst/>
            <a:rect l="l" t="t" r="r" b="b"/>
            <a:pathLst>
              <a:path w="19" h="19">
                <a:moveTo>
                  <a:pt x="19" y="3"/>
                </a:moveTo>
                <a:lnTo>
                  <a:pt x="19" y="9"/>
                </a:lnTo>
                <a:lnTo>
                  <a:pt x="17" y="9"/>
                </a:lnTo>
                <a:lnTo>
                  <a:pt x="17" y="12"/>
                </a:lnTo>
                <a:lnTo>
                  <a:pt x="13" y="15"/>
                </a:lnTo>
                <a:lnTo>
                  <a:pt x="13" y="16"/>
                </a:lnTo>
                <a:lnTo>
                  <a:pt x="7" y="19"/>
                </a:lnTo>
                <a:lnTo>
                  <a:pt x="0" y="14"/>
                </a:lnTo>
                <a:lnTo>
                  <a:pt x="2" y="11"/>
                </a:lnTo>
                <a:lnTo>
                  <a:pt x="6" y="11"/>
                </a:lnTo>
                <a:lnTo>
                  <a:pt x="10" y="5"/>
                </a:lnTo>
                <a:lnTo>
                  <a:pt x="11" y="1"/>
                </a:lnTo>
                <a:lnTo>
                  <a:pt x="13" y="0"/>
                </a:lnTo>
                <a:lnTo>
                  <a:pt x="15" y="3"/>
                </a:lnTo>
                <a:lnTo>
                  <a:pt x="19" y="3"/>
                </a:lnTo>
                <a:lnTo>
                  <a:pt x="19" y="3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886120" y="2178000"/>
            <a:ext cx="844560" cy="836640"/>
          </a:xfrm>
          <a:custGeom>
            <a:avLst/>
            <a:gdLst/>
            <a:ahLst/>
            <a:rect l="l" t="t" r="r" b="b"/>
            <a:pathLst>
              <a:path w="48" h="48">
                <a:moveTo>
                  <a:pt x="29" y="10"/>
                </a:moveTo>
                <a:lnTo>
                  <a:pt x="32" y="9"/>
                </a:lnTo>
                <a:lnTo>
                  <a:pt x="35" y="5"/>
                </a:lnTo>
                <a:lnTo>
                  <a:pt x="41" y="3"/>
                </a:lnTo>
                <a:lnTo>
                  <a:pt x="43" y="1"/>
                </a:lnTo>
                <a:lnTo>
                  <a:pt x="44" y="0"/>
                </a:lnTo>
                <a:lnTo>
                  <a:pt x="45" y="2"/>
                </a:lnTo>
                <a:lnTo>
                  <a:pt x="41" y="8"/>
                </a:lnTo>
                <a:lnTo>
                  <a:pt x="45" y="9"/>
                </a:lnTo>
                <a:lnTo>
                  <a:pt x="46" y="13"/>
                </a:lnTo>
                <a:lnTo>
                  <a:pt x="43" y="17"/>
                </a:lnTo>
                <a:lnTo>
                  <a:pt x="42" y="25"/>
                </a:lnTo>
                <a:lnTo>
                  <a:pt x="46" y="28"/>
                </a:lnTo>
                <a:lnTo>
                  <a:pt x="48" y="35"/>
                </a:lnTo>
                <a:lnTo>
                  <a:pt x="45" y="40"/>
                </a:lnTo>
                <a:lnTo>
                  <a:pt x="38" y="41"/>
                </a:lnTo>
                <a:lnTo>
                  <a:pt x="40" y="46"/>
                </a:lnTo>
                <a:lnTo>
                  <a:pt x="37" y="48"/>
                </a:lnTo>
                <a:lnTo>
                  <a:pt x="31" y="47"/>
                </a:lnTo>
                <a:lnTo>
                  <a:pt x="29" y="45"/>
                </a:lnTo>
                <a:lnTo>
                  <a:pt x="27" y="46"/>
                </a:lnTo>
                <a:lnTo>
                  <a:pt x="19" y="43"/>
                </a:lnTo>
                <a:lnTo>
                  <a:pt x="17" y="40"/>
                </a:lnTo>
                <a:lnTo>
                  <a:pt x="6" y="39"/>
                </a:lnTo>
                <a:lnTo>
                  <a:pt x="0" y="35"/>
                </a:lnTo>
                <a:lnTo>
                  <a:pt x="1" y="34"/>
                </a:lnTo>
                <a:lnTo>
                  <a:pt x="4" y="34"/>
                </a:lnTo>
                <a:lnTo>
                  <a:pt x="8" y="31"/>
                </a:lnTo>
                <a:lnTo>
                  <a:pt x="15" y="31"/>
                </a:lnTo>
                <a:lnTo>
                  <a:pt x="21" y="28"/>
                </a:lnTo>
                <a:lnTo>
                  <a:pt x="21" y="27"/>
                </a:lnTo>
                <a:lnTo>
                  <a:pt x="25" y="24"/>
                </a:lnTo>
                <a:lnTo>
                  <a:pt x="25" y="21"/>
                </a:lnTo>
                <a:lnTo>
                  <a:pt x="28" y="21"/>
                </a:lnTo>
                <a:lnTo>
                  <a:pt x="27" y="15"/>
                </a:lnTo>
                <a:lnTo>
                  <a:pt x="29" y="10"/>
                </a:lnTo>
                <a:lnTo>
                  <a:pt x="29" y="1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25680" y="1552680"/>
            <a:ext cx="420840" cy="799920"/>
          </a:xfrm>
          <a:custGeom>
            <a:avLst/>
            <a:gdLst/>
            <a:ahLst/>
            <a:rect l="l" t="t" r="r" b="b"/>
            <a:pathLst>
              <a:path w="24" h="46">
                <a:moveTo>
                  <a:pt x="4" y="46"/>
                </a:moveTo>
                <a:lnTo>
                  <a:pt x="4" y="40"/>
                </a:lnTo>
                <a:lnTo>
                  <a:pt x="7" y="36"/>
                </a:lnTo>
                <a:lnTo>
                  <a:pt x="2" y="37"/>
                </a:lnTo>
                <a:lnTo>
                  <a:pt x="0" y="32"/>
                </a:lnTo>
                <a:lnTo>
                  <a:pt x="2" y="26"/>
                </a:lnTo>
                <a:lnTo>
                  <a:pt x="2" y="20"/>
                </a:lnTo>
                <a:lnTo>
                  <a:pt x="0" y="20"/>
                </a:lnTo>
                <a:lnTo>
                  <a:pt x="1" y="16"/>
                </a:lnTo>
                <a:lnTo>
                  <a:pt x="5" y="13"/>
                </a:lnTo>
                <a:lnTo>
                  <a:pt x="5" y="11"/>
                </a:lnTo>
                <a:lnTo>
                  <a:pt x="9" y="6"/>
                </a:lnTo>
                <a:lnTo>
                  <a:pt x="11" y="6"/>
                </a:lnTo>
                <a:lnTo>
                  <a:pt x="10" y="4"/>
                </a:lnTo>
                <a:lnTo>
                  <a:pt x="14" y="0"/>
                </a:lnTo>
                <a:lnTo>
                  <a:pt x="16" y="0"/>
                </a:lnTo>
                <a:lnTo>
                  <a:pt x="24" y="5"/>
                </a:lnTo>
                <a:lnTo>
                  <a:pt x="22" y="7"/>
                </a:lnTo>
                <a:lnTo>
                  <a:pt x="19" y="7"/>
                </a:lnTo>
                <a:lnTo>
                  <a:pt x="16" y="11"/>
                </a:lnTo>
                <a:lnTo>
                  <a:pt x="19" y="11"/>
                </a:lnTo>
                <a:lnTo>
                  <a:pt x="19" y="13"/>
                </a:lnTo>
                <a:lnTo>
                  <a:pt x="22" y="14"/>
                </a:lnTo>
                <a:lnTo>
                  <a:pt x="24" y="18"/>
                </a:lnTo>
                <a:lnTo>
                  <a:pt x="14" y="28"/>
                </a:lnTo>
                <a:lnTo>
                  <a:pt x="19" y="31"/>
                </a:lnTo>
                <a:lnTo>
                  <a:pt x="20" y="36"/>
                </a:lnTo>
                <a:lnTo>
                  <a:pt x="18" y="37"/>
                </a:lnTo>
                <a:lnTo>
                  <a:pt x="16" y="39"/>
                </a:lnTo>
                <a:lnTo>
                  <a:pt x="10" y="41"/>
                </a:lnTo>
                <a:lnTo>
                  <a:pt x="7" y="45"/>
                </a:lnTo>
                <a:lnTo>
                  <a:pt x="4" y="46"/>
                </a:lnTo>
                <a:lnTo>
                  <a:pt x="4" y="46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42920" y="3692520"/>
            <a:ext cx="808200" cy="868320"/>
          </a:xfrm>
          <a:custGeom>
            <a:avLst/>
            <a:gdLst/>
            <a:ahLst/>
            <a:rect l="l" t="t" r="r" b="b"/>
            <a:pathLst>
              <a:path w="46" h="50">
                <a:moveTo>
                  <a:pt x="32" y="0"/>
                </a:moveTo>
                <a:lnTo>
                  <a:pt x="27" y="6"/>
                </a:lnTo>
                <a:lnTo>
                  <a:pt x="24" y="15"/>
                </a:lnTo>
                <a:lnTo>
                  <a:pt x="4" y="27"/>
                </a:lnTo>
                <a:lnTo>
                  <a:pt x="6" y="36"/>
                </a:lnTo>
                <a:lnTo>
                  <a:pt x="0" y="44"/>
                </a:lnTo>
                <a:lnTo>
                  <a:pt x="3" y="49"/>
                </a:lnTo>
                <a:lnTo>
                  <a:pt x="15" y="50"/>
                </a:lnTo>
                <a:lnTo>
                  <a:pt x="16" y="47"/>
                </a:lnTo>
                <a:lnTo>
                  <a:pt x="20" y="45"/>
                </a:lnTo>
                <a:lnTo>
                  <a:pt x="22" y="42"/>
                </a:lnTo>
                <a:lnTo>
                  <a:pt x="28" y="36"/>
                </a:lnTo>
                <a:lnTo>
                  <a:pt x="28" y="30"/>
                </a:lnTo>
                <a:lnTo>
                  <a:pt x="34" y="27"/>
                </a:lnTo>
                <a:lnTo>
                  <a:pt x="36" y="23"/>
                </a:lnTo>
                <a:lnTo>
                  <a:pt x="46" y="18"/>
                </a:lnTo>
                <a:lnTo>
                  <a:pt x="45" y="9"/>
                </a:lnTo>
                <a:lnTo>
                  <a:pt x="40" y="9"/>
                </a:lnTo>
                <a:lnTo>
                  <a:pt x="35" y="5"/>
                </a:lnTo>
                <a:lnTo>
                  <a:pt x="37" y="4"/>
                </a:lnTo>
                <a:lnTo>
                  <a:pt x="38" y="3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287360" y="3552840"/>
            <a:ext cx="1704960" cy="1512720"/>
          </a:xfrm>
          <a:custGeom>
            <a:avLst/>
            <a:gdLst/>
            <a:ahLst/>
            <a:rect l="l" t="t" r="r" b="b"/>
            <a:pathLst>
              <a:path w="97" h="87">
                <a:moveTo>
                  <a:pt x="72" y="28"/>
                </a:moveTo>
                <a:lnTo>
                  <a:pt x="75" y="30"/>
                </a:lnTo>
                <a:lnTo>
                  <a:pt x="76" y="34"/>
                </a:lnTo>
                <a:lnTo>
                  <a:pt x="79" y="38"/>
                </a:lnTo>
                <a:lnTo>
                  <a:pt x="83" y="39"/>
                </a:lnTo>
                <a:lnTo>
                  <a:pt x="83" y="42"/>
                </a:lnTo>
                <a:lnTo>
                  <a:pt x="88" y="46"/>
                </a:lnTo>
                <a:lnTo>
                  <a:pt x="91" y="52"/>
                </a:lnTo>
                <a:lnTo>
                  <a:pt x="97" y="55"/>
                </a:lnTo>
                <a:lnTo>
                  <a:pt x="97" y="58"/>
                </a:lnTo>
                <a:lnTo>
                  <a:pt x="94" y="60"/>
                </a:lnTo>
                <a:lnTo>
                  <a:pt x="74" y="62"/>
                </a:lnTo>
                <a:lnTo>
                  <a:pt x="58" y="72"/>
                </a:lnTo>
                <a:lnTo>
                  <a:pt x="60" y="79"/>
                </a:lnTo>
                <a:lnTo>
                  <a:pt x="56" y="78"/>
                </a:lnTo>
                <a:lnTo>
                  <a:pt x="48" y="83"/>
                </a:lnTo>
                <a:lnTo>
                  <a:pt x="38" y="82"/>
                </a:lnTo>
                <a:lnTo>
                  <a:pt x="34" y="86"/>
                </a:lnTo>
                <a:lnTo>
                  <a:pt x="27" y="87"/>
                </a:lnTo>
                <a:lnTo>
                  <a:pt x="16" y="77"/>
                </a:lnTo>
                <a:lnTo>
                  <a:pt x="0" y="76"/>
                </a:lnTo>
                <a:lnTo>
                  <a:pt x="2" y="65"/>
                </a:lnTo>
                <a:lnTo>
                  <a:pt x="1" y="58"/>
                </a:lnTo>
                <a:lnTo>
                  <a:pt x="2" y="55"/>
                </a:lnTo>
                <a:lnTo>
                  <a:pt x="6" y="53"/>
                </a:lnTo>
                <a:lnTo>
                  <a:pt x="8" y="50"/>
                </a:lnTo>
                <a:lnTo>
                  <a:pt x="14" y="43"/>
                </a:lnTo>
                <a:lnTo>
                  <a:pt x="14" y="38"/>
                </a:lnTo>
                <a:lnTo>
                  <a:pt x="20" y="35"/>
                </a:lnTo>
                <a:lnTo>
                  <a:pt x="22" y="31"/>
                </a:lnTo>
                <a:lnTo>
                  <a:pt x="32" y="26"/>
                </a:lnTo>
                <a:lnTo>
                  <a:pt x="31" y="17"/>
                </a:lnTo>
                <a:lnTo>
                  <a:pt x="26" y="17"/>
                </a:lnTo>
                <a:lnTo>
                  <a:pt x="22" y="13"/>
                </a:lnTo>
                <a:lnTo>
                  <a:pt x="24" y="11"/>
                </a:lnTo>
                <a:lnTo>
                  <a:pt x="18" y="8"/>
                </a:lnTo>
                <a:lnTo>
                  <a:pt x="19" y="0"/>
                </a:lnTo>
                <a:lnTo>
                  <a:pt x="23" y="0"/>
                </a:lnTo>
                <a:lnTo>
                  <a:pt x="27" y="2"/>
                </a:lnTo>
                <a:lnTo>
                  <a:pt x="33" y="1"/>
                </a:lnTo>
                <a:lnTo>
                  <a:pt x="50" y="14"/>
                </a:lnTo>
                <a:lnTo>
                  <a:pt x="53" y="14"/>
                </a:lnTo>
                <a:lnTo>
                  <a:pt x="59" y="18"/>
                </a:lnTo>
                <a:lnTo>
                  <a:pt x="60" y="22"/>
                </a:lnTo>
                <a:lnTo>
                  <a:pt x="72" y="28"/>
                </a:lnTo>
                <a:lnTo>
                  <a:pt x="72" y="28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4200" y="3065400"/>
            <a:ext cx="1492200" cy="1513080"/>
          </a:xfrm>
          <a:custGeom>
            <a:avLst/>
            <a:gdLst/>
            <a:ahLst/>
            <a:rect l="l" t="t" r="r" b="b"/>
            <a:pathLst>
              <a:path w="85" h="87">
                <a:moveTo>
                  <a:pt x="0" y="56"/>
                </a:moveTo>
                <a:lnTo>
                  <a:pt x="11" y="47"/>
                </a:lnTo>
                <a:lnTo>
                  <a:pt x="13" y="40"/>
                </a:lnTo>
                <a:lnTo>
                  <a:pt x="16" y="48"/>
                </a:lnTo>
                <a:lnTo>
                  <a:pt x="17" y="48"/>
                </a:lnTo>
                <a:lnTo>
                  <a:pt x="14" y="39"/>
                </a:lnTo>
                <a:lnTo>
                  <a:pt x="16" y="34"/>
                </a:lnTo>
                <a:lnTo>
                  <a:pt x="13" y="25"/>
                </a:lnTo>
                <a:lnTo>
                  <a:pt x="18" y="23"/>
                </a:lnTo>
                <a:lnTo>
                  <a:pt x="18" y="17"/>
                </a:lnTo>
                <a:lnTo>
                  <a:pt x="12" y="10"/>
                </a:lnTo>
                <a:lnTo>
                  <a:pt x="9" y="10"/>
                </a:lnTo>
                <a:lnTo>
                  <a:pt x="6" y="5"/>
                </a:lnTo>
                <a:lnTo>
                  <a:pt x="8" y="4"/>
                </a:lnTo>
                <a:lnTo>
                  <a:pt x="7" y="1"/>
                </a:lnTo>
                <a:lnTo>
                  <a:pt x="10" y="0"/>
                </a:lnTo>
                <a:lnTo>
                  <a:pt x="23" y="4"/>
                </a:lnTo>
                <a:lnTo>
                  <a:pt x="24" y="8"/>
                </a:lnTo>
                <a:lnTo>
                  <a:pt x="27" y="9"/>
                </a:lnTo>
                <a:lnTo>
                  <a:pt x="30" y="2"/>
                </a:lnTo>
                <a:lnTo>
                  <a:pt x="33" y="1"/>
                </a:lnTo>
                <a:lnTo>
                  <a:pt x="34" y="2"/>
                </a:lnTo>
                <a:lnTo>
                  <a:pt x="34" y="6"/>
                </a:lnTo>
                <a:lnTo>
                  <a:pt x="44" y="10"/>
                </a:lnTo>
                <a:lnTo>
                  <a:pt x="44" y="5"/>
                </a:lnTo>
                <a:lnTo>
                  <a:pt x="48" y="7"/>
                </a:lnTo>
                <a:lnTo>
                  <a:pt x="55" y="6"/>
                </a:lnTo>
                <a:lnTo>
                  <a:pt x="61" y="1"/>
                </a:lnTo>
                <a:lnTo>
                  <a:pt x="64" y="1"/>
                </a:lnTo>
                <a:lnTo>
                  <a:pt x="65" y="5"/>
                </a:lnTo>
                <a:lnTo>
                  <a:pt x="70" y="9"/>
                </a:lnTo>
                <a:lnTo>
                  <a:pt x="70" y="15"/>
                </a:lnTo>
                <a:lnTo>
                  <a:pt x="77" y="24"/>
                </a:lnTo>
                <a:lnTo>
                  <a:pt x="80" y="25"/>
                </a:lnTo>
                <a:lnTo>
                  <a:pt x="81" y="31"/>
                </a:lnTo>
                <a:lnTo>
                  <a:pt x="85" y="33"/>
                </a:lnTo>
                <a:lnTo>
                  <a:pt x="85" y="37"/>
                </a:lnTo>
                <a:lnTo>
                  <a:pt x="76" y="42"/>
                </a:lnTo>
                <a:lnTo>
                  <a:pt x="76" y="46"/>
                </a:lnTo>
                <a:lnTo>
                  <a:pt x="70" y="46"/>
                </a:lnTo>
                <a:lnTo>
                  <a:pt x="69" y="49"/>
                </a:lnTo>
                <a:lnTo>
                  <a:pt x="65" y="50"/>
                </a:lnTo>
                <a:lnTo>
                  <a:pt x="63" y="56"/>
                </a:lnTo>
                <a:lnTo>
                  <a:pt x="66" y="56"/>
                </a:lnTo>
                <a:lnTo>
                  <a:pt x="66" y="59"/>
                </a:lnTo>
                <a:lnTo>
                  <a:pt x="64" y="61"/>
                </a:lnTo>
                <a:lnTo>
                  <a:pt x="67" y="62"/>
                </a:lnTo>
                <a:lnTo>
                  <a:pt x="61" y="68"/>
                </a:lnTo>
                <a:lnTo>
                  <a:pt x="61" y="75"/>
                </a:lnTo>
                <a:lnTo>
                  <a:pt x="59" y="77"/>
                </a:lnTo>
                <a:lnTo>
                  <a:pt x="61" y="84"/>
                </a:lnTo>
                <a:lnTo>
                  <a:pt x="46" y="87"/>
                </a:lnTo>
                <a:lnTo>
                  <a:pt x="39" y="78"/>
                </a:lnTo>
                <a:lnTo>
                  <a:pt x="34" y="76"/>
                </a:lnTo>
                <a:lnTo>
                  <a:pt x="32" y="79"/>
                </a:lnTo>
                <a:lnTo>
                  <a:pt x="29" y="76"/>
                </a:lnTo>
                <a:lnTo>
                  <a:pt x="26" y="79"/>
                </a:lnTo>
                <a:lnTo>
                  <a:pt x="25" y="83"/>
                </a:lnTo>
                <a:lnTo>
                  <a:pt x="19" y="80"/>
                </a:lnTo>
                <a:lnTo>
                  <a:pt x="16" y="74"/>
                </a:lnTo>
                <a:lnTo>
                  <a:pt x="11" y="71"/>
                </a:lnTo>
                <a:lnTo>
                  <a:pt x="11" y="67"/>
                </a:lnTo>
                <a:lnTo>
                  <a:pt x="7" y="66"/>
                </a:lnTo>
                <a:lnTo>
                  <a:pt x="4" y="62"/>
                </a:lnTo>
                <a:lnTo>
                  <a:pt x="3" y="58"/>
                </a:lnTo>
                <a:lnTo>
                  <a:pt x="0" y="56"/>
                </a:lnTo>
                <a:lnTo>
                  <a:pt x="0" y="56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589200" y="4110120"/>
            <a:ext cx="1193760" cy="1842840"/>
          </a:xfrm>
          <a:custGeom>
            <a:avLst/>
            <a:gdLst/>
            <a:ahLst/>
            <a:rect l="l" t="t" r="r" b="b"/>
            <a:pathLst>
              <a:path w="68" h="106">
                <a:moveTo>
                  <a:pt x="8" y="2"/>
                </a:moveTo>
                <a:lnTo>
                  <a:pt x="2" y="8"/>
                </a:lnTo>
                <a:lnTo>
                  <a:pt x="2" y="15"/>
                </a:lnTo>
                <a:lnTo>
                  <a:pt x="0" y="17"/>
                </a:lnTo>
                <a:lnTo>
                  <a:pt x="2" y="24"/>
                </a:lnTo>
                <a:lnTo>
                  <a:pt x="11" y="22"/>
                </a:lnTo>
                <a:lnTo>
                  <a:pt x="21" y="26"/>
                </a:lnTo>
                <a:lnTo>
                  <a:pt x="22" y="40"/>
                </a:lnTo>
                <a:lnTo>
                  <a:pt x="20" y="43"/>
                </a:lnTo>
                <a:lnTo>
                  <a:pt x="28" y="62"/>
                </a:lnTo>
                <a:lnTo>
                  <a:pt x="35" y="68"/>
                </a:lnTo>
                <a:lnTo>
                  <a:pt x="42" y="81"/>
                </a:lnTo>
                <a:lnTo>
                  <a:pt x="47" y="84"/>
                </a:lnTo>
                <a:lnTo>
                  <a:pt x="48" y="89"/>
                </a:lnTo>
                <a:lnTo>
                  <a:pt x="41" y="106"/>
                </a:lnTo>
                <a:lnTo>
                  <a:pt x="48" y="104"/>
                </a:lnTo>
                <a:lnTo>
                  <a:pt x="48" y="99"/>
                </a:lnTo>
                <a:lnTo>
                  <a:pt x="54" y="99"/>
                </a:lnTo>
                <a:lnTo>
                  <a:pt x="55" y="96"/>
                </a:lnTo>
                <a:lnTo>
                  <a:pt x="53" y="86"/>
                </a:lnTo>
                <a:lnTo>
                  <a:pt x="57" y="83"/>
                </a:lnTo>
                <a:lnTo>
                  <a:pt x="62" y="85"/>
                </a:lnTo>
                <a:lnTo>
                  <a:pt x="64" y="91"/>
                </a:lnTo>
                <a:lnTo>
                  <a:pt x="68" y="92"/>
                </a:lnTo>
                <a:lnTo>
                  <a:pt x="67" y="85"/>
                </a:lnTo>
                <a:lnTo>
                  <a:pt x="60" y="75"/>
                </a:lnTo>
                <a:lnTo>
                  <a:pt x="53" y="70"/>
                </a:lnTo>
                <a:lnTo>
                  <a:pt x="55" y="63"/>
                </a:lnTo>
                <a:lnTo>
                  <a:pt x="54" y="62"/>
                </a:lnTo>
                <a:lnTo>
                  <a:pt x="49" y="62"/>
                </a:lnTo>
                <a:lnTo>
                  <a:pt x="43" y="59"/>
                </a:lnTo>
                <a:lnTo>
                  <a:pt x="41" y="42"/>
                </a:lnTo>
                <a:lnTo>
                  <a:pt x="35" y="35"/>
                </a:lnTo>
                <a:lnTo>
                  <a:pt x="35" y="29"/>
                </a:lnTo>
                <a:lnTo>
                  <a:pt x="41" y="25"/>
                </a:lnTo>
                <a:lnTo>
                  <a:pt x="42" y="22"/>
                </a:lnTo>
                <a:lnTo>
                  <a:pt x="48" y="20"/>
                </a:lnTo>
                <a:lnTo>
                  <a:pt x="49" y="23"/>
                </a:lnTo>
                <a:lnTo>
                  <a:pt x="52" y="15"/>
                </a:lnTo>
                <a:lnTo>
                  <a:pt x="53" y="14"/>
                </a:lnTo>
                <a:lnTo>
                  <a:pt x="53" y="10"/>
                </a:lnTo>
                <a:lnTo>
                  <a:pt x="49" y="10"/>
                </a:lnTo>
                <a:lnTo>
                  <a:pt x="45" y="5"/>
                </a:lnTo>
                <a:lnTo>
                  <a:pt x="33" y="4"/>
                </a:lnTo>
                <a:lnTo>
                  <a:pt x="30" y="8"/>
                </a:lnTo>
                <a:lnTo>
                  <a:pt x="28" y="8"/>
                </a:lnTo>
                <a:lnTo>
                  <a:pt x="26" y="6"/>
                </a:lnTo>
                <a:lnTo>
                  <a:pt x="21" y="4"/>
                </a:lnTo>
                <a:lnTo>
                  <a:pt x="21" y="7"/>
                </a:lnTo>
                <a:lnTo>
                  <a:pt x="17" y="9"/>
                </a:lnTo>
                <a:lnTo>
                  <a:pt x="17" y="6"/>
                </a:lnTo>
                <a:lnTo>
                  <a:pt x="16" y="5"/>
                </a:lnTo>
                <a:lnTo>
                  <a:pt x="17" y="0"/>
                </a:lnTo>
                <a:lnTo>
                  <a:pt x="13" y="5"/>
                </a:lnTo>
                <a:lnTo>
                  <a:pt x="8" y="2"/>
                </a:lnTo>
                <a:lnTo>
                  <a:pt x="8" y="2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60840" y="3867120"/>
            <a:ext cx="509400" cy="398520"/>
          </a:xfrm>
          <a:custGeom>
            <a:avLst/>
            <a:gdLst/>
            <a:ahLst/>
            <a:rect l="l" t="t" r="r" b="b"/>
            <a:pathLst>
              <a:path w="29" h="23">
                <a:moveTo>
                  <a:pt x="16" y="0"/>
                </a:moveTo>
                <a:lnTo>
                  <a:pt x="27" y="8"/>
                </a:lnTo>
                <a:lnTo>
                  <a:pt x="29" y="18"/>
                </a:lnTo>
                <a:lnTo>
                  <a:pt x="26" y="22"/>
                </a:lnTo>
                <a:lnTo>
                  <a:pt x="24" y="22"/>
                </a:lnTo>
                <a:lnTo>
                  <a:pt x="22" y="20"/>
                </a:lnTo>
                <a:lnTo>
                  <a:pt x="17" y="18"/>
                </a:lnTo>
                <a:lnTo>
                  <a:pt x="17" y="21"/>
                </a:lnTo>
                <a:lnTo>
                  <a:pt x="13" y="23"/>
                </a:lnTo>
                <a:lnTo>
                  <a:pt x="13" y="19"/>
                </a:lnTo>
                <a:lnTo>
                  <a:pt x="13" y="14"/>
                </a:lnTo>
                <a:lnTo>
                  <a:pt x="11" y="16"/>
                </a:lnTo>
                <a:lnTo>
                  <a:pt x="9" y="19"/>
                </a:lnTo>
                <a:lnTo>
                  <a:pt x="1" y="15"/>
                </a:lnTo>
                <a:lnTo>
                  <a:pt x="3" y="13"/>
                </a:lnTo>
                <a:lnTo>
                  <a:pt x="3" y="10"/>
                </a:lnTo>
                <a:lnTo>
                  <a:pt x="0" y="10"/>
                </a:lnTo>
                <a:lnTo>
                  <a:pt x="2" y="4"/>
                </a:lnTo>
                <a:lnTo>
                  <a:pt x="6" y="3"/>
                </a:lnTo>
                <a:lnTo>
                  <a:pt x="7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78120" y="3065400"/>
            <a:ext cx="351000" cy="399960"/>
          </a:xfrm>
          <a:custGeom>
            <a:avLst/>
            <a:gdLst/>
            <a:ahLst/>
            <a:rect l="l" t="t" r="r" b="b"/>
            <a:pathLst>
              <a:path w="20" h="23">
                <a:moveTo>
                  <a:pt x="0" y="1"/>
                </a:moveTo>
                <a:lnTo>
                  <a:pt x="10" y="0"/>
                </a:lnTo>
                <a:lnTo>
                  <a:pt x="17" y="5"/>
                </a:lnTo>
                <a:lnTo>
                  <a:pt x="18" y="7"/>
                </a:lnTo>
                <a:lnTo>
                  <a:pt x="20" y="7"/>
                </a:lnTo>
                <a:lnTo>
                  <a:pt x="17" y="19"/>
                </a:lnTo>
                <a:lnTo>
                  <a:pt x="14" y="19"/>
                </a:lnTo>
                <a:lnTo>
                  <a:pt x="13" y="21"/>
                </a:lnTo>
                <a:lnTo>
                  <a:pt x="14" y="22"/>
                </a:lnTo>
                <a:lnTo>
                  <a:pt x="13" y="23"/>
                </a:lnTo>
                <a:lnTo>
                  <a:pt x="6" y="15"/>
                </a:lnTo>
                <a:lnTo>
                  <a:pt x="6" y="9"/>
                </a:lnTo>
                <a:lnTo>
                  <a:pt x="1" y="5"/>
                </a:lnTo>
                <a:lnTo>
                  <a:pt x="0" y="1"/>
                </a:lnTo>
                <a:lnTo>
                  <a:pt x="0" y="1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7640" y="2787480"/>
            <a:ext cx="1106640" cy="1355760"/>
          </a:xfrm>
          <a:custGeom>
            <a:avLst/>
            <a:gdLst/>
            <a:ahLst/>
            <a:rect l="l" t="t" r="r" b="b"/>
            <a:pathLst>
              <a:path w="63" h="78">
                <a:moveTo>
                  <a:pt x="40" y="3"/>
                </a:moveTo>
                <a:lnTo>
                  <a:pt x="38" y="1"/>
                </a:lnTo>
                <a:lnTo>
                  <a:pt x="35" y="0"/>
                </a:lnTo>
                <a:lnTo>
                  <a:pt x="31" y="4"/>
                </a:lnTo>
                <a:lnTo>
                  <a:pt x="35" y="6"/>
                </a:lnTo>
                <a:lnTo>
                  <a:pt x="33" y="10"/>
                </a:lnTo>
                <a:lnTo>
                  <a:pt x="30" y="10"/>
                </a:lnTo>
                <a:lnTo>
                  <a:pt x="29" y="9"/>
                </a:lnTo>
                <a:lnTo>
                  <a:pt x="24" y="7"/>
                </a:lnTo>
                <a:lnTo>
                  <a:pt x="20" y="14"/>
                </a:lnTo>
                <a:lnTo>
                  <a:pt x="16" y="16"/>
                </a:lnTo>
                <a:lnTo>
                  <a:pt x="16" y="20"/>
                </a:lnTo>
                <a:lnTo>
                  <a:pt x="8" y="23"/>
                </a:lnTo>
                <a:lnTo>
                  <a:pt x="5" y="35"/>
                </a:lnTo>
                <a:lnTo>
                  <a:pt x="6" y="39"/>
                </a:lnTo>
                <a:lnTo>
                  <a:pt x="4" y="41"/>
                </a:lnTo>
                <a:lnTo>
                  <a:pt x="5" y="47"/>
                </a:lnTo>
                <a:lnTo>
                  <a:pt x="9" y="49"/>
                </a:lnTo>
                <a:lnTo>
                  <a:pt x="9" y="53"/>
                </a:lnTo>
                <a:lnTo>
                  <a:pt x="0" y="58"/>
                </a:lnTo>
                <a:lnTo>
                  <a:pt x="0" y="62"/>
                </a:lnTo>
                <a:lnTo>
                  <a:pt x="3" y="62"/>
                </a:lnTo>
                <a:lnTo>
                  <a:pt x="14" y="69"/>
                </a:lnTo>
                <a:lnTo>
                  <a:pt x="15" y="75"/>
                </a:lnTo>
                <a:lnTo>
                  <a:pt x="18" y="73"/>
                </a:lnTo>
                <a:lnTo>
                  <a:pt x="21" y="75"/>
                </a:lnTo>
                <a:lnTo>
                  <a:pt x="31" y="76"/>
                </a:lnTo>
                <a:lnTo>
                  <a:pt x="34" y="78"/>
                </a:lnTo>
                <a:lnTo>
                  <a:pt x="38" y="73"/>
                </a:lnTo>
                <a:lnTo>
                  <a:pt x="45" y="70"/>
                </a:lnTo>
                <a:lnTo>
                  <a:pt x="40" y="52"/>
                </a:lnTo>
                <a:lnTo>
                  <a:pt x="55" y="47"/>
                </a:lnTo>
                <a:lnTo>
                  <a:pt x="60" y="50"/>
                </a:lnTo>
                <a:lnTo>
                  <a:pt x="60" y="44"/>
                </a:lnTo>
                <a:lnTo>
                  <a:pt x="61" y="42"/>
                </a:lnTo>
                <a:lnTo>
                  <a:pt x="61" y="30"/>
                </a:lnTo>
                <a:lnTo>
                  <a:pt x="63" y="24"/>
                </a:lnTo>
                <a:lnTo>
                  <a:pt x="62" y="21"/>
                </a:lnTo>
                <a:lnTo>
                  <a:pt x="58" y="11"/>
                </a:lnTo>
                <a:lnTo>
                  <a:pt x="47" y="14"/>
                </a:lnTo>
                <a:lnTo>
                  <a:pt x="46" y="8"/>
                </a:lnTo>
                <a:lnTo>
                  <a:pt x="41" y="8"/>
                </a:lnTo>
                <a:lnTo>
                  <a:pt x="41" y="3"/>
                </a:lnTo>
                <a:lnTo>
                  <a:pt x="40" y="3"/>
                </a:lnTo>
                <a:lnTo>
                  <a:pt x="40" y="3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852720" y="2874960"/>
            <a:ext cx="455760" cy="312840"/>
          </a:xfrm>
          <a:custGeom>
            <a:avLst/>
            <a:gdLst/>
            <a:ahLst/>
            <a:rect l="l" t="t" r="r" b="b"/>
            <a:pathLst>
              <a:path w="26" h="18">
                <a:moveTo>
                  <a:pt x="26" y="2"/>
                </a:moveTo>
                <a:lnTo>
                  <a:pt x="19" y="0"/>
                </a:lnTo>
                <a:lnTo>
                  <a:pt x="16" y="6"/>
                </a:lnTo>
                <a:lnTo>
                  <a:pt x="15" y="5"/>
                </a:lnTo>
                <a:lnTo>
                  <a:pt x="12" y="10"/>
                </a:lnTo>
                <a:lnTo>
                  <a:pt x="12" y="8"/>
                </a:lnTo>
                <a:lnTo>
                  <a:pt x="15" y="3"/>
                </a:lnTo>
                <a:lnTo>
                  <a:pt x="14" y="1"/>
                </a:lnTo>
                <a:lnTo>
                  <a:pt x="9" y="2"/>
                </a:lnTo>
                <a:lnTo>
                  <a:pt x="2" y="8"/>
                </a:lnTo>
                <a:lnTo>
                  <a:pt x="6" y="11"/>
                </a:lnTo>
                <a:lnTo>
                  <a:pt x="0" y="11"/>
                </a:lnTo>
                <a:lnTo>
                  <a:pt x="7" y="16"/>
                </a:lnTo>
                <a:lnTo>
                  <a:pt x="8" y="18"/>
                </a:lnTo>
                <a:lnTo>
                  <a:pt x="10" y="18"/>
                </a:lnTo>
                <a:lnTo>
                  <a:pt x="18" y="15"/>
                </a:lnTo>
                <a:lnTo>
                  <a:pt x="18" y="11"/>
                </a:lnTo>
                <a:lnTo>
                  <a:pt x="22" y="9"/>
                </a:lnTo>
                <a:lnTo>
                  <a:pt x="26" y="2"/>
                </a:lnTo>
                <a:lnTo>
                  <a:pt x="26" y="2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02160" y="2457360"/>
            <a:ext cx="298440" cy="382680"/>
          </a:xfrm>
          <a:custGeom>
            <a:avLst/>
            <a:gdLst/>
            <a:ahLst/>
            <a:rect l="l" t="t" r="r" b="b"/>
            <a:pathLst>
              <a:path w="17" h="22">
                <a:moveTo>
                  <a:pt x="0" y="19"/>
                </a:moveTo>
                <a:lnTo>
                  <a:pt x="2" y="12"/>
                </a:lnTo>
                <a:lnTo>
                  <a:pt x="0" y="10"/>
                </a:lnTo>
                <a:lnTo>
                  <a:pt x="0" y="6"/>
                </a:lnTo>
                <a:lnTo>
                  <a:pt x="3" y="1"/>
                </a:lnTo>
                <a:lnTo>
                  <a:pt x="15" y="0"/>
                </a:lnTo>
                <a:lnTo>
                  <a:pt x="17" y="6"/>
                </a:lnTo>
                <a:lnTo>
                  <a:pt x="14" y="6"/>
                </a:lnTo>
                <a:lnTo>
                  <a:pt x="13" y="11"/>
                </a:lnTo>
                <a:lnTo>
                  <a:pt x="9" y="12"/>
                </a:lnTo>
                <a:lnTo>
                  <a:pt x="8" y="18"/>
                </a:lnTo>
                <a:lnTo>
                  <a:pt x="5" y="20"/>
                </a:lnTo>
                <a:lnTo>
                  <a:pt x="6" y="22"/>
                </a:lnTo>
                <a:lnTo>
                  <a:pt x="5" y="22"/>
                </a:lnTo>
                <a:lnTo>
                  <a:pt x="3" y="20"/>
                </a:lnTo>
                <a:lnTo>
                  <a:pt x="0" y="19"/>
                </a:lnTo>
                <a:lnTo>
                  <a:pt x="0" y="19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49600" y="4335480"/>
            <a:ext cx="1036800" cy="1285920"/>
          </a:xfrm>
          <a:custGeom>
            <a:avLst/>
            <a:gdLst/>
            <a:ahLst/>
            <a:rect l="l" t="t" r="r" b="b"/>
            <a:pathLst>
              <a:path w="59" h="74">
                <a:moveTo>
                  <a:pt x="0" y="10"/>
                </a:moveTo>
                <a:lnTo>
                  <a:pt x="1" y="17"/>
                </a:lnTo>
                <a:lnTo>
                  <a:pt x="4" y="15"/>
                </a:lnTo>
                <a:lnTo>
                  <a:pt x="4" y="17"/>
                </a:lnTo>
                <a:lnTo>
                  <a:pt x="9" y="21"/>
                </a:lnTo>
                <a:lnTo>
                  <a:pt x="11" y="28"/>
                </a:lnTo>
                <a:lnTo>
                  <a:pt x="6" y="23"/>
                </a:lnTo>
                <a:lnTo>
                  <a:pt x="8" y="32"/>
                </a:lnTo>
                <a:lnTo>
                  <a:pt x="15" y="35"/>
                </a:lnTo>
                <a:lnTo>
                  <a:pt x="17" y="43"/>
                </a:lnTo>
                <a:lnTo>
                  <a:pt x="27" y="56"/>
                </a:lnTo>
                <a:lnTo>
                  <a:pt x="33" y="50"/>
                </a:lnTo>
                <a:lnTo>
                  <a:pt x="38" y="55"/>
                </a:lnTo>
                <a:lnTo>
                  <a:pt x="37" y="71"/>
                </a:lnTo>
                <a:lnTo>
                  <a:pt x="40" y="72"/>
                </a:lnTo>
                <a:lnTo>
                  <a:pt x="40" y="74"/>
                </a:lnTo>
                <a:lnTo>
                  <a:pt x="52" y="74"/>
                </a:lnTo>
                <a:lnTo>
                  <a:pt x="57" y="68"/>
                </a:lnTo>
                <a:lnTo>
                  <a:pt x="50" y="59"/>
                </a:lnTo>
                <a:lnTo>
                  <a:pt x="54" y="57"/>
                </a:lnTo>
                <a:lnTo>
                  <a:pt x="56" y="52"/>
                </a:lnTo>
                <a:lnTo>
                  <a:pt x="55" y="41"/>
                </a:lnTo>
                <a:lnTo>
                  <a:pt x="59" y="37"/>
                </a:lnTo>
                <a:lnTo>
                  <a:pt x="57" y="34"/>
                </a:lnTo>
                <a:lnTo>
                  <a:pt x="52" y="34"/>
                </a:lnTo>
                <a:lnTo>
                  <a:pt x="50" y="31"/>
                </a:lnTo>
                <a:lnTo>
                  <a:pt x="50" y="26"/>
                </a:lnTo>
                <a:lnTo>
                  <a:pt x="48" y="25"/>
                </a:lnTo>
                <a:lnTo>
                  <a:pt x="47" y="17"/>
                </a:lnTo>
                <a:lnTo>
                  <a:pt x="43" y="13"/>
                </a:lnTo>
                <a:lnTo>
                  <a:pt x="37" y="16"/>
                </a:lnTo>
                <a:lnTo>
                  <a:pt x="27" y="15"/>
                </a:lnTo>
                <a:lnTo>
                  <a:pt x="22" y="3"/>
                </a:lnTo>
                <a:lnTo>
                  <a:pt x="10" y="3"/>
                </a:lnTo>
                <a:lnTo>
                  <a:pt x="4" y="0"/>
                </a:lnTo>
                <a:lnTo>
                  <a:pt x="3" y="2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53160" y="5205240"/>
            <a:ext cx="299880" cy="660600"/>
          </a:xfrm>
          <a:custGeom>
            <a:avLst/>
            <a:gdLst/>
            <a:ahLst/>
            <a:rect l="l" t="t" r="r" b="b"/>
            <a:pathLst>
              <a:path w="17" h="38">
                <a:moveTo>
                  <a:pt x="4" y="6"/>
                </a:moveTo>
                <a:lnTo>
                  <a:pt x="5" y="7"/>
                </a:lnTo>
                <a:lnTo>
                  <a:pt x="0" y="24"/>
                </a:lnTo>
                <a:lnTo>
                  <a:pt x="7" y="38"/>
                </a:lnTo>
                <a:lnTo>
                  <a:pt x="9" y="34"/>
                </a:lnTo>
                <a:lnTo>
                  <a:pt x="9" y="30"/>
                </a:lnTo>
                <a:lnTo>
                  <a:pt x="13" y="29"/>
                </a:lnTo>
                <a:lnTo>
                  <a:pt x="17" y="24"/>
                </a:lnTo>
                <a:lnTo>
                  <a:pt x="17" y="22"/>
                </a:lnTo>
                <a:lnTo>
                  <a:pt x="14" y="21"/>
                </a:lnTo>
                <a:lnTo>
                  <a:pt x="15" y="4"/>
                </a:lnTo>
                <a:lnTo>
                  <a:pt x="10" y="0"/>
                </a:lnTo>
                <a:lnTo>
                  <a:pt x="4" y="6"/>
                </a:lnTo>
                <a:lnTo>
                  <a:pt x="4" y="6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91080" y="3605040"/>
            <a:ext cx="650880" cy="470160"/>
          </a:xfrm>
          <a:custGeom>
            <a:avLst/>
            <a:gdLst/>
            <a:ahLst/>
            <a:rect l="l" t="t" r="r" b="b"/>
            <a:pathLst>
              <a:path w="37" h="27">
                <a:moveTo>
                  <a:pt x="15" y="0"/>
                </a:moveTo>
                <a:lnTo>
                  <a:pt x="0" y="5"/>
                </a:lnTo>
                <a:lnTo>
                  <a:pt x="5" y="23"/>
                </a:lnTo>
                <a:lnTo>
                  <a:pt x="10" y="25"/>
                </a:lnTo>
                <a:lnTo>
                  <a:pt x="16" y="21"/>
                </a:lnTo>
                <a:lnTo>
                  <a:pt x="18" y="25"/>
                </a:lnTo>
                <a:lnTo>
                  <a:pt x="25" y="27"/>
                </a:lnTo>
                <a:lnTo>
                  <a:pt x="25" y="27"/>
                </a:lnTo>
                <a:lnTo>
                  <a:pt x="37" y="20"/>
                </a:lnTo>
                <a:lnTo>
                  <a:pt x="36" y="16"/>
                </a:lnTo>
                <a:lnTo>
                  <a:pt x="34" y="16"/>
                </a:lnTo>
                <a:lnTo>
                  <a:pt x="30" y="11"/>
                </a:lnTo>
                <a:lnTo>
                  <a:pt x="26" y="11"/>
                </a:lnTo>
                <a:lnTo>
                  <a:pt x="25" y="5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3952800"/>
            <a:ext cx="615960" cy="382680"/>
          </a:xfrm>
          <a:custGeom>
            <a:avLst/>
            <a:gdLst/>
            <a:ahLst/>
            <a:rect l="l" t="t" r="r" b="b"/>
            <a:pathLst>
              <a:path w="35" h="22">
                <a:moveTo>
                  <a:pt x="0" y="7"/>
                </a:moveTo>
                <a:lnTo>
                  <a:pt x="0" y="17"/>
                </a:lnTo>
                <a:lnTo>
                  <a:pt x="6" y="22"/>
                </a:lnTo>
                <a:lnTo>
                  <a:pt x="8" y="18"/>
                </a:lnTo>
                <a:lnTo>
                  <a:pt x="14" y="16"/>
                </a:lnTo>
                <a:lnTo>
                  <a:pt x="16" y="18"/>
                </a:lnTo>
                <a:lnTo>
                  <a:pt x="25" y="15"/>
                </a:lnTo>
                <a:lnTo>
                  <a:pt x="33" y="19"/>
                </a:lnTo>
                <a:lnTo>
                  <a:pt x="35" y="15"/>
                </a:lnTo>
                <a:lnTo>
                  <a:pt x="33" y="9"/>
                </a:lnTo>
                <a:lnTo>
                  <a:pt x="19" y="7"/>
                </a:lnTo>
                <a:lnTo>
                  <a:pt x="13" y="4"/>
                </a:lnTo>
                <a:lnTo>
                  <a:pt x="12" y="0"/>
                </a:lnTo>
                <a:lnTo>
                  <a:pt x="0" y="7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151160" y="3952800"/>
            <a:ext cx="914400" cy="433440"/>
          </a:xfrm>
          <a:custGeom>
            <a:avLst/>
            <a:gdLst/>
            <a:ahLst/>
            <a:rect l="l" t="t" r="r" b="b"/>
            <a:pathLst>
              <a:path w="52" h="25">
                <a:moveTo>
                  <a:pt x="0" y="8"/>
                </a:moveTo>
                <a:lnTo>
                  <a:pt x="0" y="9"/>
                </a:lnTo>
                <a:lnTo>
                  <a:pt x="1" y="10"/>
                </a:lnTo>
                <a:lnTo>
                  <a:pt x="3" y="11"/>
                </a:lnTo>
                <a:lnTo>
                  <a:pt x="3" y="13"/>
                </a:lnTo>
                <a:lnTo>
                  <a:pt x="13" y="14"/>
                </a:lnTo>
                <a:lnTo>
                  <a:pt x="17" y="19"/>
                </a:lnTo>
                <a:lnTo>
                  <a:pt x="21" y="19"/>
                </a:lnTo>
                <a:lnTo>
                  <a:pt x="21" y="22"/>
                </a:lnTo>
                <a:lnTo>
                  <a:pt x="27" y="25"/>
                </a:lnTo>
                <a:lnTo>
                  <a:pt x="39" y="25"/>
                </a:lnTo>
                <a:lnTo>
                  <a:pt x="48" y="19"/>
                </a:lnTo>
                <a:lnTo>
                  <a:pt x="52" y="19"/>
                </a:lnTo>
                <a:lnTo>
                  <a:pt x="50" y="17"/>
                </a:lnTo>
                <a:lnTo>
                  <a:pt x="50" y="7"/>
                </a:lnTo>
                <a:lnTo>
                  <a:pt x="43" y="5"/>
                </a:lnTo>
                <a:lnTo>
                  <a:pt x="41" y="0"/>
                </a:lnTo>
                <a:lnTo>
                  <a:pt x="35" y="5"/>
                </a:lnTo>
                <a:lnTo>
                  <a:pt x="30" y="2"/>
                </a:lnTo>
                <a:lnTo>
                  <a:pt x="23" y="6"/>
                </a:lnTo>
                <a:lnTo>
                  <a:pt x="19" y="11"/>
                </a:lnTo>
                <a:lnTo>
                  <a:pt x="16" y="9"/>
                </a:lnTo>
                <a:lnTo>
                  <a:pt x="6" y="8"/>
                </a:lnTo>
                <a:lnTo>
                  <a:pt x="3" y="6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02480" y="5484960"/>
            <a:ext cx="404640" cy="311040"/>
          </a:xfrm>
          <a:custGeom>
            <a:avLst/>
            <a:gdLst/>
            <a:ahLst/>
            <a:rect l="l" t="t" r="r" b="b"/>
            <a:pathLst>
              <a:path w="23" h="18">
                <a:moveTo>
                  <a:pt x="8" y="0"/>
                </a:moveTo>
                <a:lnTo>
                  <a:pt x="5" y="3"/>
                </a:lnTo>
                <a:lnTo>
                  <a:pt x="6" y="4"/>
                </a:lnTo>
                <a:lnTo>
                  <a:pt x="4" y="11"/>
                </a:lnTo>
                <a:lnTo>
                  <a:pt x="0" y="17"/>
                </a:lnTo>
                <a:lnTo>
                  <a:pt x="9" y="18"/>
                </a:lnTo>
                <a:lnTo>
                  <a:pt x="14" y="15"/>
                </a:lnTo>
                <a:lnTo>
                  <a:pt x="23" y="17"/>
                </a:lnTo>
                <a:lnTo>
                  <a:pt x="23" y="13"/>
                </a:lnTo>
                <a:lnTo>
                  <a:pt x="18" y="8"/>
                </a:lnTo>
                <a:lnTo>
                  <a:pt x="16" y="2"/>
                </a:lnTo>
                <a:lnTo>
                  <a:pt x="13" y="2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27640" y="5013360"/>
            <a:ext cx="897120" cy="590400"/>
          </a:xfrm>
          <a:custGeom>
            <a:avLst/>
            <a:gdLst/>
            <a:ahLst/>
            <a:rect l="l" t="t" r="r" b="b"/>
            <a:pathLst>
              <a:path w="51" h="34">
                <a:moveTo>
                  <a:pt x="7" y="0"/>
                </a:moveTo>
                <a:lnTo>
                  <a:pt x="5" y="2"/>
                </a:lnTo>
                <a:lnTo>
                  <a:pt x="6" y="12"/>
                </a:lnTo>
                <a:lnTo>
                  <a:pt x="4" y="18"/>
                </a:lnTo>
                <a:lnTo>
                  <a:pt x="0" y="20"/>
                </a:lnTo>
                <a:lnTo>
                  <a:pt x="7" y="29"/>
                </a:lnTo>
                <a:lnTo>
                  <a:pt x="5" y="31"/>
                </a:lnTo>
                <a:lnTo>
                  <a:pt x="14" y="31"/>
                </a:lnTo>
                <a:lnTo>
                  <a:pt x="24" y="34"/>
                </a:lnTo>
                <a:lnTo>
                  <a:pt x="32" y="30"/>
                </a:lnTo>
                <a:lnTo>
                  <a:pt x="35" y="27"/>
                </a:lnTo>
                <a:lnTo>
                  <a:pt x="40" y="29"/>
                </a:lnTo>
                <a:lnTo>
                  <a:pt x="43" y="29"/>
                </a:lnTo>
                <a:lnTo>
                  <a:pt x="47" y="18"/>
                </a:lnTo>
                <a:lnTo>
                  <a:pt x="50" y="18"/>
                </a:lnTo>
                <a:lnTo>
                  <a:pt x="51" y="14"/>
                </a:lnTo>
                <a:lnTo>
                  <a:pt x="45" y="7"/>
                </a:lnTo>
                <a:lnTo>
                  <a:pt x="32" y="7"/>
                </a:lnTo>
                <a:lnTo>
                  <a:pt x="27" y="12"/>
                </a:lnTo>
                <a:lnTo>
                  <a:pt x="11" y="5"/>
                </a:lnTo>
                <a:lnTo>
                  <a:pt x="11" y="2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976640" y="5535720"/>
            <a:ext cx="930600" cy="990360"/>
          </a:xfrm>
          <a:custGeom>
            <a:avLst/>
            <a:gdLst/>
            <a:ahLst/>
            <a:rect l="l" t="t" r="r" b="b"/>
            <a:pathLst>
              <a:path w="53" h="57">
                <a:moveTo>
                  <a:pt x="0" y="19"/>
                </a:moveTo>
                <a:lnTo>
                  <a:pt x="1" y="21"/>
                </a:lnTo>
                <a:lnTo>
                  <a:pt x="3" y="21"/>
                </a:lnTo>
                <a:lnTo>
                  <a:pt x="2" y="24"/>
                </a:lnTo>
                <a:lnTo>
                  <a:pt x="5" y="31"/>
                </a:lnTo>
                <a:lnTo>
                  <a:pt x="12" y="33"/>
                </a:lnTo>
                <a:lnTo>
                  <a:pt x="18" y="37"/>
                </a:lnTo>
                <a:lnTo>
                  <a:pt x="17" y="38"/>
                </a:lnTo>
                <a:lnTo>
                  <a:pt x="9" y="34"/>
                </a:lnTo>
                <a:lnTo>
                  <a:pt x="4" y="34"/>
                </a:lnTo>
                <a:lnTo>
                  <a:pt x="2" y="33"/>
                </a:lnTo>
                <a:lnTo>
                  <a:pt x="1" y="35"/>
                </a:lnTo>
                <a:lnTo>
                  <a:pt x="3" y="37"/>
                </a:lnTo>
                <a:lnTo>
                  <a:pt x="3" y="47"/>
                </a:lnTo>
                <a:lnTo>
                  <a:pt x="6" y="48"/>
                </a:lnTo>
                <a:lnTo>
                  <a:pt x="9" y="54"/>
                </a:lnTo>
                <a:lnTo>
                  <a:pt x="11" y="55"/>
                </a:lnTo>
                <a:lnTo>
                  <a:pt x="12" y="57"/>
                </a:lnTo>
                <a:lnTo>
                  <a:pt x="14" y="55"/>
                </a:lnTo>
                <a:lnTo>
                  <a:pt x="14" y="43"/>
                </a:lnTo>
                <a:lnTo>
                  <a:pt x="21" y="48"/>
                </a:lnTo>
                <a:lnTo>
                  <a:pt x="20" y="40"/>
                </a:lnTo>
                <a:lnTo>
                  <a:pt x="24" y="40"/>
                </a:lnTo>
                <a:lnTo>
                  <a:pt x="25" y="43"/>
                </a:lnTo>
                <a:lnTo>
                  <a:pt x="27" y="42"/>
                </a:lnTo>
                <a:lnTo>
                  <a:pt x="25" y="35"/>
                </a:lnTo>
                <a:lnTo>
                  <a:pt x="16" y="28"/>
                </a:lnTo>
                <a:lnTo>
                  <a:pt x="18" y="24"/>
                </a:lnTo>
                <a:lnTo>
                  <a:pt x="22" y="26"/>
                </a:lnTo>
                <a:lnTo>
                  <a:pt x="22" y="21"/>
                </a:lnTo>
                <a:lnTo>
                  <a:pt x="17" y="14"/>
                </a:lnTo>
                <a:lnTo>
                  <a:pt x="18" y="12"/>
                </a:lnTo>
                <a:lnTo>
                  <a:pt x="25" y="16"/>
                </a:lnTo>
                <a:lnTo>
                  <a:pt x="29" y="16"/>
                </a:lnTo>
                <a:lnTo>
                  <a:pt x="30" y="10"/>
                </a:lnTo>
                <a:lnTo>
                  <a:pt x="34" y="10"/>
                </a:lnTo>
                <a:lnTo>
                  <a:pt x="38" y="8"/>
                </a:lnTo>
                <a:lnTo>
                  <a:pt x="46" y="10"/>
                </a:lnTo>
                <a:lnTo>
                  <a:pt x="47" y="13"/>
                </a:lnTo>
                <a:lnTo>
                  <a:pt x="51" y="8"/>
                </a:lnTo>
                <a:lnTo>
                  <a:pt x="53" y="1"/>
                </a:lnTo>
                <a:lnTo>
                  <a:pt x="52" y="0"/>
                </a:lnTo>
                <a:lnTo>
                  <a:pt x="44" y="4"/>
                </a:lnTo>
                <a:lnTo>
                  <a:pt x="34" y="1"/>
                </a:lnTo>
                <a:lnTo>
                  <a:pt x="25" y="1"/>
                </a:lnTo>
                <a:lnTo>
                  <a:pt x="23" y="5"/>
                </a:lnTo>
                <a:lnTo>
                  <a:pt x="10" y="5"/>
                </a:lnTo>
                <a:lnTo>
                  <a:pt x="6" y="10"/>
                </a:lnTo>
                <a:lnTo>
                  <a:pt x="2" y="11"/>
                </a:lnTo>
                <a:lnTo>
                  <a:pt x="2" y="15"/>
                </a:lnTo>
                <a:lnTo>
                  <a:pt x="0" y="19"/>
                </a:lnTo>
                <a:lnTo>
                  <a:pt x="0" y="19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941720" y="3065400"/>
            <a:ext cx="1019520" cy="1077840"/>
          </a:xfrm>
          <a:custGeom>
            <a:avLst/>
            <a:gdLst/>
            <a:ahLst/>
            <a:rect l="l" t="t" r="r" b="b"/>
            <a:pathLst>
              <a:path w="58" h="62">
                <a:moveTo>
                  <a:pt x="2" y="4"/>
                </a:moveTo>
                <a:lnTo>
                  <a:pt x="9" y="4"/>
                </a:lnTo>
                <a:lnTo>
                  <a:pt x="18" y="0"/>
                </a:lnTo>
                <a:lnTo>
                  <a:pt x="32" y="0"/>
                </a:lnTo>
                <a:lnTo>
                  <a:pt x="29" y="4"/>
                </a:lnTo>
                <a:lnTo>
                  <a:pt x="31" y="7"/>
                </a:lnTo>
                <a:lnTo>
                  <a:pt x="35" y="5"/>
                </a:lnTo>
                <a:lnTo>
                  <a:pt x="42" y="8"/>
                </a:lnTo>
                <a:lnTo>
                  <a:pt x="54" y="10"/>
                </a:lnTo>
                <a:lnTo>
                  <a:pt x="58" y="18"/>
                </a:lnTo>
                <a:lnTo>
                  <a:pt x="57" y="24"/>
                </a:lnTo>
                <a:lnTo>
                  <a:pt x="52" y="31"/>
                </a:lnTo>
                <a:lnTo>
                  <a:pt x="52" y="43"/>
                </a:lnTo>
                <a:lnTo>
                  <a:pt x="54" y="47"/>
                </a:lnTo>
                <a:lnTo>
                  <a:pt x="53" y="50"/>
                </a:lnTo>
                <a:lnTo>
                  <a:pt x="44" y="54"/>
                </a:lnTo>
                <a:lnTo>
                  <a:pt x="39" y="62"/>
                </a:lnTo>
                <a:lnTo>
                  <a:pt x="38" y="60"/>
                </a:lnTo>
                <a:lnTo>
                  <a:pt x="24" y="58"/>
                </a:lnTo>
                <a:lnTo>
                  <a:pt x="18" y="55"/>
                </a:lnTo>
                <a:lnTo>
                  <a:pt x="16" y="47"/>
                </a:lnTo>
                <a:lnTo>
                  <a:pt x="14" y="47"/>
                </a:lnTo>
                <a:lnTo>
                  <a:pt x="10" y="42"/>
                </a:lnTo>
                <a:lnTo>
                  <a:pt x="6" y="42"/>
                </a:lnTo>
                <a:lnTo>
                  <a:pt x="5" y="36"/>
                </a:lnTo>
                <a:lnTo>
                  <a:pt x="0" y="33"/>
                </a:lnTo>
                <a:lnTo>
                  <a:pt x="0" y="28"/>
                </a:lnTo>
                <a:lnTo>
                  <a:pt x="1" y="26"/>
                </a:lnTo>
                <a:lnTo>
                  <a:pt x="1" y="14"/>
                </a:lnTo>
                <a:lnTo>
                  <a:pt x="3" y="8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35520" y="4213080"/>
            <a:ext cx="809640" cy="401760"/>
          </a:xfrm>
          <a:custGeom>
            <a:avLst/>
            <a:gdLst/>
            <a:ahLst/>
            <a:rect l="l" t="t" r="r" b="b"/>
            <a:pathLst>
              <a:path w="46" h="23">
                <a:moveTo>
                  <a:pt x="44" y="4"/>
                </a:moveTo>
                <a:lnTo>
                  <a:pt x="46" y="8"/>
                </a:lnTo>
                <a:lnTo>
                  <a:pt x="34" y="22"/>
                </a:lnTo>
                <a:lnTo>
                  <a:pt x="24" y="23"/>
                </a:lnTo>
                <a:lnTo>
                  <a:pt x="21" y="20"/>
                </a:lnTo>
                <a:lnTo>
                  <a:pt x="15" y="23"/>
                </a:lnTo>
                <a:lnTo>
                  <a:pt x="5" y="22"/>
                </a:lnTo>
                <a:lnTo>
                  <a:pt x="0" y="10"/>
                </a:lnTo>
                <a:lnTo>
                  <a:pt x="9" y="4"/>
                </a:lnTo>
                <a:lnTo>
                  <a:pt x="13" y="3"/>
                </a:lnTo>
                <a:lnTo>
                  <a:pt x="17" y="7"/>
                </a:lnTo>
                <a:lnTo>
                  <a:pt x="19" y="3"/>
                </a:lnTo>
                <a:lnTo>
                  <a:pt x="25" y="1"/>
                </a:lnTo>
                <a:lnTo>
                  <a:pt x="28" y="3"/>
                </a:lnTo>
                <a:lnTo>
                  <a:pt x="36" y="0"/>
                </a:lnTo>
                <a:lnTo>
                  <a:pt x="44" y="4"/>
                </a:lnTo>
                <a:lnTo>
                  <a:pt x="44" y="4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56240" y="3030480"/>
            <a:ext cx="333360" cy="209520"/>
          </a:xfrm>
          <a:custGeom>
            <a:avLst/>
            <a:gdLst/>
            <a:ahLst/>
            <a:rect l="l" t="t" r="r" b="b"/>
            <a:pathLst>
              <a:path w="19" h="12">
                <a:moveTo>
                  <a:pt x="0" y="7"/>
                </a:moveTo>
                <a:lnTo>
                  <a:pt x="11" y="0"/>
                </a:lnTo>
                <a:lnTo>
                  <a:pt x="19" y="7"/>
                </a:lnTo>
                <a:lnTo>
                  <a:pt x="19" y="12"/>
                </a:lnTo>
                <a:lnTo>
                  <a:pt x="7" y="10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9240" y="4335480"/>
            <a:ext cx="1140120" cy="920880"/>
          </a:xfrm>
          <a:custGeom>
            <a:avLst/>
            <a:gdLst/>
            <a:ahLst/>
            <a:rect l="l" t="t" r="r" b="b"/>
            <a:pathLst>
              <a:path w="65" h="53">
                <a:moveTo>
                  <a:pt x="65" y="37"/>
                </a:moveTo>
                <a:lnTo>
                  <a:pt x="54" y="33"/>
                </a:lnTo>
                <a:lnTo>
                  <a:pt x="56" y="20"/>
                </a:lnTo>
                <a:lnTo>
                  <a:pt x="49" y="4"/>
                </a:lnTo>
                <a:lnTo>
                  <a:pt x="45" y="2"/>
                </a:lnTo>
                <a:lnTo>
                  <a:pt x="41" y="6"/>
                </a:lnTo>
                <a:lnTo>
                  <a:pt x="22" y="0"/>
                </a:lnTo>
                <a:lnTo>
                  <a:pt x="10" y="15"/>
                </a:lnTo>
                <a:lnTo>
                  <a:pt x="0" y="16"/>
                </a:lnTo>
                <a:lnTo>
                  <a:pt x="1" y="17"/>
                </a:lnTo>
                <a:lnTo>
                  <a:pt x="2" y="24"/>
                </a:lnTo>
                <a:lnTo>
                  <a:pt x="4" y="26"/>
                </a:lnTo>
                <a:lnTo>
                  <a:pt x="4" y="31"/>
                </a:lnTo>
                <a:lnTo>
                  <a:pt x="7" y="34"/>
                </a:lnTo>
                <a:lnTo>
                  <a:pt x="11" y="34"/>
                </a:lnTo>
                <a:lnTo>
                  <a:pt x="13" y="37"/>
                </a:lnTo>
                <a:lnTo>
                  <a:pt x="10" y="39"/>
                </a:lnTo>
                <a:lnTo>
                  <a:pt x="15" y="41"/>
                </a:lnTo>
                <a:lnTo>
                  <a:pt x="15" y="44"/>
                </a:lnTo>
                <a:lnTo>
                  <a:pt x="31" y="51"/>
                </a:lnTo>
                <a:lnTo>
                  <a:pt x="36" y="46"/>
                </a:lnTo>
                <a:lnTo>
                  <a:pt x="49" y="46"/>
                </a:lnTo>
                <a:lnTo>
                  <a:pt x="55" y="53"/>
                </a:lnTo>
                <a:lnTo>
                  <a:pt x="59" y="42"/>
                </a:lnTo>
                <a:lnTo>
                  <a:pt x="63" y="41"/>
                </a:lnTo>
                <a:lnTo>
                  <a:pt x="65" y="37"/>
                </a:lnTo>
                <a:lnTo>
                  <a:pt x="65" y="37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748480" y="2874960"/>
            <a:ext cx="492120" cy="504720"/>
          </a:xfrm>
          <a:custGeom>
            <a:avLst/>
            <a:gdLst/>
            <a:ahLst/>
            <a:rect l="l" t="t" r="r" b="b"/>
            <a:pathLst>
              <a:path w="28" h="29">
                <a:moveTo>
                  <a:pt x="0" y="9"/>
                </a:moveTo>
                <a:lnTo>
                  <a:pt x="0" y="2"/>
                </a:lnTo>
                <a:lnTo>
                  <a:pt x="5" y="0"/>
                </a:lnTo>
                <a:lnTo>
                  <a:pt x="11" y="2"/>
                </a:lnTo>
                <a:lnTo>
                  <a:pt x="13" y="4"/>
                </a:lnTo>
                <a:lnTo>
                  <a:pt x="20" y="5"/>
                </a:lnTo>
                <a:lnTo>
                  <a:pt x="28" y="14"/>
                </a:lnTo>
                <a:lnTo>
                  <a:pt x="24" y="16"/>
                </a:lnTo>
                <a:lnTo>
                  <a:pt x="22" y="26"/>
                </a:lnTo>
                <a:lnTo>
                  <a:pt x="12" y="29"/>
                </a:lnTo>
                <a:lnTo>
                  <a:pt x="8" y="21"/>
                </a:lnTo>
                <a:lnTo>
                  <a:pt x="8" y="16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748480" y="2647800"/>
            <a:ext cx="720720" cy="470160"/>
          </a:xfrm>
          <a:custGeom>
            <a:avLst/>
            <a:gdLst/>
            <a:ahLst/>
            <a:rect l="l" t="t" r="r" b="b"/>
            <a:pathLst>
              <a:path w="41" h="27">
                <a:moveTo>
                  <a:pt x="0" y="15"/>
                </a:moveTo>
                <a:lnTo>
                  <a:pt x="9" y="3"/>
                </a:lnTo>
                <a:lnTo>
                  <a:pt x="14" y="3"/>
                </a:lnTo>
                <a:lnTo>
                  <a:pt x="19" y="8"/>
                </a:lnTo>
                <a:lnTo>
                  <a:pt x="22" y="7"/>
                </a:lnTo>
                <a:lnTo>
                  <a:pt x="24" y="0"/>
                </a:lnTo>
                <a:lnTo>
                  <a:pt x="30" y="3"/>
                </a:lnTo>
                <a:lnTo>
                  <a:pt x="30" y="6"/>
                </a:lnTo>
                <a:lnTo>
                  <a:pt x="41" y="10"/>
                </a:lnTo>
                <a:lnTo>
                  <a:pt x="41" y="13"/>
                </a:lnTo>
                <a:lnTo>
                  <a:pt x="37" y="14"/>
                </a:lnTo>
                <a:lnTo>
                  <a:pt x="38" y="21"/>
                </a:lnTo>
                <a:lnTo>
                  <a:pt x="28" y="27"/>
                </a:lnTo>
                <a:lnTo>
                  <a:pt x="20" y="18"/>
                </a:lnTo>
                <a:lnTo>
                  <a:pt x="13" y="17"/>
                </a:lnTo>
                <a:lnTo>
                  <a:pt x="11" y="15"/>
                </a:lnTo>
                <a:lnTo>
                  <a:pt x="5" y="13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96160" y="631800"/>
            <a:ext cx="823680" cy="1685880"/>
          </a:xfrm>
          <a:custGeom>
            <a:avLst/>
            <a:gdLst/>
            <a:ahLst/>
            <a:rect l="l" t="t" r="r" b="b"/>
            <a:pathLst>
              <a:path w="47" h="97">
                <a:moveTo>
                  <a:pt x="47" y="6"/>
                </a:moveTo>
                <a:lnTo>
                  <a:pt x="43" y="1"/>
                </a:lnTo>
                <a:lnTo>
                  <a:pt x="37" y="0"/>
                </a:lnTo>
                <a:lnTo>
                  <a:pt x="34" y="6"/>
                </a:lnTo>
                <a:lnTo>
                  <a:pt x="30" y="7"/>
                </a:lnTo>
                <a:lnTo>
                  <a:pt x="20" y="6"/>
                </a:lnTo>
                <a:lnTo>
                  <a:pt x="16" y="0"/>
                </a:lnTo>
                <a:lnTo>
                  <a:pt x="13" y="2"/>
                </a:lnTo>
                <a:lnTo>
                  <a:pt x="14" y="9"/>
                </a:lnTo>
                <a:lnTo>
                  <a:pt x="19" y="13"/>
                </a:lnTo>
                <a:lnTo>
                  <a:pt x="17" y="36"/>
                </a:lnTo>
                <a:lnTo>
                  <a:pt x="23" y="36"/>
                </a:lnTo>
                <a:lnTo>
                  <a:pt x="28" y="46"/>
                </a:lnTo>
                <a:lnTo>
                  <a:pt x="23" y="47"/>
                </a:lnTo>
                <a:lnTo>
                  <a:pt x="4" y="64"/>
                </a:lnTo>
                <a:lnTo>
                  <a:pt x="0" y="87"/>
                </a:lnTo>
                <a:lnTo>
                  <a:pt x="8" y="97"/>
                </a:lnTo>
                <a:lnTo>
                  <a:pt x="21" y="95"/>
                </a:lnTo>
                <a:lnTo>
                  <a:pt x="22" y="92"/>
                </a:lnTo>
                <a:lnTo>
                  <a:pt x="30" y="92"/>
                </a:lnTo>
                <a:lnTo>
                  <a:pt x="40" y="85"/>
                </a:lnTo>
                <a:lnTo>
                  <a:pt x="46" y="73"/>
                </a:lnTo>
                <a:lnTo>
                  <a:pt x="42" y="37"/>
                </a:lnTo>
                <a:lnTo>
                  <a:pt x="46" y="27"/>
                </a:lnTo>
                <a:lnTo>
                  <a:pt x="41" y="18"/>
                </a:lnTo>
                <a:lnTo>
                  <a:pt x="46" y="6"/>
                </a:lnTo>
                <a:lnTo>
                  <a:pt x="47" y="6"/>
                </a:lnTo>
                <a:lnTo>
                  <a:pt x="47" y="6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4484520" y="369720"/>
            <a:ext cx="2528640" cy="2487240"/>
            <a:chOff x="4484520" y="369720"/>
            <a:chExt cx="2528640" cy="2487240"/>
          </a:xfrm>
        </p:grpSpPr>
        <p:sp>
          <p:nvSpPr>
            <p:cNvPr id="187" name=""/>
            <p:cNvSpPr/>
            <p:nvPr/>
          </p:nvSpPr>
          <p:spPr>
            <a:xfrm>
              <a:off x="4959000" y="666000"/>
              <a:ext cx="1370520" cy="2190960"/>
            </a:xfrm>
            <a:custGeom>
              <a:avLst/>
              <a:gdLst/>
              <a:ahLst/>
              <a:rect l="l" t="t" r="r" b="b"/>
              <a:pathLst>
                <a:path w="78" h="126">
                  <a:moveTo>
                    <a:pt x="72" y="0"/>
                  </a:moveTo>
                  <a:lnTo>
                    <a:pt x="73" y="8"/>
                  </a:lnTo>
                  <a:lnTo>
                    <a:pt x="78" y="11"/>
                  </a:lnTo>
                  <a:lnTo>
                    <a:pt x="76" y="34"/>
                  </a:lnTo>
                  <a:lnTo>
                    <a:pt x="67" y="39"/>
                  </a:lnTo>
                  <a:lnTo>
                    <a:pt x="64" y="43"/>
                  </a:lnTo>
                  <a:lnTo>
                    <a:pt x="67" y="51"/>
                  </a:lnTo>
                  <a:lnTo>
                    <a:pt x="47" y="59"/>
                  </a:lnTo>
                  <a:lnTo>
                    <a:pt x="37" y="78"/>
                  </a:lnTo>
                  <a:lnTo>
                    <a:pt x="41" y="85"/>
                  </a:lnTo>
                  <a:lnTo>
                    <a:pt x="40" y="94"/>
                  </a:lnTo>
                  <a:lnTo>
                    <a:pt x="30" y="99"/>
                  </a:lnTo>
                  <a:lnTo>
                    <a:pt x="18" y="122"/>
                  </a:lnTo>
                  <a:lnTo>
                    <a:pt x="8" y="122"/>
                  </a:lnTo>
                  <a:lnTo>
                    <a:pt x="5" y="126"/>
                  </a:lnTo>
                  <a:lnTo>
                    <a:pt x="0" y="124"/>
                  </a:lnTo>
                  <a:lnTo>
                    <a:pt x="0" y="114"/>
                  </a:lnTo>
                  <a:lnTo>
                    <a:pt x="5" y="112"/>
                  </a:lnTo>
                  <a:lnTo>
                    <a:pt x="0" y="106"/>
                  </a:lnTo>
                  <a:lnTo>
                    <a:pt x="1" y="89"/>
                  </a:lnTo>
                  <a:lnTo>
                    <a:pt x="13" y="72"/>
                  </a:lnTo>
                  <a:lnTo>
                    <a:pt x="18" y="70"/>
                  </a:lnTo>
                  <a:lnTo>
                    <a:pt x="17" y="59"/>
                  </a:lnTo>
                  <a:lnTo>
                    <a:pt x="25" y="49"/>
                  </a:lnTo>
                  <a:lnTo>
                    <a:pt x="31" y="45"/>
                  </a:lnTo>
                  <a:lnTo>
                    <a:pt x="39" y="30"/>
                  </a:lnTo>
                  <a:lnTo>
                    <a:pt x="45" y="28"/>
                  </a:lnTo>
                  <a:lnTo>
                    <a:pt x="56" y="9"/>
                  </a:lnTo>
                  <a:lnTo>
                    <a:pt x="62" y="9"/>
                  </a:lnTo>
                  <a:lnTo>
                    <a:pt x="63" y="6"/>
                  </a:lnTo>
                  <a:lnTo>
                    <a:pt x="69" y="7"/>
                  </a:lnTo>
                  <a:lnTo>
                    <a:pt x="70" y="3"/>
                  </a:lnTo>
                  <a:lnTo>
                    <a:pt x="70" y="1"/>
                  </a:lnTo>
                  <a:lnTo>
                    <a:pt x="72" y="0"/>
                  </a:lnTo>
                  <a:lnTo>
                    <a:pt x="72" y="0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324496"/>
              </a:solidFill>
            </a:ln>
            <a:effectLst>
              <a:outerShdw dist="36147" dir="2700000" blurRad="0" rotWithShape="0">
                <a:srgbClr val="1c275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84520" y="369720"/>
              <a:ext cx="2528640" cy="1825920"/>
            </a:xfrm>
            <a:custGeom>
              <a:avLst/>
              <a:gdLst/>
              <a:ahLst/>
              <a:rect l="l" t="t" r="r" b="b"/>
              <a:pathLst>
                <a:path w="144" h="105">
                  <a:moveTo>
                    <a:pt x="31" y="102"/>
                  </a:moveTo>
                  <a:lnTo>
                    <a:pt x="29" y="98"/>
                  </a:lnTo>
                  <a:lnTo>
                    <a:pt x="23" y="100"/>
                  </a:lnTo>
                  <a:lnTo>
                    <a:pt x="20" y="98"/>
                  </a:lnTo>
                  <a:lnTo>
                    <a:pt x="14" y="105"/>
                  </a:lnTo>
                  <a:lnTo>
                    <a:pt x="6" y="103"/>
                  </a:lnTo>
                  <a:lnTo>
                    <a:pt x="0" y="98"/>
                  </a:lnTo>
                  <a:lnTo>
                    <a:pt x="3" y="83"/>
                  </a:lnTo>
                  <a:lnTo>
                    <a:pt x="8" y="76"/>
                  </a:lnTo>
                  <a:lnTo>
                    <a:pt x="8" y="73"/>
                  </a:lnTo>
                  <a:lnTo>
                    <a:pt x="20" y="58"/>
                  </a:lnTo>
                  <a:lnTo>
                    <a:pt x="32" y="57"/>
                  </a:lnTo>
                  <a:lnTo>
                    <a:pt x="63" y="38"/>
                  </a:lnTo>
                  <a:lnTo>
                    <a:pt x="65" y="32"/>
                  </a:lnTo>
                  <a:lnTo>
                    <a:pt x="75" y="27"/>
                  </a:lnTo>
                  <a:lnTo>
                    <a:pt x="75" y="21"/>
                  </a:lnTo>
                  <a:lnTo>
                    <a:pt x="83" y="21"/>
                  </a:lnTo>
                  <a:lnTo>
                    <a:pt x="80" y="17"/>
                  </a:lnTo>
                  <a:lnTo>
                    <a:pt x="76" y="19"/>
                  </a:lnTo>
                  <a:lnTo>
                    <a:pt x="78" y="14"/>
                  </a:lnTo>
                  <a:lnTo>
                    <a:pt x="83" y="17"/>
                  </a:lnTo>
                  <a:lnTo>
                    <a:pt x="91" y="9"/>
                  </a:lnTo>
                  <a:lnTo>
                    <a:pt x="102" y="8"/>
                  </a:lnTo>
                  <a:lnTo>
                    <a:pt x="104" y="10"/>
                  </a:lnTo>
                  <a:lnTo>
                    <a:pt x="124" y="0"/>
                  </a:lnTo>
                  <a:lnTo>
                    <a:pt x="119" y="9"/>
                  </a:lnTo>
                  <a:lnTo>
                    <a:pt x="121" y="9"/>
                  </a:lnTo>
                  <a:lnTo>
                    <a:pt x="124" y="4"/>
                  </a:lnTo>
                  <a:lnTo>
                    <a:pt x="126" y="8"/>
                  </a:lnTo>
                  <a:lnTo>
                    <a:pt x="129" y="4"/>
                  </a:lnTo>
                  <a:lnTo>
                    <a:pt x="133" y="4"/>
                  </a:lnTo>
                  <a:lnTo>
                    <a:pt x="131" y="10"/>
                  </a:lnTo>
                  <a:lnTo>
                    <a:pt x="140" y="10"/>
                  </a:lnTo>
                  <a:lnTo>
                    <a:pt x="144" y="14"/>
                  </a:lnTo>
                  <a:lnTo>
                    <a:pt x="136" y="15"/>
                  </a:lnTo>
                  <a:lnTo>
                    <a:pt x="140" y="19"/>
                  </a:lnTo>
                  <a:lnTo>
                    <a:pt x="133" y="21"/>
                  </a:lnTo>
                  <a:lnTo>
                    <a:pt x="129" y="17"/>
                  </a:lnTo>
                  <a:lnTo>
                    <a:pt x="123" y="15"/>
                  </a:lnTo>
                  <a:lnTo>
                    <a:pt x="120" y="21"/>
                  </a:lnTo>
                  <a:lnTo>
                    <a:pt x="116" y="22"/>
                  </a:lnTo>
                  <a:lnTo>
                    <a:pt x="106" y="21"/>
                  </a:lnTo>
                  <a:lnTo>
                    <a:pt x="102" y="16"/>
                  </a:lnTo>
                  <a:lnTo>
                    <a:pt x="96" y="18"/>
                  </a:lnTo>
                  <a:lnTo>
                    <a:pt x="97" y="20"/>
                  </a:lnTo>
                  <a:lnTo>
                    <a:pt x="96" y="23"/>
                  </a:lnTo>
                  <a:lnTo>
                    <a:pt x="91" y="23"/>
                  </a:lnTo>
                  <a:lnTo>
                    <a:pt x="89" y="26"/>
                  </a:lnTo>
                  <a:lnTo>
                    <a:pt x="83" y="26"/>
                  </a:lnTo>
                  <a:lnTo>
                    <a:pt x="72" y="44"/>
                  </a:lnTo>
                  <a:lnTo>
                    <a:pt x="66" y="47"/>
                  </a:lnTo>
                  <a:lnTo>
                    <a:pt x="58" y="62"/>
                  </a:lnTo>
                  <a:lnTo>
                    <a:pt x="52" y="66"/>
                  </a:lnTo>
                  <a:lnTo>
                    <a:pt x="44" y="76"/>
                  </a:lnTo>
                  <a:lnTo>
                    <a:pt x="45" y="87"/>
                  </a:lnTo>
                  <a:lnTo>
                    <a:pt x="40" y="90"/>
                  </a:lnTo>
                  <a:lnTo>
                    <a:pt x="31" y="102"/>
                  </a:lnTo>
                  <a:lnTo>
                    <a:pt x="31" y="102"/>
                  </a:lnTo>
                </a:path>
              </a:pathLst>
            </a:custGeom>
            <a:solidFill>
              <a:srgbClr val="340d71"/>
            </a:solidFill>
            <a:ln w="0">
              <a:solidFill>
                <a:srgbClr val="324496"/>
              </a:solidFill>
            </a:ln>
            <a:effectLst>
              <a:outerShdw dist="36147" dir="2700000" blurRad="0" rotWithShape="0">
                <a:srgbClr val="1c2754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905280" y="3395520"/>
            <a:ext cx="88920" cy="103320"/>
          </a:xfrm>
          <a:custGeom>
            <a:avLst/>
            <a:gdLst/>
            <a:ahLst/>
            <a:rect l="l" t="t" r="r" b="b"/>
            <a:pathLst>
              <a:path w="5" h="6">
                <a:moveTo>
                  <a:pt x="4" y="0"/>
                </a:moveTo>
                <a:lnTo>
                  <a:pt x="1" y="0"/>
                </a:lnTo>
                <a:lnTo>
                  <a:pt x="0" y="2"/>
                </a:lnTo>
                <a:lnTo>
                  <a:pt x="1" y="3"/>
                </a:lnTo>
                <a:lnTo>
                  <a:pt x="0" y="4"/>
                </a:lnTo>
                <a:lnTo>
                  <a:pt x="0" y="5"/>
                </a:lnTo>
                <a:lnTo>
                  <a:pt x="3" y="6"/>
                </a:lnTo>
                <a:lnTo>
                  <a:pt x="5" y="4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00a8ec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151160" y="4110120"/>
            <a:ext cx="54000" cy="68040"/>
          </a:xfrm>
          <a:custGeom>
            <a:avLst/>
            <a:gdLst/>
            <a:ahLst/>
            <a:rect l="l" t="t" r="r" b="b"/>
            <a:pathLst>
              <a:path w="3" h="4">
                <a:moveTo>
                  <a:pt x="0" y="0"/>
                </a:moveTo>
                <a:lnTo>
                  <a:pt x="1" y="4"/>
                </a:lnTo>
                <a:lnTo>
                  <a:pt x="3" y="4"/>
                </a:lnTo>
                <a:lnTo>
                  <a:pt x="3" y="2"/>
                </a:lnTo>
                <a:lnTo>
                  <a:pt x="2" y="1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tIns="22320" bIns="22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00920" y="2386080"/>
            <a:ext cx="422280" cy="436320"/>
          </a:xfrm>
          <a:custGeom>
            <a:avLst/>
            <a:gdLst/>
            <a:ahLst/>
            <a:rect l="l" t="t" r="r" b="b"/>
            <a:pathLst>
              <a:path w="24" h="25">
                <a:moveTo>
                  <a:pt x="19" y="25"/>
                </a:moveTo>
                <a:lnTo>
                  <a:pt x="19" y="21"/>
                </a:lnTo>
                <a:lnTo>
                  <a:pt x="21" y="17"/>
                </a:lnTo>
                <a:lnTo>
                  <a:pt x="21" y="11"/>
                </a:lnTo>
                <a:lnTo>
                  <a:pt x="24" y="8"/>
                </a:lnTo>
                <a:lnTo>
                  <a:pt x="24" y="6"/>
                </a:lnTo>
                <a:lnTo>
                  <a:pt x="23" y="3"/>
                </a:lnTo>
                <a:lnTo>
                  <a:pt x="16" y="0"/>
                </a:lnTo>
                <a:lnTo>
                  <a:pt x="5" y="1"/>
                </a:lnTo>
                <a:lnTo>
                  <a:pt x="0" y="5"/>
                </a:lnTo>
                <a:lnTo>
                  <a:pt x="1" y="13"/>
                </a:lnTo>
                <a:lnTo>
                  <a:pt x="5" y="12"/>
                </a:lnTo>
                <a:lnTo>
                  <a:pt x="4" y="15"/>
                </a:lnTo>
                <a:lnTo>
                  <a:pt x="10" y="18"/>
                </a:lnTo>
                <a:lnTo>
                  <a:pt x="10" y="21"/>
                </a:lnTo>
                <a:lnTo>
                  <a:pt x="19" y="25"/>
                </a:lnTo>
                <a:lnTo>
                  <a:pt x="19" y="25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49600" y="4405320"/>
            <a:ext cx="403560" cy="120600"/>
          </a:xfrm>
          <a:custGeom>
            <a:avLst/>
            <a:gdLst/>
            <a:ahLst/>
            <a:rect l="l" t="t" r="r" b="b"/>
            <a:pathLst>
              <a:path w="23" h="7">
                <a:moveTo>
                  <a:pt x="0" y="7"/>
                </a:moveTo>
                <a:lnTo>
                  <a:pt x="12" y="7"/>
                </a:lnTo>
                <a:lnTo>
                  <a:pt x="19" y="4"/>
                </a:lnTo>
                <a:lnTo>
                  <a:pt x="23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49840" y="4614840"/>
            <a:ext cx="261720" cy="555480"/>
          </a:xfrm>
          <a:custGeom>
            <a:avLst/>
            <a:gdLst/>
            <a:ahLst/>
            <a:rect l="l" t="t" r="r" b="b"/>
            <a:pathLst>
              <a:path w="15" h="32">
                <a:moveTo>
                  <a:pt x="4" y="32"/>
                </a:moveTo>
                <a:lnTo>
                  <a:pt x="6" y="30"/>
                </a:lnTo>
                <a:lnTo>
                  <a:pt x="0" y="10"/>
                </a:lnTo>
                <a:lnTo>
                  <a:pt x="1" y="6"/>
                </a:lnTo>
                <a:lnTo>
                  <a:pt x="4" y="6"/>
                </a:lnTo>
                <a:lnTo>
                  <a:pt x="15" y="6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853160" y="4718160"/>
            <a:ext cx="230040" cy="417240"/>
          </a:xfrm>
          <a:custGeom>
            <a:avLst/>
            <a:gdLst/>
            <a:ahLst/>
            <a:rect l="l" t="t" r="r" b="b"/>
            <a:pathLst>
              <a:path w="13" h="24">
                <a:moveTo>
                  <a:pt x="9" y="0"/>
                </a:moveTo>
                <a:lnTo>
                  <a:pt x="12" y="7"/>
                </a:lnTo>
                <a:lnTo>
                  <a:pt x="13" y="12"/>
                </a:lnTo>
                <a:lnTo>
                  <a:pt x="10" y="19"/>
                </a:lnTo>
                <a:lnTo>
                  <a:pt x="0" y="24"/>
                </a:lnTo>
              </a:path>
            </a:pathLst>
          </a:custGeom>
          <a:noFill/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18120" y="5327640"/>
            <a:ext cx="209520" cy="33480"/>
          </a:xfrm>
          <a:prstGeom prst="line">
            <a:avLst/>
          </a:prstGeom>
          <a:ln w="0">
            <a:solidFill>
              <a:srgbClr val="324496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100480" y="5327640"/>
            <a:ext cx="351000" cy="293760"/>
          </a:xfrm>
          <a:custGeom>
            <a:avLst/>
            <a:gdLst/>
            <a:ahLst/>
            <a:rect l="l" t="t" r="r" b="b"/>
            <a:pathLst>
              <a:path w="20" h="17">
                <a:moveTo>
                  <a:pt x="1" y="0"/>
                </a:moveTo>
                <a:lnTo>
                  <a:pt x="13" y="2"/>
                </a:lnTo>
                <a:lnTo>
                  <a:pt x="20" y="11"/>
                </a:lnTo>
                <a:lnTo>
                  <a:pt x="16" y="17"/>
                </a:lnTo>
                <a:lnTo>
                  <a:pt x="3" y="17"/>
                </a:lnTo>
                <a:lnTo>
                  <a:pt x="3" y="15"/>
                </a:lnTo>
                <a:lnTo>
                  <a:pt x="0" y="14"/>
                </a:lnTo>
                <a:lnTo>
                  <a:pt x="1" y="0"/>
                </a:lnTo>
              </a:path>
            </a:pathLst>
          </a:custGeom>
          <a:solidFill>
            <a:srgbClr val="340d71"/>
          </a:solidFill>
          <a:ln w="0">
            <a:solidFill>
              <a:srgbClr val="324496"/>
            </a:solidFill>
          </a:ln>
          <a:effectLst>
            <a:outerShdw dist="36147" dir="2700000" blurRad="0" rotWithShape="0">
              <a:srgbClr val="1c2754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197" name=""/>
          <p:cNvCxnSpPr>
            <a:stCxn id="198" idx="0"/>
            <a:endCxn id="199" idx="3"/>
          </p:cNvCxnSpPr>
          <p:nvPr/>
        </p:nvCxnSpPr>
        <p:spPr>
          <a:xfrm flipV="1" rot="16200000">
            <a:off x="1982160" y="659520"/>
            <a:ext cx="1708920" cy="27151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199" name=""/>
          <p:cNvSpPr/>
          <p:nvPr/>
        </p:nvSpPr>
        <p:spPr>
          <a:xfrm>
            <a:off x="139680" y="930240"/>
            <a:ext cx="13399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Holand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4 683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891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00" name=""/>
          <p:cNvCxnSpPr>
            <a:stCxn id="201" idx="0"/>
            <a:endCxn id="202" idx="3"/>
          </p:cNvCxnSpPr>
          <p:nvPr/>
        </p:nvCxnSpPr>
        <p:spPr>
          <a:xfrm flipV="1" rot="16200000">
            <a:off x="1905120" y="1257480"/>
            <a:ext cx="1291320" cy="24771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02" name=""/>
          <p:cNvSpPr/>
          <p:nvPr/>
        </p:nvSpPr>
        <p:spPr>
          <a:xfrm>
            <a:off x="136440" y="1617840"/>
            <a:ext cx="117648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Belg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2 887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958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20600" y="2727360"/>
            <a:ext cx="10764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Francj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4 947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493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1240" y="3435480"/>
            <a:ext cx="1065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Portugal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618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62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9920" y="5427720"/>
            <a:ext cx="109224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Włoch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3 285 MW</a:t>
            </a:r>
            <a:br>
              <a:rPr sz="1000"/>
            </a:br>
            <a:r>
              <a:rPr b="1" i="1" lang="pl-PL" sz="1000" spc="-1" strike="noStrike">
                <a:solidFill>
                  <a:srgbClr val="00a8ec"/>
                </a:solidFill>
                <a:latin typeface="Verdana"/>
              </a:rPr>
              <a:t>+ 280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650000" y="3693960"/>
            <a:ext cx="13208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Węgr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 681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650000" y="3216240"/>
            <a:ext cx="13417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Polsk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1 654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643880" y="2735280"/>
            <a:ext cx="11890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Niemcy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267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4480" y="2232000"/>
            <a:ext cx="143964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Luksemburg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376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10" name=""/>
          <p:cNvCxnSpPr>
            <a:stCxn id="211" idx="2"/>
            <a:endCxn id="209" idx="3"/>
          </p:cNvCxnSpPr>
          <p:nvPr/>
        </p:nvCxnSpPr>
        <p:spPr>
          <a:xfrm rot="10800000">
            <a:off x="1553400" y="2471040"/>
            <a:ext cx="2243880" cy="1031040"/>
          </a:xfrm>
          <a:prstGeom prst="bentConnector3">
            <a:avLst>
              <a:gd name="adj1" fmla="val 50032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2" name=""/>
          <p:cNvCxnSpPr>
            <a:stCxn id="213" idx="2"/>
            <a:endCxn id="203" idx="3"/>
          </p:cNvCxnSpPr>
          <p:nvPr/>
        </p:nvCxnSpPr>
        <p:spPr>
          <a:xfrm rot="10800000">
            <a:off x="1197000" y="3055320"/>
            <a:ext cx="2132280" cy="969120"/>
          </a:xfrm>
          <a:prstGeom prst="bentConnector3">
            <a:avLst>
              <a:gd name="adj1" fmla="val 49966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4" name=""/>
          <p:cNvCxnSpPr>
            <a:stCxn id="215" idx="0"/>
            <a:endCxn id="204" idx="3"/>
          </p:cNvCxnSpPr>
          <p:nvPr/>
        </p:nvCxnSpPr>
        <p:spPr>
          <a:xfrm flipV="1" rot="16200000">
            <a:off x="1039320" y="3893760"/>
            <a:ext cx="411840" cy="1386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6" name=""/>
          <p:cNvCxnSpPr>
            <a:stCxn id="217" idx="4"/>
            <a:endCxn id="205" idx="3"/>
          </p:cNvCxnSpPr>
          <p:nvPr/>
        </p:nvCxnSpPr>
        <p:spPr>
          <a:xfrm rot="5400000">
            <a:off x="2512440" y="4068720"/>
            <a:ext cx="430920" cy="2932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18" name=""/>
          <p:cNvCxnSpPr>
            <a:stCxn id="219" idx="6"/>
            <a:endCxn id="206" idx="1"/>
          </p:cNvCxnSpPr>
          <p:nvPr/>
        </p:nvCxnSpPr>
        <p:spPr>
          <a:xfrm flipV="1">
            <a:off x="5346720" y="3933000"/>
            <a:ext cx="2304000" cy="451800"/>
          </a:xfrm>
          <a:prstGeom prst="bentConnector3">
            <a:avLst>
              <a:gd name="adj1" fmla="val 49960"/>
            </a:avLst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20" name=""/>
          <p:cNvCxnSpPr>
            <a:stCxn id="221" idx="0"/>
            <a:endCxn id="207" idx="1"/>
          </p:cNvCxnSpPr>
          <p:nvPr/>
        </p:nvCxnSpPr>
        <p:spPr>
          <a:xfrm flipH="1" flipV="1" rot="5400000">
            <a:off x="6430320" y="2515680"/>
            <a:ext cx="280080" cy="21596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cxnSp>
        <p:nvCxnSpPr>
          <p:cNvPr id="222" name=""/>
          <p:cNvCxnSpPr>
            <a:stCxn id="223" idx="0"/>
            <a:endCxn id="208" idx="1"/>
          </p:cNvCxnSpPr>
          <p:nvPr/>
        </p:nvCxnSpPr>
        <p:spPr>
          <a:xfrm flipH="1" flipV="1" rot="5400000">
            <a:off x="5970240" y="1629720"/>
            <a:ext cx="329040" cy="30186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19" name=""/>
          <p:cNvSpPr/>
          <p:nvPr/>
        </p:nvSpPr>
        <p:spPr>
          <a:xfrm>
            <a:off x="5059440" y="424008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049640" y="503244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645000" y="3141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70000" y="41688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46720" y="37353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97280" y="3357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49640" y="2871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481640" y="33037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328920" y="387972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 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ytwarzanie w Europi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7320" y="4906800"/>
            <a:ext cx="10918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Hiszpania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790 MW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31920" y="41688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227" name=""/>
          <p:cNvCxnSpPr>
            <a:stCxn id="226" idx="4"/>
            <a:endCxn id="225" idx="3"/>
          </p:cNvCxnSpPr>
          <p:nvPr/>
        </p:nvCxnSpPr>
        <p:spPr>
          <a:xfrm rot="5400000">
            <a:off x="1375560" y="4329000"/>
            <a:ext cx="774000" cy="10281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228" name=""/>
          <p:cNvSpPr/>
          <p:nvPr/>
        </p:nvSpPr>
        <p:spPr>
          <a:xfrm>
            <a:off x="7053120" y="4316400"/>
            <a:ext cx="1968480" cy="787320"/>
          </a:xfrm>
          <a:prstGeom prst="flowChartAlternateProcess">
            <a:avLst/>
          </a:prstGeom>
          <a:solidFill>
            <a:srgbClr val="32449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24496"/>
                </a:solidFill>
                <a:latin typeface="Verdana"/>
              </a:rPr>
              <a:t>31 187 MW</a:t>
            </a:r>
            <a:br>
              <a:rPr sz="2000"/>
            </a:b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działające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507440" y="5972040"/>
            <a:ext cx="1375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324496"/>
                </a:solidFill>
                <a:latin typeface="Verdana"/>
              </a:rPr>
              <a:t>na koniec </a:t>
            </a:r>
            <a:r>
              <a:rPr b="1" lang="pl-PL" sz="1000" spc="-1" strike="noStrike">
                <a:solidFill>
                  <a:srgbClr val="324496"/>
                </a:solidFill>
                <a:latin typeface="Verdana"/>
              </a:rPr>
              <a:t>2007</a:t>
            </a:r>
            <a:r>
              <a:rPr b="0" lang="pl-PL" sz="1000" spc="-1" strike="noStrike">
                <a:solidFill>
                  <a:srgbClr val="324496"/>
                </a:solidFill>
                <a:latin typeface="Verdana"/>
              </a:rPr>
              <a:t> roku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53120" y="5151600"/>
            <a:ext cx="1973520" cy="782640"/>
          </a:xfrm>
          <a:prstGeom prst="flowChartAlternateProcess">
            <a:avLst/>
          </a:prstGeom>
          <a:solidFill>
            <a:srgbClr val="00a8e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126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000" spc="-1" strike="noStrike">
                <a:solidFill>
                  <a:srgbClr val="006699"/>
                </a:solidFill>
                <a:latin typeface="Verdana"/>
              </a:rPr>
              <a:t>2 684 MW </a:t>
            </a:r>
            <a:br>
              <a:rPr sz="2000"/>
            </a:br>
            <a:r>
              <a:rPr b="1" i="1" lang="pl-PL" sz="1000" spc="-1" strike="noStrike">
                <a:solidFill>
                  <a:srgbClr val="006699"/>
                </a:solidFill>
                <a:latin typeface="Verdana"/>
              </a:rPr>
              <a:t>w budowie</a:t>
            </a:r>
            <a:endParaRPr b="0" lang="en-US" sz="10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140440" y="117360"/>
            <a:ext cx="3879720" cy="2540160"/>
          </a:xfrm>
          <a:prstGeom prst="flowChartAlternateProcess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5351400" y="3240"/>
          <a:ext cx="3446640" cy="25891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51400" y="3240"/>
                    <a:ext cx="3446640" cy="25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B878-A62C-4A41-B933-C2AFFDEFDA2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Fuzja SUEZ z Gaz de Fran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95240" y="1584000"/>
            <a:ext cx="7873920" cy="37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-29196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Dzięki fuzji powstał </a:t>
            </a:r>
            <a:r>
              <a:rPr b="1" lang="pl-PL" sz="1200" spc="-1" strike="noStrike">
                <a:solidFill>
                  <a:srgbClr val="324496"/>
                </a:solidFill>
                <a:latin typeface="Verdana"/>
              </a:rPr>
              <a:t>GDF SUEZ</a:t>
            </a: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, światowy lider energetyczny, z przychodami na poziomie 74 miliardów EUR, zatrudniający196 500 pracowników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na rynku gazu ziemnego w Europie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kupiec i dostawca gazu ziemnego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Operator największej sieci dystrybucji i przesyłu gazu ziemnego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Drugi największy operator magazynowy gazu ziemnego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w energii elektrycznej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Piąty dostawca i wytwórca energii w Europie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niezależny wytwórca energii (IPP) na świecie, z silnymi pozycjami w USA, Brazylii, Tajlandii i na Bliskim Wschodzie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Światowy lider na rynku gazu skroplonego (LNG):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w Europie kupiec i importer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Największy operator terminali morskich LNG,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3" marL="1641600" indent="-19080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Verdana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Lider na rynku atlantyckim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  <a:p>
            <a:pPr lvl="1" marL="812880" indent="-330120">
              <a:lnSpc>
                <a:spcPct val="100000"/>
              </a:lnSpc>
              <a:spcBef>
                <a:spcPts val="601"/>
              </a:spcBef>
              <a:buClr>
                <a:srgbClr val="00a8e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324496"/>
                </a:solidFill>
                <a:latin typeface="Verdana"/>
              </a:rPr>
              <a:t>Europejski lider w usługach energetycznych.</a:t>
            </a:r>
            <a:endParaRPr b="0" lang="en-US" sz="1200" spc="-1" strike="noStrike">
              <a:solidFill>
                <a:srgbClr val="324496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367240" y="192240"/>
            <a:ext cx="3065400" cy="961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F275-D10E-4867-BBD5-2419086E77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582560" y="682560"/>
            <a:ext cx="5185080" cy="495792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135000" y="3313080"/>
            <a:ext cx="1455840" cy="223524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acd2e0"/>
            </a:outerShdw>
          </a:effectLst>
        </p:spPr>
      </p:pic>
      <p:pic>
        <p:nvPicPr>
          <p:cNvPr id="239" name="" descr=""/>
          <p:cNvPicPr/>
          <p:nvPr/>
        </p:nvPicPr>
        <p:blipFill>
          <a:blip r:embed="rId4"/>
          <a:stretch/>
        </p:blipFill>
        <p:spPr>
          <a:xfrm>
            <a:off x="5689440" y="136440"/>
            <a:ext cx="3310200" cy="2386080"/>
          </a:xfrm>
          <a:prstGeom prst="rect">
            <a:avLst/>
          </a:prstGeom>
          <a:ln w="0">
            <a:noFill/>
          </a:ln>
          <a:effectLst>
            <a:outerShdw dist="53966" dir="2700000" blurRad="0" rotWithShape="0">
              <a:srgbClr val="acd2e0"/>
            </a:outerShdw>
          </a:effectLst>
        </p:spPr>
      </p:pic>
      <p:sp>
        <p:nvSpPr>
          <p:cNvPr id="240" name=""/>
          <p:cNvSpPr/>
          <p:nvPr/>
        </p:nvSpPr>
        <p:spPr>
          <a:xfrm>
            <a:off x="150840" y="5653080"/>
            <a:ext cx="2965320" cy="539640"/>
          </a:xfrm>
          <a:solidFill>
            <a:srgbClr val="99ccff">
              <a:alpha val="67000"/>
            </a:srgbClr>
          </a:solidFill>
          <a:ln w="19080">
            <a:solidFill>
              <a:srgbClr val="00a8ec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Biuro Marketingu i Sprzedaży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Katowice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778360" y="2787480"/>
            <a:ext cx="3238560" cy="3362400"/>
          </a:xfrm>
          <a:solidFill>
            <a:srgbClr val="99ccff">
              <a:alpha val="67000"/>
            </a:srgbClr>
          </a:solidFill>
          <a:ln w="19080">
            <a:solidFill>
              <a:srgbClr val="00a8ec"/>
            </a:solidFill>
            <a:miter/>
            <a:headEnd len="lg" type="oval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Autofit/>
          </a:bodyPr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Electrabel Polska S.A.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Połaniec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Moc zainstalowana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1800 MW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brutto (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1654 MW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netto)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, 8 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bloków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po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225 MW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Paliwo: 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węgiel</a:t>
            </a: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 kamienny współspalany z </a:t>
            </a:r>
            <a:r>
              <a:rPr b="1" lang="pl-PL" sz="1300" spc="-1" strike="noStrike">
                <a:solidFill>
                  <a:srgbClr val="60993a"/>
                </a:solidFill>
                <a:latin typeface="Arial"/>
              </a:rPr>
              <a:t>biomasą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Otwarty obieg chłodzenia – woda z Wisły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Instalacja odsiarczania spalin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Sprawność brutto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38,7%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Dyspozycyjność</a:t>
            </a:r>
            <a:r>
              <a:rPr b="0" lang="en-US" sz="1300" spc="-1" strike="noStrike">
                <a:solidFill>
                  <a:srgbClr val="324496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324496"/>
                </a:solidFill>
                <a:latin typeface="Arial"/>
              </a:rPr>
              <a:t>94%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  <a:p>
            <a:pPr marL="182520" indent="-182520">
              <a:spcBef>
                <a:spcPts val="326"/>
              </a:spcBef>
              <a:buClr>
                <a:srgbClr val="324496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324496"/>
                </a:solidFill>
                <a:latin typeface="Arial"/>
              </a:rPr>
              <a:t>Zatrudnienie: </a:t>
            </a:r>
            <a:r>
              <a:rPr b="1" lang="pl-PL" sz="1300" spc="-1" strike="noStrike">
                <a:solidFill>
                  <a:srgbClr val="324496"/>
                </a:solidFill>
                <a:latin typeface="Arial"/>
              </a:rPr>
              <a:t>482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 Pols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0FF6-41A1-47CB-86FB-D139472461BC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6094440" y="1222200"/>
            <a:ext cx="3290760" cy="27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Wolumen 2007 [TWh]: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  <a:p>
            <a:pPr marL="291960" indent="-291960">
              <a:spcBef>
                <a:spcPts val="1049"/>
              </a:spcBef>
              <a:buClr>
                <a:srgbClr val="00a8ec"/>
              </a:buClr>
              <a:buSzPct val="6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324496"/>
                </a:solidFill>
                <a:latin typeface="Arial"/>
              </a:rPr>
              <a:t>Liczba klientów 2007: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853416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Electrabel w skrócie.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Pozycja na rynku TPA w Polsce.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graphicFrame>
        <p:nvGraphicFramePr>
          <p:cNvPr id="245" name=""/>
          <p:cNvGraphicFramePr/>
          <p:nvPr/>
        </p:nvGraphicFramePr>
        <p:xfrm>
          <a:off x="5862600" y="1366920"/>
          <a:ext cx="3390840" cy="23889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2600" y="1366920"/>
                    <a:ext cx="3390840" cy="23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57200" y="4114800"/>
          <a:ext cx="5251320" cy="1731960"/>
        </p:xfrm>
        <a:graphic>
          <a:graphicData uri="http://schemas.openxmlformats.org/drawingml/2006/table">
            <a:tbl>
              <a:tblPr/>
              <a:tblGrid>
                <a:gridCol w="657000"/>
                <a:gridCol w="654120"/>
                <a:gridCol w="657000"/>
                <a:gridCol w="657360"/>
                <a:gridCol w="657000"/>
                <a:gridCol w="654480"/>
                <a:gridCol w="657000"/>
                <a:gridCol w="657360"/>
              </a:tblGrid>
              <a:tr h="173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a8ec"/>
                      </a:solidFill>
                    </a:lnL>
                    <a:lnR w="5760">
                      <a:solidFill>
                        <a:srgbClr val="00a8ec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-12600" y="1015920"/>
          <a:ext cx="6121440" cy="33656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-12600" y="1015920"/>
                    <a:ext cx="6121440" cy="336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6"/>
          <a:stretch/>
        </p:blipFill>
        <p:spPr>
          <a:xfrm>
            <a:off x="4389480" y="4729320"/>
            <a:ext cx="657360" cy="38412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7"/>
          <a:stretch/>
        </p:blipFill>
        <p:spPr>
          <a:xfrm>
            <a:off x="4543560" y="4376880"/>
            <a:ext cx="330120" cy="3078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8"/>
          <a:stretch/>
        </p:blipFill>
        <p:spPr>
          <a:xfrm>
            <a:off x="3205080" y="4362480"/>
            <a:ext cx="360360" cy="336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9"/>
          <a:stretch/>
        </p:blipFill>
        <p:spPr>
          <a:xfrm>
            <a:off x="2546280" y="5500800"/>
            <a:ext cx="422280" cy="28404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10"/>
          <a:stretch/>
        </p:blipFill>
        <p:spPr>
          <a:xfrm>
            <a:off x="2576520" y="4871880"/>
            <a:ext cx="317520" cy="195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11"/>
          <a:stretch/>
        </p:blipFill>
        <p:spPr>
          <a:xfrm>
            <a:off x="1798560" y="4857840"/>
            <a:ext cx="609840" cy="1047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12"/>
          <a:stretch/>
        </p:blipFill>
        <p:spPr>
          <a:xfrm>
            <a:off x="2475000" y="4511520"/>
            <a:ext cx="253800" cy="31608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13"/>
          <a:stretch/>
        </p:blipFill>
        <p:spPr>
          <a:xfrm>
            <a:off x="2735280" y="4519440"/>
            <a:ext cx="320760" cy="30816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14"/>
          <a:stretch/>
        </p:blipFill>
        <p:spPr>
          <a:xfrm>
            <a:off x="1860480" y="4336920"/>
            <a:ext cx="515880" cy="471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15"/>
          <a:stretch/>
        </p:blipFill>
        <p:spPr>
          <a:xfrm>
            <a:off x="1243080" y="4381560"/>
            <a:ext cx="423720" cy="29988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16"/>
          <a:stretch/>
        </p:blipFill>
        <p:spPr>
          <a:xfrm>
            <a:off x="2568600" y="5114880"/>
            <a:ext cx="338040" cy="33012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17"/>
          <a:stretch/>
        </p:blipFill>
        <p:spPr>
          <a:xfrm>
            <a:off x="2460600" y="4375080"/>
            <a:ext cx="555480" cy="7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2" name=""/>
          <p:cNvGraphicFramePr/>
          <p:nvPr/>
        </p:nvGraphicFramePr>
        <p:xfrm>
          <a:off x="5875200" y="3913200"/>
          <a:ext cx="3461040" cy="1779480"/>
        </p:xfrm>
        <a:graphic>
          <a:graphicData uri="http://schemas.openxmlformats.org/presentationml/2006/ole">
            <p:oleObj progId="Excel.Sheet.12" r:id="rId18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5875200" y="3913200"/>
                    <a:ext cx="346104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4" name=""/>
          <p:cNvSpPr/>
          <p:nvPr/>
        </p:nvSpPr>
        <p:spPr>
          <a:xfrm>
            <a:off x="8196120" y="5975280"/>
            <a:ext cx="741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800" spc="-1" strike="noStrike">
                <a:solidFill>
                  <a:srgbClr val="324496"/>
                </a:solidFill>
                <a:latin typeface="Arial"/>
              </a:rPr>
              <a:t>Źródło: URE</a:t>
            </a:r>
            <a:endParaRPr b="0" lang="en-US" sz="8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CEF9-AE61-4411-8320-AA4670A186E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2720520" y="5148360"/>
            <a:ext cx="6094440" cy="493200"/>
            <a:chOff x="2720520" y="5148360"/>
            <a:chExt cx="6094440" cy="493200"/>
          </a:xfrm>
        </p:grpSpPr>
        <p:sp>
          <p:nvSpPr>
            <p:cNvPr id="266" name=""/>
            <p:cNvSpPr/>
            <p:nvPr/>
          </p:nvSpPr>
          <p:spPr>
            <a:xfrm rot="5400000">
              <a:off x="2836080" y="5032440"/>
              <a:ext cx="71640" cy="303120"/>
            </a:xfrm>
            <a:custGeom>
              <a:avLst/>
              <a:gdLst/>
              <a:ahLst/>
              <a:rect l="l" t="t" r="r" b="b"/>
              <a:pathLst>
                <a:path w="672" h="813">
                  <a:moveTo>
                    <a:pt x="0" y="805"/>
                  </a:moveTo>
                  <a:lnTo>
                    <a:pt x="22" y="772"/>
                  </a:lnTo>
                  <a:lnTo>
                    <a:pt x="43" y="738"/>
                  </a:lnTo>
                  <a:lnTo>
                    <a:pt x="64" y="705"/>
                  </a:lnTo>
                  <a:lnTo>
                    <a:pt x="85" y="670"/>
                  </a:lnTo>
                  <a:lnTo>
                    <a:pt x="123" y="602"/>
                  </a:lnTo>
                  <a:lnTo>
                    <a:pt x="161" y="535"/>
                  </a:lnTo>
                  <a:lnTo>
                    <a:pt x="198" y="470"/>
                  </a:lnTo>
                  <a:lnTo>
                    <a:pt x="235" y="406"/>
                  </a:lnTo>
                  <a:lnTo>
                    <a:pt x="254" y="376"/>
                  </a:lnTo>
                  <a:lnTo>
                    <a:pt x="274" y="346"/>
                  </a:lnTo>
                  <a:lnTo>
                    <a:pt x="294" y="317"/>
                  </a:lnTo>
                  <a:lnTo>
                    <a:pt x="315" y="289"/>
                  </a:lnTo>
                  <a:lnTo>
                    <a:pt x="330" y="292"/>
                  </a:lnTo>
                  <a:lnTo>
                    <a:pt x="344" y="295"/>
                  </a:lnTo>
                  <a:lnTo>
                    <a:pt x="360" y="299"/>
                  </a:lnTo>
                  <a:lnTo>
                    <a:pt x="376" y="302"/>
                  </a:lnTo>
                  <a:lnTo>
                    <a:pt x="392" y="304"/>
                  </a:lnTo>
                  <a:lnTo>
                    <a:pt x="408" y="307"/>
                  </a:lnTo>
                  <a:lnTo>
                    <a:pt x="426" y="310"/>
                  </a:lnTo>
                  <a:lnTo>
                    <a:pt x="444" y="313"/>
                  </a:lnTo>
                  <a:lnTo>
                    <a:pt x="462" y="293"/>
                  </a:lnTo>
                  <a:lnTo>
                    <a:pt x="480" y="273"/>
                  </a:lnTo>
                  <a:lnTo>
                    <a:pt x="497" y="252"/>
                  </a:lnTo>
                  <a:lnTo>
                    <a:pt x="512" y="230"/>
                  </a:lnTo>
                  <a:lnTo>
                    <a:pt x="542" y="187"/>
                  </a:lnTo>
                  <a:lnTo>
                    <a:pt x="568" y="144"/>
                  </a:lnTo>
                  <a:lnTo>
                    <a:pt x="593" y="103"/>
                  </a:lnTo>
                  <a:lnTo>
                    <a:pt x="618" y="64"/>
                  </a:lnTo>
                  <a:lnTo>
                    <a:pt x="630" y="46"/>
                  </a:lnTo>
                  <a:lnTo>
                    <a:pt x="642" y="29"/>
                  </a:lnTo>
                  <a:lnTo>
                    <a:pt x="655" y="13"/>
                  </a:lnTo>
                  <a:lnTo>
                    <a:pt x="669" y="0"/>
                  </a:lnTo>
                  <a:lnTo>
                    <a:pt x="672" y="26"/>
                  </a:lnTo>
                  <a:lnTo>
                    <a:pt x="672" y="53"/>
                  </a:lnTo>
                  <a:lnTo>
                    <a:pt x="669" y="81"/>
                  </a:lnTo>
                  <a:lnTo>
                    <a:pt x="662" y="108"/>
                  </a:lnTo>
                  <a:lnTo>
                    <a:pt x="653" y="137"/>
                  </a:lnTo>
                  <a:lnTo>
                    <a:pt x="640" y="165"/>
                  </a:lnTo>
                  <a:lnTo>
                    <a:pt x="625" y="194"/>
                  </a:lnTo>
                  <a:lnTo>
                    <a:pt x="608" y="223"/>
                  </a:lnTo>
                  <a:lnTo>
                    <a:pt x="589" y="251"/>
                  </a:lnTo>
                  <a:lnTo>
                    <a:pt x="568" y="281"/>
                  </a:lnTo>
                  <a:lnTo>
                    <a:pt x="546" y="309"/>
                  </a:lnTo>
                  <a:lnTo>
                    <a:pt x="522" y="338"/>
                  </a:lnTo>
                  <a:lnTo>
                    <a:pt x="497" y="367"/>
                  </a:lnTo>
                  <a:lnTo>
                    <a:pt x="470" y="395"/>
                  </a:lnTo>
                  <a:lnTo>
                    <a:pt x="443" y="423"/>
                  </a:lnTo>
                  <a:lnTo>
                    <a:pt x="414" y="452"/>
                  </a:lnTo>
                  <a:lnTo>
                    <a:pt x="356" y="506"/>
                  </a:lnTo>
                  <a:lnTo>
                    <a:pt x="298" y="560"/>
                  </a:lnTo>
                  <a:lnTo>
                    <a:pt x="241" y="609"/>
                  </a:lnTo>
                  <a:lnTo>
                    <a:pt x="187" y="658"/>
                  </a:lnTo>
                  <a:lnTo>
                    <a:pt x="137" y="702"/>
                  </a:lnTo>
                  <a:lnTo>
                    <a:pt x="94" y="744"/>
                  </a:lnTo>
                  <a:lnTo>
                    <a:pt x="75" y="763"/>
                  </a:lnTo>
                  <a:lnTo>
                    <a:pt x="58" y="781"/>
                  </a:lnTo>
                  <a:lnTo>
                    <a:pt x="44" y="798"/>
                  </a:lnTo>
                  <a:lnTo>
                    <a:pt x="33" y="813"/>
                  </a:lnTo>
                  <a:lnTo>
                    <a:pt x="26" y="810"/>
                  </a:lnTo>
                  <a:lnTo>
                    <a:pt x="21" y="808"/>
                  </a:lnTo>
                  <a:lnTo>
                    <a:pt x="17" y="807"/>
                  </a:lnTo>
                  <a:lnTo>
                    <a:pt x="13" y="806"/>
                  </a:lnTo>
                  <a:lnTo>
                    <a:pt x="10" y="806"/>
                  </a:lnTo>
                  <a:lnTo>
                    <a:pt x="6" y="805"/>
                  </a:lnTo>
                  <a:lnTo>
                    <a:pt x="3" y="805"/>
                  </a:lnTo>
                  <a:lnTo>
                    <a:pt x="0" y="8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3102480" y="5010480"/>
              <a:ext cx="177840" cy="752400"/>
            </a:xfrm>
            <a:custGeom>
              <a:avLst/>
              <a:gdLst/>
              <a:ahLst/>
              <a:rect l="l" t="t" r="r" b="b"/>
              <a:pathLst>
                <a:path w="1664" h="2008">
                  <a:moveTo>
                    <a:pt x="0" y="2004"/>
                  </a:moveTo>
                  <a:lnTo>
                    <a:pt x="42" y="1935"/>
                  </a:lnTo>
                  <a:lnTo>
                    <a:pt x="90" y="1857"/>
                  </a:lnTo>
                  <a:lnTo>
                    <a:pt x="139" y="1774"/>
                  </a:lnTo>
                  <a:lnTo>
                    <a:pt x="187" y="1688"/>
                  </a:lnTo>
                  <a:lnTo>
                    <a:pt x="210" y="1645"/>
                  </a:lnTo>
                  <a:lnTo>
                    <a:pt x="231" y="1602"/>
                  </a:lnTo>
                  <a:lnTo>
                    <a:pt x="251" y="1561"/>
                  </a:lnTo>
                  <a:lnTo>
                    <a:pt x="269" y="1521"/>
                  </a:lnTo>
                  <a:lnTo>
                    <a:pt x="285" y="1483"/>
                  </a:lnTo>
                  <a:lnTo>
                    <a:pt x="298" y="1447"/>
                  </a:lnTo>
                  <a:lnTo>
                    <a:pt x="303" y="1430"/>
                  </a:lnTo>
                  <a:lnTo>
                    <a:pt x="307" y="1414"/>
                  </a:lnTo>
                  <a:lnTo>
                    <a:pt x="311" y="1398"/>
                  </a:lnTo>
                  <a:lnTo>
                    <a:pt x="314" y="1384"/>
                  </a:lnTo>
                  <a:lnTo>
                    <a:pt x="342" y="1370"/>
                  </a:lnTo>
                  <a:lnTo>
                    <a:pt x="370" y="1356"/>
                  </a:lnTo>
                  <a:lnTo>
                    <a:pt x="396" y="1342"/>
                  </a:lnTo>
                  <a:lnTo>
                    <a:pt x="421" y="1328"/>
                  </a:lnTo>
                  <a:lnTo>
                    <a:pt x="446" y="1312"/>
                  </a:lnTo>
                  <a:lnTo>
                    <a:pt x="469" y="1296"/>
                  </a:lnTo>
                  <a:lnTo>
                    <a:pt x="490" y="1279"/>
                  </a:lnTo>
                  <a:lnTo>
                    <a:pt x="511" y="1261"/>
                  </a:lnTo>
                  <a:lnTo>
                    <a:pt x="531" y="1241"/>
                  </a:lnTo>
                  <a:lnTo>
                    <a:pt x="550" y="1220"/>
                  </a:lnTo>
                  <a:lnTo>
                    <a:pt x="567" y="1198"/>
                  </a:lnTo>
                  <a:lnTo>
                    <a:pt x="584" y="1172"/>
                  </a:lnTo>
                  <a:lnTo>
                    <a:pt x="599" y="1146"/>
                  </a:lnTo>
                  <a:lnTo>
                    <a:pt x="612" y="1117"/>
                  </a:lnTo>
                  <a:lnTo>
                    <a:pt x="625" y="1087"/>
                  </a:lnTo>
                  <a:lnTo>
                    <a:pt x="637" y="1053"/>
                  </a:lnTo>
                  <a:lnTo>
                    <a:pt x="630" y="1047"/>
                  </a:lnTo>
                  <a:lnTo>
                    <a:pt x="624" y="1041"/>
                  </a:lnTo>
                  <a:lnTo>
                    <a:pt x="618" y="1036"/>
                  </a:lnTo>
                  <a:lnTo>
                    <a:pt x="612" y="1029"/>
                  </a:lnTo>
                  <a:lnTo>
                    <a:pt x="606" y="1025"/>
                  </a:lnTo>
                  <a:lnTo>
                    <a:pt x="600" y="1020"/>
                  </a:lnTo>
                  <a:lnTo>
                    <a:pt x="593" y="1016"/>
                  </a:lnTo>
                  <a:lnTo>
                    <a:pt x="588" y="1013"/>
                  </a:lnTo>
                  <a:lnTo>
                    <a:pt x="609" y="959"/>
                  </a:lnTo>
                  <a:lnTo>
                    <a:pt x="630" y="904"/>
                  </a:lnTo>
                  <a:lnTo>
                    <a:pt x="652" y="850"/>
                  </a:lnTo>
                  <a:lnTo>
                    <a:pt x="674" y="795"/>
                  </a:lnTo>
                  <a:lnTo>
                    <a:pt x="696" y="741"/>
                  </a:lnTo>
                  <a:lnTo>
                    <a:pt x="718" y="686"/>
                  </a:lnTo>
                  <a:lnTo>
                    <a:pt x="741" y="632"/>
                  </a:lnTo>
                  <a:lnTo>
                    <a:pt x="766" y="577"/>
                  </a:lnTo>
                  <a:lnTo>
                    <a:pt x="770" y="576"/>
                  </a:lnTo>
                  <a:lnTo>
                    <a:pt x="774" y="573"/>
                  </a:lnTo>
                  <a:lnTo>
                    <a:pt x="779" y="568"/>
                  </a:lnTo>
                  <a:lnTo>
                    <a:pt x="786" y="561"/>
                  </a:lnTo>
                  <a:lnTo>
                    <a:pt x="800" y="542"/>
                  </a:lnTo>
                  <a:lnTo>
                    <a:pt x="816" y="516"/>
                  </a:lnTo>
                  <a:lnTo>
                    <a:pt x="835" y="485"/>
                  </a:lnTo>
                  <a:lnTo>
                    <a:pt x="854" y="449"/>
                  </a:lnTo>
                  <a:lnTo>
                    <a:pt x="875" y="409"/>
                  </a:lnTo>
                  <a:lnTo>
                    <a:pt x="898" y="366"/>
                  </a:lnTo>
                  <a:lnTo>
                    <a:pt x="944" y="273"/>
                  </a:lnTo>
                  <a:lnTo>
                    <a:pt x="991" y="176"/>
                  </a:lnTo>
                  <a:lnTo>
                    <a:pt x="1036" y="83"/>
                  </a:lnTo>
                  <a:lnTo>
                    <a:pt x="1078" y="0"/>
                  </a:lnTo>
                  <a:lnTo>
                    <a:pt x="1664" y="0"/>
                  </a:lnTo>
                  <a:lnTo>
                    <a:pt x="1650" y="32"/>
                  </a:lnTo>
                  <a:lnTo>
                    <a:pt x="1638" y="61"/>
                  </a:lnTo>
                  <a:lnTo>
                    <a:pt x="1628" y="89"/>
                  </a:lnTo>
                  <a:lnTo>
                    <a:pt x="1619" y="113"/>
                  </a:lnTo>
                  <a:lnTo>
                    <a:pt x="1613" y="133"/>
                  </a:lnTo>
                  <a:lnTo>
                    <a:pt x="1608" y="151"/>
                  </a:lnTo>
                  <a:lnTo>
                    <a:pt x="1604" y="165"/>
                  </a:lnTo>
                  <a:lnTo>
                    <a:pt x="1603" y="174"/>
                  </a:lnTo>
                  <a:lnTo>
                    <a:pt x="1591" y="179"/>
                  </a:lnTo>
                  <a:lnTo>
                    <a:pt x="1579" y="183"/>
                  </a:lnTo>
                  <a:lnTo>
                    <a:pt x="1569" y="187"/>
                  </a:lnTo>
                  <a:lnTo>
                    <a:pt x="1560" y="192"/>
                  </a:lnTo>
                  <a:lnTo>
                    <a:pt x="1550" y="197"/>
                  </a:lnTo>
                  <a:lnTo>
                    <a:pt x="1543" y="202"/>
                  </a:lnTo>
                  <a:lnTo>
                    <a:pt x="1536" y="207"/>
                  </a:lnTo>
                  <a:lnTo>
                    <a:pt x="1529" y="213"/>
                  </a:lnTo>
                  <a:lnTo>
                    <a:pt x="1518" y="225"/>
                  </a:lnTo>
                  <a:lnTo>
                    <a:pt x="1508" y="237"/>
                  </a:lnTo>
                  <a:lnTo>
                    <a:pt x="1500" y="248"/>
                  </a:lnTo>
                  <a:lnTo>
                    <a:pt x="1492" y="261"/>
                  </a:lnTo>
                  <a:lnTo>
                    <a:pt x="1485" y="273"/>
                  </a:lnTo>
                  <a:lnTo>
                    <a:pt x="1477" y="284"/>
                  </a:lnTo>
                  <a:lnTo>
                    <a:pt x="1468" y="296"/>
                  </a:lnTo>
                  <a:lnTo>
                    <a:pt x="1458" y="305"/>
                  </a:lnTo>
                  <a:lnTo>
                    <a:pt x="1452" y="311"/>
                  </a:lnTo>
                  <a:lnTo>
                    <a:pt x="1446" y="315"/>
                  </a:lnTo>
                  <a:lnTo>
                    <a:pt x="1440" y="319"/>
                  </a:lnTo>
                  <a:lnTo>
                    <a:pt x="1431" y="323"/>
                  </a:lnTo>
                  <a:lnTo>
                    <a:pt x="1424" y="327"/>
                  </a:lnTo>
                  <a:lnTo>
                    <a:pt x="1414" y="331"/>
                  </a:lnTo>
                  <a:lnTo>
                    <a:pt x="1405" y="333"/>
                  </a:lnTo>
                  <a:lnTo>
                    <a:pt x="1393" y="336"/>
                  </a:lnTo>
                  <a:lnTo>
                    <a:pt x="1391" y="345"/>
                  </a:lnTo>
                  <a:lnTo>
                    <a:pt x="1389" y="354"/>
                  </a:lnTo>
                  <a:lnTo>
                    <a:pt x="1388" y="364"/>
                  </a:lnTo>
                  <a:lnTo>
                    <a:pt x="1387" y="373"/>
                  </a:lnTo>
                  <a:lnTo>
                    <a:pt x="1386" y="383"/>
                  </a:lnTo>
                  <a:lnTo>
                    <a:pt x="1386" y="393"/>
                  </a:lnTo>
                  <a:lnTo>
                    <a:pt x="1386" y="405"/>
                  </a:lnTo>
                  <a:lnTo>
                    <a:pt x="1386" y="416"/>
                  </a:lnTo>
                  <a:lnTo>
                    <a:pt x="1389" y="413"/>
                  </a:lnTo>
                  <a:lnTo>
                    <a:pt x="1392" y="411"/>
                  </a:lnTo>
                  <a:lnTo>
                    <a:pt x="1395" y="410"/>
                  </a:lnTo>
                  <a:lnTo>
                    <a:pt x="1398" y="409"/>
                  </a:lnTo>
                  <a:lnTo>
                    <a:pt x="1403" y="409"/>
                  </a:lnTo>
                  <a:lnTo>
                    <a:pt x="1407" y="408"/>
                  </a:lnTo>
                  <a:lnTo>
                    <a:pt x="1412" y="408"/>
                  </a:lnTo>
                  <a:lnTo>
                    <a:pt x="1417" y="408"/>
                  </a:lnTo>
                  <a:lnTo>
                    <a:pt x="1417" y="423"/>
                  </a:lnTo>
                  <a:lnTo>
                    <a:pt x="1416" y="439"/>
                  </a:lnTo>
                  <a:lnTo>
                    <a:pt x="1414" y="453"/>
                  </a:lnTo>
                  <a:lnTo>
                    <a:pt x="1412" y="467"/>
                  </a:lnTo>
                  <a:lnTo>
                    <a:pt x="1409" y="482"/>
                  </a:lnTo>
                  <a:lnTo>
                    <a:pt x="1406" y="497"/>
                  </a:lnTo>
                  <a:lnTo>
                    <a:pt x="1402" y="510"/>
                  </a:lnTo>
                  <a:lnTo>
                    <a:pt x="1397" y="525"/>
                  </a:lnTo>
                  <a:lnTo>
                    <a:pt x="1387" y="554"/>
                  </a:lnTo>
                  <a:lnTo>
                    <a:pt x="1375" y="581"/>
                  </a:lnTo>
                  <a:lnTo>
                    <a:pt x="1361" y="609"/>
                  </a:lnTo>
                  <a:lnTo>
                    <a:pt x="1347" y="637"/>
                  </a:lnTo>
                  <a:lnTo>
                    <a:pt x="1314" y="692"/>
                  </a:lnTo>
                  <a:lnTo>
                    <a:pt x="1278" y="747"/>
                  </a:lnTo>
                  <a:lnTo>
                    <a:pt x="1243" y="803"/>
                  </a:lnTo>
                  <a:lnTo>
                    <a:pt x="1208" y="859"/>
                  </a:lnTo>
                  <a:lnTo>
                    <a:pt x="1197" y="857"/>
                  </a:lnTo>
                  <a:lnTo>
                    <a:pt x="1184" y="855"/>
                  </a:lnTo>
                  <a:lnTo>
                    <a:pt x="1172" y="853"/>
                  </a:lnTo>
                  <a:lnTo>
                    <a:pt x="1160" y="853"/>
                  </a:lnTo>
                  <a:lnTo>
                    <a:pt x="1148" y="852"/>
                  </a:lnTo>
                  <a:lnTo>
                    <a:pt x="1135" y="852"/>
                  </a:lnTo>
                  <a:lnTo>
                    <a:pt x="1124" y="852"/>
                  </a:lnTo>
                  <a:lnTo>
                    <a:pt x="1112" y="852"/>
                  </a:lnTo>
                  <a:lnTo>
                    <a:pt x="1106" y="860"/>
                  </a:lnTo>
                  <a:lnTo>
                    <a:pt x="1099" y="870"/>
                  </a:lnTo>
                  <a:lnTo>
                    <a:pt x="1093" y="879"/>
                  </a:lnTo>
                  <a:lnTo>
                    <a:pt x="1088" y="889"/>
                  </a:lnTo>
                  <a:lnTo>
                    <a:pt x="1081" y="898"/>
                  </a:lnTo>
                  <a:lnTo>
                    <a:pt x="1075" y="909"/>
                  </a:lnTo>
                  <a:lnTo>
                    <a:pt x="1069" y="921"/>
                  </a:lnTo>
                  <a:lnTo>
                    <a:pt x="1064" y="932"/>
                  </a:lnTo>
                  <a:lnTo>
                    <a:pt x="1057" y="929"/>
                  </a:lnTo>
                  <a:lnTo>
                    <a:pt x="1051" y="926"/>
                  </a:lnTo>
                  <a:lnTo>
                    <a:pt x="1046" y="924"/>
                  </a:lnTo>
                  <a:lnTo>
                    <a:pt x="1040" y="921"/>
                  </a:lnTo>
                  <a:lnTo>
                    <a:pt x="1035" y="919"/>
                  </a:lnTo>
                  <a:lnTo>
                    <a:pt x="1031" y="917"/>
                  </a:lnTo>
                  <a:lnTo>
                    <a:pt x="1027" y="916"/>
                  </a:lnTo>
                  <a:lnTo>
                    <a:pt x="1023" y="916"/>
                  </a:lnTo>
                  <a:lnTo>
                    <a:pt x="1008" y="934"/>
                  </a:lnTo>
                  <a:lnTo>
                    <a:pt x="993" y="952"/>
                  </a:lnTo>
                  <a:lnTo>
                    <a:pt x="978" y="970"/>
                  </a:lnTo>
                  <a:lnTo>
                    <a:pt x="962" y="988"/>
                  </a:lnTo>
                  <a:lnTo>
                    <a:pt x="947" y="1006"/>
                  </a:lnTo>
                  <a:lnTo>
                    <a:pt x="933" y="1025"/>
                  </a:lnTo>
                  <a:lnTo>
                    <a:pt x="917" y="1043"/>
                  </a:lnTo>
                  <a:lnTo>
                    <a:pt x="902" y="1061"/>
                  </a:lnTo>
                  <a:lnTo>
                    <a:pt x="905" y="1068"/>
                  </a:lnTo>
                  <a:lnTo>
                    <a:pt x="908" y="1073"/>
                  </a:lnTo>
                  <a:lnTo>
                    <a:pt x="911" y="1079"/>
                  </a:lnTo>
                  <a:lnTo>
                    <a:pt x="915" y="1087"/>
                  </a:lnTo>
                  <a:lnTo>
                    <a:pt x="917" y="1093"/>
                  </a:lnTo>
                  <a:lnTo>
                    <a:pt x="920" y="1100"/>
                  </a:lnTo>
                  <a:lnTo>
                    <a:pt x="923" y="1109"/>
                  </a:lnTo>
                  <a:lnTo>
                    <a:pt x="926" y="1117"/>
                  </a:lnTo>
                  <a:lnTo>
                    <a:pt x="945" y="1117"/>
                  </a:lnTo>
                  <a:lnTo>
                    <a:pt x="964" y="1117"/>
                  </a:lnTo>
                  <a:lnTo>
                    <a:pt x="983" y="1117"/>
                  </a:lnTo>
                  <a:lnTo>
                    <a:pt x="1003" y="1117"/>
                  </a:lnTo>
                  <a:lnTo>
                    <a:pt x="1024" y="1117"/>
                  </a:lnTo>
                  <a:lnTo>
                    <a:pt x="1046" y="1117"/>
                  </a:lnTo>
                  <a:lnTo>
                    <a:pt x="1067" y="1117"/>
                  </a:lnTo>
                  <a:lnTo>
                    <a:pt x="1088" y="1117"/>
                  </a:lnTo>
                  <a:lnTo>
                    <a:pt x="1072" y="1133"/>
                  </a:lnTo>
                  <a:lnTo>
                    <a:pt x="1057" y="1148"/>
                  </a:lnTo>
                  <a:lnTo>
                    <a:pt x="1042" y="1163"/>
                  </a:lnTo>
                  <a:lnTo>
                    <a:pt x="1028" y="1177"/>
                  </a:lnTo>
                  <a:lnTo>
                    <a:pt x="1014" y="1193"/>
                  </a:lnTo>
                  <a:lnTo>
                    <a:pt x="1000" y="1208"/>
                  </a:lnTo>
                  <a:lnTo>
                    <a:pt x="987" y="1223"/>
                  </a:lnTo>
                  <a:lnTo>
                    <a:pt x="975" y="1239"/>
                  </a:lnTo>
                  <a:lnTo>
                    <a:pt x="978" y="1247"/>
                  </a:lnTo>
                  <a:lnTo>
                    <a:pt x="981" y="1257"/>
                  </a:lnTo>
                  <a:lnTo>
                    <a:pt x="984" y="1265"/>
                  </a:lnTo>
                  <a:lnTo>
                    <a:pt x="987" y="1275"/>
                  </a:lnTo>
                  <a:lnTo>
                    <a:pt x="992" y="1284"/>
                  </a:lnTo>
                  <a:lnTo>
                    <a:pt x="996" y="1293"/>
                  </a:lnTo>
                  <a:lnTo>
                    <a:pt x="1001" y="1302"/>
                  </a:lnTo>
                  <a:lnTo>
                    <a:pt x="1006" y="1311"/>
                  </a:lnTo>
                  <a:lnTo>
                    <a:pt x="990" y="1338"/>
                  </a:lnTo>
                  <a:lnTo>
                    <a:pt x="971" y="1367"/>
                  </a:lnTo>
                  <a:lnTo>
                    <a:pt x="948" y="1396"/>
                  </a:lnTo>
                  <a:lnTo>
                    <a:pt x="926" y="1427"/>
                  </a:lnTo>
                  <a:lnTo>
                    <a:pt x="904" y="1459"/>
                  </a:lnTo>
                  <a:lnTo>
                    <a:pt x="882" y="1491"/>
                  </a:lnTo>
                  <a:lnTo>
                    <a:pt x="872" y="1508"/>
                  </a:lnTo>
                  <a:lnTo>
                    <a:pt x="863" y="1525"/>
                  </a:lnTo>
                  <a:lnTo>
                    <a:pt x="853" y="1543"/>
                  </a:lnTo>
                  <a:lnTo>
                    <a:pt x="846" y="1561"/>
                  </a:lnTo>
                  <a:lnTo>
                    <a:pt x="828" y="1561"/>
                  </a:lnTo>
                  <a:lnTo>
                    <a:pt x="810" y="1561"/>
                  </a:lnTo>
                  <a:lnTo>
                    <a:pt x="792" y="1561"/>
                  </a:lnTo>
                  <a:lnTo>
                    <a:pt x="774" y="1562"/>
                  </a:lnTo>
                  <a:lnTo>
                    <a:pt x="757" y="1563"/>
                  </a:lnTo>
                  <a:lnTo>
                    <a:pt x="740" y="1564"/>
                  </a:lnTo>
                  <a:lnTo>
                    <a:pt x="724" y="1566"/>
                  </a:lnTo>
                  <a:lnTo>
                    <a:pt x="709" y="1569"/>
                  </a:lnTo>
                  <a:lnTo>
                    <a:pt x="705" y="1563"/>
                  </a:lnTo>
                  <a:lnTo>
                    <a:pt x="702" y="1558"/>
                  </a:lnTo>
                  <a:lnTo>
                    <a:pt x="700" y="1554"/>
                  </a:lnTo>
                  <a:lnTo>
                    <a:pt x="697" y="1550"/>
                  </a:lnTo>
                  <a:lnTo>
                    <a:pt x="694" y="1546"/>
                  </a:lnTo>
                  <a:lnTo>
                    <a:pt x="691" y="1543"/>
                  </a:lnTo>
                  <a:lnTo>
                    <a:pt x="687" y="1540"/>
                  </a:lnTo>
                  <a:lnTo>
                    <a:pt x="684" y="1537"/>
                  </a:lnTo>
                  <a:lnTo>
                    <a:pt x="673" y="1534"/>
                  </a:lnTo>
                  <a:lnTo>
                    <a:pt x="660" y="1532"/>
                  </a:lnTo>
                  <a:lnTo>
                    <a:pt x="648" y="1531"/>
                  </a:lnTo>
                  <a:lnTo>
                    <a:pt x="637" y="1529"/>
                  </a:lnTo>
                  <a:lnTo>
                    <a:pt x="624" y="1529"/>
                  </a:lnTo>
                  <a:lnTo>
                    <a:pt x="612" y="1528"/>
                  </a:lnTo>
                  <a:lnTo>
                    <a:pt x="600" y="1528"/>
                  </a:lnTo>
                  <a:lnTo>
                    <a:pt x="588" y="1528"/>
                  </a:lnTo>
                  <a:lnTo>
                    <a:pt x="570" y="1557"/>
                  </a:lnTo>
                  <a:lnTo>
                    <a:pt x="548" y="1593"/>
                  </a:lnTo>
                  <a:lnTo>
                    <a:pt x="523" y="1633"/>
                  </a:lnTo>
                  <a:lnTo>
                    <a:pt x="493" y="1674"/>
                  </a:lnTo>
                  <a:lnTo>
                    <a:pt x="478" y="1695"/>
                  </a:lnTo>
                  <a:lnTo>
                    <a:pt x="462" y="1715"/>
                  </a:lnTo>
                  <a:lnTo>
                    <a:pt x="446" y="1735"/>
                  </a:lnTo>
                  <a:lnTo>
                    <a:pt x="430" y="1752"/>
                  </a:lnTo>
                  <a:lnTo>
                    <a:pt x="413" y="1768"/>
                  </a:lnTo>
                  <a:lnTo>
                    <a:pt x="396" y="1782"/>
                  </a:lnTo>
                  <a:lnTo>
                    <a:pt x="387" y="1788"/>
                  </a:lnTo>
                  <a:lnTo>
                    <a:pt x="379" y="1794"/>
                  </a:lnTo>
                  <a:lnTo>
                    <a:pt x="371" y="1799"/>
                  </a:lnTo>
                  <a:lnTo>
                    <a:pt x="362" y="1803"/>
                  </a:lnTo>
                  <a:lnTo>
                    <a:pt x="363" y="1780"/>
                  </a:lnTo>
                  <a:lnTo>
                    <a:pt x="366" y="1757"/>
                  </a:lnTo>
                  <a:lnTo>
                    <a:pt x="371" y="1733"/>
                  </a:lnTo>
                  <a:lnTo>
                    <a:pt x="377" y="1709"/>
                  </a:lnTo>
                  <a:lnTo>
                    <a:pt x="383" y="1686"/>
                  </a:lnTo>
                  <a:lnTo>
                    <a:pt x="392" y="1663"/>
                  </a:lnTo>
                  <a:lnTo>
                    <a:pt x="400" y="1640"/>
                  </a:lnTo>
                  <a:lnTo>
                    <a:pt x="409" y="1618"/>
                  </a:lnTo>
                  <a:lnTo>
                    <a:pt x="427" y="1577"/>
                  </a:lnTo>
                  <a:lnTo>
                    <a:pt x="443" y="1541"/>
                  </a:lnTo>
                  <a:lnTo>
                    <a:pt x="458" y="1510"/>
                  </a:lnTo>
                  <a:lnTo>
                    <a:pt x="467" y="1488"/>
                  </a:lnTo>
                  <a:lnTo>
                    <a:pt x="451" y="1489"/>
                  </a:lnTo>
                  <a:lnTo>
                    <a:pt x="434" y="1492"/>
                  </a:lnTo>
                  <a:lnTo>
                    <a:pt x="418" y="1497"/>
                  </a:lnTo>
                  <a:lnTo>
                    <a:pt x="402" y="1503"/>
                  </a:lnTo>
                  <a:lnTo>
                    <a:pt x="386" y="1510"/>
                  </a:lnTo>
                  <a:lnTo>
                    <a:pt x="371" y="1519"/>
                  </a:lnTo>
                  <a:lnTo>
                    <a:pt x="356" y="1529"/>
                  </a:lnTo>
                  <a:lnTo>
                    <a:pt x="340" y="1541"/>
                  </a:lnTo>
                  <a:lnTo>
                    <a:pt x="325" y="1554"/>
                  </a:lnTo>
                  <a:lnTo>
                    <a:pt x="311" y="1567"/>
                  </a:lnTo>
                  <a:lnTo>
                    <a:pt x="297" y="1582"/>
                  </a:lnTo>
                  <a:lnTo>
                    <a:pt x="283" y="1598"/>
                  </a:lnTo>
                  <a:lnTo>
                    <a:pt x="270" y="1615"/>
                  </a:lnTo>
                  <a:lnTo>
                    <a:pt x="258" y="1632"/>
                  </a:lnTo>
                  <a:lnTo>
                    <a:pt x="245" y="1650"/>
                  </a:lnTo>
                  <a:lnTo>
                    <a:pt x="232" y="1669"/>
                  </a:lnTo>
                  <a:lnTo>
                    <a:pt x="221" y="1688"/>
                  </a:lnTo>
                  <a:lnTo>
                    <a:pt x="210" y="1707"/>
                  </a:lnTo>
                  <a:lnTo>
                    <a:pt x="198" y="1726"/>
                  </a:lnTo>
                  <a:lnTo>
                    <a:pt x="189" y="1746"/>
                  </a:lnTo>
                  <a:lnTo>
                    <a:pt x="170" y="1786"/>
                  </a:lnTo>
                  <a:lnTo>
                    <a:pt x="153" y="1825"/>
                  </a:lnTo>
                  <a:lnTo>
                    <a:pt x="139" y="1863"/>
                  </a:lnTo>
                  <a:lnTo>
                    <a:pt x="128" y="1899"/>
                  </a:lnTo>
                  <a:lnTo>
                    <a:pt x="122" y="1917"/>
                  </a:lnTo>
                  <a:lnTo>
                    <a:pt x="118" y="1933"/>
                  </a:lnTo>
                  <a:lnTo>
                    <a:pt x="115" y="1949"/>
                  </a:lnTo>
                  <a:lnTo>
                    <a:pt x="113" y="1964"/>
                  </a:lnTo>
                  <a:lnTo>
                    <a:pt x="95" y="1973"/>
                  </a:lnTo>
                  <a:lnTo>
                    <a:pt x="77" y="1983"/>
                  </a:lnTo>
                  <a:lnTo>
                    <a:pt x="60" y="1991"/>
                  </a:lnTo>
                  <a:lnTo>
                    <a:pt x="44" y="1999"/>
                  </a:lnTo>
                  <a:lnTo>
                    <a:pt x="29" y="2005"/>
                  </a:lnTo>
                  <a:lnTo>
                    <a:pt x="18" y="2008"/>
                  </a:lnTo>
                  <a:lnTo>
                    <a:pt x="12" y="2008"/>
                  </a:lnTo>
                  <a:lnTo>
                    <a:pt x="7" y="2008"/>
                  </a:lnTo>
                  <a:lnTo>
                    <a:pt x="3" y="2007"/>
                  </a:lnTo>
                  <a:lnTo>
                    <a:pt x="0" y="200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5400000">
              <a:off x="3811680" y="5059800"/>
              <a:ext cx="258480" cy="746640"/>
            </a:xfrm>
            <a:custGeom>
              <a:avLst/>
              <a:gdLst/>
              <a:ahLst/>
              <a:rect l="l" t="t" r="r" b="b"/>
              <a:pathLst>
                <a:path w="2420" h="2009">
                  <a:moveTo>
                    <a:pt x="1030" y="2009"/>
                  </a:moveTo>
                  <a:lnTo>
                    <a:pt x="1044" y="1981"/>
                  </a:lnTo>
                  <a:lnTo>
                    <a:pt x="1058" y="1957"/>
                  </a:lnTo>
                  <a:lnTo>
                    <a:pt x="1069" y="1935"/>
                  </a:lnTo>
                  <a:lnTo>
                    <a:pt x="1081" y="1917"/>
                  </a:lnTo>
                  <a:lnTo>
                    <a:pt x="1091" y="1901"/>
                  </a:lnTo>
                  <a:lnTo>
                    <a:pt x="1099" y="1888"/>
                  </a:lnTo>
                  <a:lnTo>
                    <a:pt x="1106" y="1881"/>
                  </a:lnTo>
                  <a:lnTo>
                    <a:pt x="1112" y="1877"/>
                  </a:lnTo>
                  <a:lnTo>
                    <a:pt x="1115" y="1861"/>
                  </a:lnTo>
                  <a:lnTo>
                    <a:pt x="1117" y="1845"/>
                  </a:lnTo>
                  <a:lnTo>
                    <a:pt x="1118" y="1830"/>
                  </a:lnTo>
                  <a:lnTo>
                    <a:pt x="1119" y="1817"/>
                  </a:lnTo>
                  <a:lnTo>
                    <a:pt x="1119" y="1792"/>
                  </a:lnTo>
                  <a:lnTo>
                    <a:pt x="1117" y="1770"/>
                  </a:lnTo>
                  <a:lnTo>
                    <a:pt x="1114" y="1752"/>
                  </a:lnTo>
                  <a:lnTo>
                    <a:pt x="1111" y="1738"/>
                  </a:lnTo>
                  <a:lnTo>
                    <a:pt x="1107" y="1729"/>
                  </a:lnTo>
                  <a:lnTo>
                    <a:pt x="1104" y="1724"/>
                  </a:lnTo>
                  <a:lnTo>
                    <a:pt x="1116" y="1717"/>
                  </a:lnTo>
                  <a:lnTo>
                    <a:pt x="1131" y="1707"/>
                  </a:lnTo>
                  <a:lnTo>
                    <a:pt x="1148" y="1692"/>
                  </a:lnTo>
                  <a:lnTo>
                    <a:pt x="1166" y="1675"/>
                  </a:lnTo>
                  <a:lnTo>
                    <a:pt x="1186" y="1655"/>
                  </a:lnTo>
                  <a:lnTo>
                    <a:pt x="1207" y="1634"/>
                  </a:lnTo>
                  <a:lnTo>
                    <a:pt x="1228" y="1610"/>
                  </a:lnTo>
                  <a:lnTo>
                    <a:pt x="1250" y="1586"/>
                  </a:lnTo>
                  <a:lnTo>
                    <a:pt x="1292" y="1536"/>
                  </a:lnTo>
                  <a:lnTo>
                    <a:pt x="1329" y="1489"/>
                  </a:lnTo>
                  <a:lnTo>
                    <a:pt x="1345" y="1468"/>
                  </a:lnTo>
                  <a:lnTo>
                    <a:pt x="1359" y="1449"/>
                  </a:lnTo>
                  <a:lnTo>
                    <a:pt x="1370" y="1432"/>
                  </a:lnTo>
                  <a:lnTo>
                    <a:pt x="1378" y="1417"/>
                  </a:lnTo>
                  <a:lnTo>
                    <a:pt x="1358" y="1404"/>
                  </a:lnTo>
                  <a:lnTo>
                    <a:pt x="1341" y="1393"/>
                  </a:lnTo>
                  <a:lnTo>
                    <a:pt x="1327" y="1381"/>
                  </a:lnTo>
                  <a:lnTo>
                    <a:pt x="1316" y="1371"/>
                  </a:lnTo>
                  <a:lnTo>
                    <a:pt x="1305" y="1361"/>
                  </a:lnTo>
                  <a:lnTo>
                    <a:pt x="1298" y="1353"/>
                  </a:lnTo>
                  <a:lnTo>
                    <a:pt x="1291" y="1345"/>
                  </a:lnTo>
                  <a:lnTo>
                    <a:pt x="1287" y="1338"/>
                  </a:lnTo>
                  <a:lnTo>
                    <a:pt x="1284" y="1332"/>
                  </a:lnTo>
                  <a:lnTo>
                    <a:pt x="1282" y="1327"/>
                  </a:lnTo>
                  <a:lnTo>
                    <a:pt x="1281" y="1323"/>
                  </a:lnTo>
                  <a:lnTo>
                    <a:pt x="1281" y="1319"/>
                  </a:lnTo>
                  <a:lnTo>
                    <a:pt x="1281" y="1315"/>
                  </a:lnTo>
                  <a:lnTo>
                    <a:pt x="1281" y="1312"/>
                  </a:lnTo>
                  <a:lnTo>
                    <a:pt x="1308" y="1281"/>
                  </a:lnTo>
                  <a:lnTo>
                    <a:pt x="1335" y="1248"/>
                  </a:lnTo>
                  <a:lnTo>
                    <a:pt x="1359" y="1213"/>
                  </a:lnTo>
                  <a:lnTo>
                    <a:pt x="1382" y="1177"/>
                  </a:lnTo>
                  <a:lnTo>
                    <a:pt x="1405" y="1140"/>
                  </a:lnTo>
                  <a:lnTo>
                    <a:pt x="1426" y="1102"/>
                  </a:lnTo>
                  <a:lnTo>
                    <a:pt x="1447" y="1063"/>
                  </a:lnTo>
                  <a:lnTo>
                    <a:pt x="1466" y="1023"/>
                  </a:lnTo>
                  <a:lnTo>
                    <a:pt x="1483" y="983"/>
                  </a:lnTo>
                  <a:lnTo>
                    <a:pt x="1501" y="940"/>
                  </a:lnTo>
                  <a:lnTo>
                    <a:pt x="1518" y="898"/>
                  </a:lnTo>
                  <a:lnTo>
                    <a:pt x="1534" y="856"/>
                  </a:lnTo>
                  <a:lnTo>
                    <a:pt x="1549" y="812"/>
                  </a:lnTo>
                  <a:lnTo>
                    <a:pt x="1564" y="769"/>
                  </a:lnTo>
                  <a:lnTo>
                    <a:pt x="1577" y="725"/>
                  </a:lnTo>
                  <a:lnTo>
                    <a:pt x="1591" y="681"/>
                  </a:lnTo>
                  <a:lnTo>
                    <a:pt x="1617" y="593"/>
                  </a:lnTo>
                  <a:lnTo>
                    <a:pt x="1641" y="505"/>
                  </a:lnTo>
                  <a:lnTo>
                    <a:pt x="1664" y="419"/>
                  </a:lnTo>
                  <a:lnTo>
                    <a:pt x="1686" y="335"/>
                  </a:lnTo>
                  <a:lnTo>
                    <a:pt x="1710" y="253"/>
                  </a:lnTo>
                  <a:lnTo>
                    <a:pt x="1732" y="174"/>
                  </a:lnTo>
                  <a:lnTo>
                    <a:pt x="1743" y="137"/>
                  </a:lnTo>
                  <a:lnTo>
                    <a:pt x="1756" y="100"/>
                  </a:lnTo>
                  <a:lnTo>
                    <a:pt x="1768" y="65"/>
                  </a:lnTo>
                  <a:lnTo>
                    <a:pt x="1780" y="31"/>
                  </a:lnTo>
                  <a:lnTo>
                    <a:pt x="1783" y="28"/>
                  </a:lnTo>
                  <a:lnTo>
                    <a:pt x="1787" y="26"/>
                  </a:lnTo>
                  <a:lnTo>
                    <a:pt x="1790" y="25"/>
                  </a:lnTo>
                  <a:lnTo>
                    <a:pt x="1794" y="24"/>
                  </a:lnTo>
                  <a:lnTo>
                    <a:pt x="1797" y="24"/>
                  </a:lnTo>
                  <a:lnTo>
                    <a:pt x="1802" y="23"/>
                  </a:lnTo>
                  <a:lnTo>
                    <a:pt x="1807" y="23"/>
                  </a:lnTo>
                  <a:lnTo>
                    <a:pt x="1813" y="23"/>
                  </a:lnTo>
                  <a:lnTo>
                    <a:pt x="1813" y="20"/>
                  </a:lnTo>
                  <a:lnTo>
                    <a:pt x="1814" y="18"/>
                  </a:lnTo>
                  <a:lnTo>
                    <a:pt x="1815" y="14"/>
                  </a:lnTo>
                  <a:lnTo>
                    <a:pt x="1815" y="11"/>
                  </a:lnTo>
                  <a:lnTo>
                    <a:pt x="1816" y="9"/>
                  </a:lnTo>
                  <a:lnTo>
                    <a:pt x="1817" y="6"/>
                  </a:lnTo>
                  <a:lnTo>
                    <a:pt x="1817" y="3"/>
                  </a:lnTo>
                  <a:lnTo>
                    <a:pt x="1818" y="0"/>
                  </a:lnTo>
                  <a:lnTo>
                    <a:pt x="2420" y="0"/>
                  </a:lnTo>
                  <a:lnTo>
                    <a:pt x="2414" y="15"/>
                  </a:lnTo>
                  <a:lnTo>
                    <a:pt x="2408" y="32"/>
                  </a:lnTo>
                  <a:lnTo>
                    <a:pt x="2401" y="50"/>
                  </a:lnTo>
                  <a:lnTo>
                    <a:pt x="2396" y="69"/>
                  </a:lnTo>
                  <a:lnTo>
                    <a:pt x="2387" y="108"/>
                  </a:lnTo>
                  <a:lnTo>
                    <a:pt x="2379" y="150"/>
                  </a:lnTo>
                  <a:lnTo>
                    <a:pt x="2372" y="189"/>
                  </a:lnTo>
                  <a:lnTo>
                    <a:pt x="2368" y="227"/>
                  </a:lnTo>
                  <a:lnTo>
                    <a:pt x="2363" y="261"/>
                  </a:lnTo>
                  <a:lnTo>
                    <a:pt x="2360" y="289"/>
                  </a:lnTo>
                  <a:lnTo>
                    <a:pt x="2349" y="296"/>
                  </a:lnTo>
                  <a:lnTo>
                    <a:pt x="2338" y="301"/>
                  </a:lnTo>
                  <a:lnTo>
                    <a:pt x="2327" y="307"/>
                  </a:lnTo>
                  <a:lnTo>
                    <a:pt x="2317" y="315"/>
                  </a:lnTo>
                  <a:lnTo>
                    <a:pt x="2307" y="321"/>
                  </a:lnTo>
                  <a:lnTo>
                    <a:pt x="2298" y="328"/>
                  </a:lnTo>
                  <a:lnTo>
                    <a:pt x="2289" y="337"/>
                  </a:lnTo>
                  <a:lnTo>
                    <a:pt x="2280" y="345"/>
                  </a:lnTo>
                  <a:lnTo>
                    <a:pt x="2283" y="363"/>
                  </a:lnTo>
                  <a:lnTo>
                    <a:pt x="2286" y="382"/>
                  </a:lnTo>
                  <a:lnTo>
                    <a:pt x="2289" y="400"/>
                  </a:lnTo>
                  <a:lnTo>
                    <a:pt x="2293" y="418"/>
                  </a:lnTo>
                  <a:lnTo>
                    <a:pt x="2295" y="436"/>
                  </a:lnTo>
                  <a:lnTo>
                    <a:pt x="2298" y="454"/>
                  </a:lnTo>
                  <a:lnTo>
                    <a:pt x="2301" y="472"/>
                  </a:lnTo>
                  <a:lnTo>
                    <a:pt x="2304" y="490"/>
                  </a:lnTo>
                  <a:lnTo>
                    <a:pt x="2286" y="503"/>
                  </a:lnTo>
                  <a:lnTo>
                    <a:pt x="2269" y="514"/>
                  </a:lnTo>
                  <a:lnTo>
                    <a:pt x="2252" y="527"/>
                  </a:lnTo>
                  <a:lnTo>
                    <a:pt x="2237" y="539"/>
                  </a:lnTo>
                  <a:lnTo>
                    <a:pt x="2221" y="551"/>
                  </a:lnTo>
                  <a:lnTo>
                    <a:pt x="2206" y="563"/>
                  </a:lnTo>
                  <a:lnTo>
                    <a:pt x="2190" y="576"/>
                  </a:lnTo>
                  <a:lnTo>
                    <a:pt x="2175" y="587"/>
                  </a:lnTo>
                  <a:lnTo>
                    <a:pt x="2174" y="615"/>
                  </a:lnTo>
                  <a:lnTo>
                    <a:pt x="2171" y="641"/>
                  </a:lnTo>
                  <a:lnTo>
                    <a:pt x="2166" y="669"/>
                  </a:lnTo>
                  <a:lnTo>
                    <a:pt x="2161" y="695"/>
                  </a:lnTo>
                  <a:lnTo>
                    <a:pt x="2145" y="750"/>
                  </a:lnTo>
                  <a:lnTo>
                    <a:pt x="2127" y="805"/>
                  </a:lnTo>
                  <a:lnTo>
                    <a:pt x="2118" y="834"/>
                  </a:lnTo>
                  <a:lnTo>
                    <a:pt x="2109" y="862"/>
                  </a:lnTo>
                  <a:lnTo>
                    <a:pt x="2101" y="891"/>
                  </a:lnTo>
                  <a:lnTo>
                    <a:pt x="2094" y="920"/>
                  </a:lnTo>
                  <a:lnTo>
                    <a:pt x="2088" y="951"/>
                  </a:lnTo>
                  <a:lnTo>
                    <a:pt x="2082" y="982"/>
                  </a:lnTo>
                  <a:lnTo>
                    <a:pt x="2079" y="1014"/>
                  </a:lnTo>
                  <a:lnTo>
                    <a:pt x="2078" y="1047"/>
                  </a:lnTo>
                  <a:lnTo>
                    <a:pt x="2076" y="1049"/>
                  </a:lnTo>
                  <a:lnTo>
                    <a:pt x="2072" y="1056"/>
                  </a:lnTo>
                  <a:lnTo>
                    <a:pt x="2066" y="1064"/>
                  </a:lnTo>
                  <a:lnTo>
                    <a:pt x="2059" y="1077"/>
                  </a:lnTo>
                  <a:lnTo>
                    <a:pt x="2040" y="1111"/>
                  </a:lnTo>
                  <a:lnTo>
                    <a:pt x="2017" y="1155"/>
                  </a:lnTo>
                  <a:lnTo>
                    <a:pt x="1959" y="1269"/>
                  </a:lnTo>
                  <a:lnTo>
                    <a:pt x="1890" y="1410"/>
                  </a:lnTo>
                  <a:lnTo>
                    <a:pt x="1815" y="1565"/>
                  </a:lnTo>
                  <a:lnTo>
                    <a:pt x="1741" y="1724"/>
                  </a:lnTo>
                  <a:lnTo>
                    <a:pt x="1706" y="1802"/>
                  </a:lnTo>
                  <a:lnTo>
                    <a:pt x="1673" y="1876"/>
                  </a:lnTo>
                  <a:lnTo>
                    <a:pt x="1642" y="1946"/>
                  </a:lnTo>
                  <a:lnTo>
                    <a:pt x="1616" y="2009"/>
                  </a:lnTo>
                  <a:lnTo>
                    <a:pt x="1030" y="2009"/>
                  </a:lnTo>
                  <a:close/>
                  <a:moveTo>
                    <a:pt x="560" y="0"/>
                  </a:moveTo>
                  <a:lnTo>
                    <a:pt x="725" y="0"/>
                  </a:lnTo>
                  <a:lnTo>
                    <a:pt x="706" y="55"/>
                  </a:lnTo>
                  <a:lnTo>
                    <a:pt x="688" y="107"/>
                  </a:lnTo>
                  <a:lnTo>
                    <a:pt x="671" y="159"/>
                  </a:lnTo>
                  <a:lnTo>
                    <a:pt x="655" y="209"/>
                  </a:lnTo>
                  <a:lnTo>
                    <a:pt x="642" y="256"/>
                  </a:lnTo>
                  <a:lnTo>
                    <a:pt x="630" y="303"/>
                  </a:lnTo>
                  <a:lnTo>
                    <a:pt x="620" y="345"/>
                  </a:lnTo>
                  <a:lnTo>
                    <a:pt x="612" y="385"/>
                  </a:lnTo>
                  <a:lnTo>
                    <a:pt x="607" y="385"/>
                  </a:lnTo>
                  <a:lnTo>
                    <a:pt x="601" y="385"/>
                  </a:lnTo>
                  <a:lnTo>
                    <a:pt x="597" y="386"/>
                  </a:lnTo>
                  <a:lnTo>
                    <a:pt x="593" y="386"/>
                  </a:lnTo>
                  <a:lnTo>
                    <a:pt x="590" y="388"/>
                  </a:lnTo>
                  <a:lnTo>
                    <a:pt x="587" y="390"/>
                  </a:lnTo>
                  <a:lnTo>
                    <a:pt x="583" y="391"/>
                  </a:lnTo>
                  <a:lnTo>
                    <a:pt x="580" y="394"/>
                  </a:lnTo>
                  <a:lnTo>
                    <a:pt x="579" y="403"/>
                  </a:lnTo>
                  <a:lnTo>
                    <a:pt x="578" y="416"/>
                  </a:lnTo>
                  <a:lnTo>
                    <a:pt x="576" y="430"/>
                  </a:lnTo>
                  <a:lnTo>
                    <a:pt x="573" y="447"/>
                  </a:lnTo>
                  <a:lnTo>
                    <a:pt x="564" y="486"/>
                  </a:lnTo>
                  <a:lnTo>
                    <a:pt x="554" y="531"/>
                  </a:lnTo>
                  <a:lnTo>
                    <a:pt x="540" y="583"/>
                  </a:lnTo>
                  <a:lnTo>
                    <a:pt x="525" y="639"/>
                  </a:lnTo>
                  <a:lnTo>
                    <a:pt x="508" y="697"/>
                  </a:lnTo>
                  <a:lnTo>
                    <a:pt x="491" y="757"/>
                  </a:lnTo>
                  <a:lnTo>
                    <a:pt x="472" y="819"/>
                  </a:lnTo>
                  <a:lnTo>
                    <a:pt x="452" y="879"/>
                  </a:lnTo>
                  <a:lnTo>
                    <a:pt x="432" y="936"/>
                  </a:lnTo>
                  <a:lnTo>
                    <a:pt x="413" y="991"/>
                  </a:lnTo>
                  <a:lnTo>
                    <a:pt x="395" y="1042"/>
                  </a:lnTo>
                  <a:lnTo>
                    <a:pt x="377" y="1085"/>
                  </a:lnTo>
                  <a:lnTo>
                    <a:pt x="361" y="1123"/>
                  </a:lnTo>
                  <a:lnTo>
                    <a:pt x="347" y="1152"/>
                  </a:lnTo>
                  <a:lnTo>
                    <a:pt x="337" y="1152"/>
                  </a:lnTo>
                  <a:lnTo>
                    <a:pt x="329" y="1152"/>
                  </a:lnTo>
                  <a:lnTo>
                    <a:pt x="319" y="1152"/>
                  </a:lnTo>
                  <a:lnTo>
                    <a:pt x="311" y="1152"/>
                  </a:lnTo>
                  <a:lnTo>
                    <a:pt x="304" y="1152"/>
                  </a:lnTo>
                  <a:lnTo>
                    <a:pt x="295" y="1152"/>
                  </a:lnTo>
                  <a:lnTo>
                    <a:pt x="289" y="1152"/>
                  </a:lnTo>
                  <a:lnTo>
                    <a:pt x="282" y="1152"/>
                  </a:lnTo>
                  <a:lnTo>
                    <a:pt x="298" y="1091"/>
                  </a:lnTo>
                  <a:lnTo>
                    <a:pt x="315" y="1032"/>
                  </a:lnTo>
                  <a:lnTo>
                    <a:pt x="333" y="974"/>
                  </a:lnTo>
                  <a:lnTo>
                    <a:pt x="350" y="918"/>
                  </a:lnTo>
                  <a:lnTo>
                    <a:pt x="357" y="890"/>
                  </a:lnTo>
                  <a:lnTo>
                    <a:pt x="365" y="863"/>
                  </a:lnTo>
                  <a:lnTo>
                    <a:pt x="371" y="836"/>
                  </a:lnTo>
                  <a:lnTo>
                    <a:pt x="376" y="809"/>
                  </a:lnTo>
                  <a:lnTo>
                    <a:pt x="381" y="783"/>
                  </a:lnTo>
                  <a:lnTo>
                    <a:pt x="384" y="757"/>
                  </a:lnTo>
                  <a:lnTo>
                    <a:pt x="386" y="733"/>
                  </a:lnTo>
                  <a:lnTo>
                    <a:pt x="387" y="708"/>
                  </a:lnTo>
                  <a:lnTo>
                    <a:pt x="384" y="706"/>
                  </a:lnTo>
                  <a:lnTo>
                    <a:pt x="381" y="703"/>
                  </a:lnTo>
                  <a:lnTo>
                    <a:pt x="377" y="699"/>
                  </a:lnTo>
                  <a:lnTo>
                    <a:pt x="374" y="697"/>
                  </a:lnTo>
                  <a:lnTo>
                    <a:pt x="372" y="695"/>
                  </a:lnTo>
                  <a:lnTo>
                    <a:pt x="369" y="693"/>
                  </a:lnTo>
                  <a:lnTo>
                    <a:pt x="366" y="692"/>
                  </a:lnTo>
                  <a:lnTo>
                    <a:pt x="363" y="692"/>
                  </a:lnTo>
                  <a:lnTo>
                    <a:pt x="356" y="710"/>
                  </a:lnTo>
                  <a:lnTo>
                    <a:pt x="351" y="728"/>
                  </a:lnTo>
                  <a:lnTo>
                    <a:pt x="345" y="747"/>
                  </a:lnTo>
                  <a:lnTo>
                    <a:pt x="338" y="765"/>
                  </a:lnTo>
                  <a:lnTo>
                    <a:pt x="332" y="783"/>
                  </a:lnTo>
                  <a:lnTo>
                    <a:pt x="327" y="801"/>
                  </a:lnTo>
                  <a:lnTo>
                    <a:pt x="320" y="819"/>
                  </a:lnTo>
                  <a:lnTo>
                    <a:pt x="314" y="837"/>
                  </a:lnTo>
                  <a:lnTo>
                    <a:pt x="306" y="838"/>
                  </a:lnTo>
                  <a:lnTo>
                    <a:pt x="296" y="839"/>
                  </a:lnTo>
                  <a:lnTo>
                    <a:pt x="287" y="840"/>
                  </a:lnTo>
                  <a:lnTo>
                    <a:pt x="278" y="842"/>
                  </a:lnTo>
                  <a:lnTo>
                    <a:pt x="269" y="845"/>
                  </a:lnTo>
                  <a:lnTo>
                    <a:pt x="260" y="847"/>
                  </a:lnTo>
                  <a:lnTo>
                    <a:pt x="251" y="850"/>
                  </a:lnTo>
                  <a:lnTo>
                    <a:pt x="242" y="854"/>
                  </a:lnTo>
                  <a:lnTo>
                    <a:pt x="227" y="891"/>
                  </a:lnTo>
                  <a:lnTo>
                    <a:pt x="214" y="929"/>
                  </a:lnTo>
                  <a:lnTo>
                    <a:pt x="200" y="968"/>
                  </a:lnTo>
                  <a:lnTo>
                    <a:pt x="185" y="1008"/>
                  </a:lnTo>
                  <a:lnTo>
                    <a:pt x="169" y="1049"/>
                  </a:lnTo>
                  <a:lnTo>
                    <a:pt x="151" y="1091"/>
                  </a:lnTo>
                  <a:lnTo>
                    <a:pt x="141" y="1113"/>
                  </a:lnTo>
                  <a:lnTo>
                    <a:pt x="130" y="1134"/>
                  </a:lnTo>
                  <a:lnTo>
                    <a:pt x="118" y="1155"/>
                  </a:lnTo>
                  <a:lnTo>
                    <a:pt x="105" y="1176"/>
                  </a:lnTo>
                  <a:lnTo>
                    <a:pt x="81" y="1176"/>
                  </a:lnTo>
                  <a:lnTo>
                    <a:pt x="63" y="1175"/>
                  </a:lnTo>
                  <a:lnTo>
                    <a:pt x="48" y="1175"/>
                  </a:lnTo>
                  <a:lnTo>
                    <a:pt x="37" y="1173"/>
                  </a:lnTo>
                  <a:lnTo>
                    <a:pt x="28" y="1170"/>
                  </a:lnTo>
                  <a:lnTo>
                    <a:pt x="19" y="1165"/>
                  </a:lnTo>
                  <a:lnTo>
                    <a:pt x="11" y="1159"/>
                  </a:lnTo>
                  <a:lnTo>
                    <a:pt x="0" y="1152"/>
                  </a:lnTo>
                  <a:lnTo>
                    <a:pt x="9" y="1120"/>
                  </a:lnTo>
                  <a:lnTo>
                    <a:pt x="19" y="1084"/>
                  </a:lnTo>
                  <a:lnTo>
                    <a:pt x="32" y="1043"/>
                  </a:lnTo>
                  <a:lnTo>
                    <a:pt x="47" y="1000"/>
                  </a:lnTo>
                  <a:lnTo>
                    <a:pt x="64" y="953"/>
                  </a:lnTo>
                  <a:lnTo>
                    <a:pt x="82" y="905"/>
                  </a:lnTo>
                  <a:lnTo>
                    <a:pt x="102" y="858"/>
                  </a:lnTo>
                  <a:lnTo>
                    <a:pt x="123" y="810"/>
                  </a:lnTo>
                  <a:lnTo>
                    <a:pt x="145" y="764"/>
                  </a:lnTo>
                  <a:lnTo>
                    <a:pt x="169" y="719"/>
                  </a:lnTo>
                  <a:lnTo>
                    <a:pt x="182" y="698"/>
                  </a:lnTo>
                  <a:lnTo>
                    <a:pt x="194" y="678"/>
                  </a:lnTo>
                  <a:lnTo>
                    <a:pt x="207" y="658"/>
                  </a:lnTo>
                  <a:lnTo>
                    <a:pt x="220" y="640"/>
                  </a:lnTo>
                  <a:lnTo>
                    <a:pt x="233" y="623"/>
                  </a:lnTo>
                  <a:lnTo>
                    <a:pt x="247" y="607"/>
                  </a:lnTo>
                  <a:lnTo>
                    <a:pt x="260" y="594"/>
                  </a:lnTo>
                  <a:lnTo>
                    <a:pt x="274" y="581"/>
                  </a:lnTo>
                  <a:lnTo>
                    <a:pt x="288" y="569"/>
                  </a:lnTo>
                  <a:lnTo>
                    <a:pt x="301" y="560"/>
                  </a:lnTo>
                  <a:lnTo>
                    <a:pt x="316" y="552"/>
                  </a:lnTo>
                  <a:lnTo>
                    <a:pt x="331" y="547"/>
                  </a:lnTo>
                  <a:lnTo>
                    <a:pt x="331" y="528"/>
                  </a:lnTo>
                  <a:lnTo>
                    <a:pt x="332" y="510"/>
                  </a:lnTo>
                  <a:lnTo>
                    <a:pt x="334" y="492"/>
                  </a:lnTo>
                  <a:lnTo>
                    <a:pt x="337" y="475"/>
                  </a:lnTo>
                  <a:lnTo>
                    <a:pt x="341" y="458"/>
                  </a:lnTo>
                  <a:lnTo>
                    <a:pt x="346" y="441"/>
                  </a:lnTo>
                  <a:lnTo>
                    <a:pt x="350" y="426"/>
                  </a:lnTo>
                  <a:lnTo>
                    <a:pt x="355" y="410"/>
                  </a:lnTo>
                  <a:lnTo>
                    <a:pt x="368" y="379"/>
                  </a:lnTo>
                  <a:lnTo>
                    <a:pt x="382" y="349"/>
                  </a:lnTo>
                  <a:lnTo>
                    <a:pt x="397" y="321"/>
                  </a:lnTo>
                  <a:lnTo>
                    <a:pt x="411" y="293"/>
                  </a:lnTo>
                  <a:lnTo>
                    <a:pt x="426" y="266"/>
                  </a:lnTo>
                  <a:lnTo>
                    <a:pt x="441" y="240"/>
                  </a:lnTo>
                  <a:lnTo>
                    <a:pt x="455" y="214"/>
                  </a:lnTo>
                  <a:lnTo>
                    <a:pt x="466" y="189"/>
                  </a:lnTo>
                  <a:lnTo>
                    <a:pt x="472" y="176"/>
                  </a:lnTo>
                  <a:lnTo>
                    <a:pt x="477" y="163"/>
                  </a:lnTo>
                  <a:lnTo>
                    <a:pt x="481" y="151"/>
                  </a:lnTo>
                  <a:lnTo>
                    <a:pt x="484" y="138"/>
                  </a:lnTo>
                  <a:lnTo>
                    <a:pt x="487" y="125"/>
                  </a:lnTo>
                  <a:lnTo>
                    <a:pt x="489" y="113"/>
                  </a:lnTo>
                  <a:lnTo>
                    <a:pt x="492" y="100"/>
                  </a:lnTo>
                  <a:lnTo>
                    <a:pt x="492" y="87"/>
                  </a:lnTo>
                  <a:lnTo>
                    <a:pt x="500" y="79"/>
                  </a:lnTo>
                  <a:lnTo>
                    <a:pt x="508" y="69"/>
                  </a:lnTo>
                  <a:lnTo>
                    <a:pt x="517" y="60"/>
                  </a:lnTo>
                  <a:lnTo>
                    <a:pt x="525" y="49"/>
                  </a:lnTo>
                  <a:lnTo>
                    <a:pt x="534" y="38"/>
                  </a:lnTo>
                  <a:lnTo>
                    <a:pt x="542" y="26"/>
                  </a:lnTo>
                  <a:lnTo>
                    <a:pt x="551" y="13"/>
                  </a:lnTo>
                  <a:lnTo>
                    <a:pt x="5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5400000">
              <a:off x="4565160" y="5113080"/>
              <a:ext cx="251280" cy="752400"/>
            </a:xfrm>
            <a:custGeom>
              <a:avLst/>
              <a:gdLst/>
              <a:ahLst/>
              <a:rect l="l" t="t" r="r" b="b"/>
              <a:pathLst>
                <a:path w="2357" h="2009">
                  <a:moveTo>
                    <a:pt x="1258" y="2009"/>
                  </a:moveTo>
                  <a:lnTo>
                    <a:pt x="1319" y="1761"/>
                  </a:lnTo>
                  <a:lnTo>
                    <a:pt x="1377" y="1513"/>
                  </a:lnTo>
                  <a:lnTo>
                    <a:pt x="1405" y="1388"/>
                  </a:lnTo>
                  <a:lnTo>
                    <a:pt x="1434" y="1262"/>
                  </a:lnTo>
                  <a:lnTo>
                    <a:pt x="1461" y="1138"/>
                  </a:lnTo>
                  <a:lnTo>
                    <a:pt x="1488" y="1012"/>
                  </a:lnTo>
                  <a:lnTo>
                    <a:pt x="1514" y="886"/>
                  </a:lnTo>
                  <a:lnTo>
                    <a:pt x="1539" y="760"/>
                  </a:lnTo>
                  <a:lnTo>
                    <a:pt x="1565" y="635"/>
                  </a:lnTo>
                  <a:lnTo>
                    <a:pt x="1589" y="508"/>
                  </a:lnTo>
                  <a:lnTo>
                    <a:pt x="1612" y="381"/>
                  </a:lnTo>
                  <a:lnTo>
                    <a:pt x="1634" y="254"/>
                  </a:lnTo>
                  <a:lnTo>
                    <a:pt x="1657" y="127"/>
                  </a:lnTo>
                  <a:lnTo>
                    <a:pt x="1678" y="0"/>
                  </a:lnTo>
                  <a:lnTo>
                    <a:pt x="2357" y="0"/>
                  </a:lnTo>
                  <a:lnTo>
                    <a:pt x="2343" y="120"/>
                  </a:lnTo>
                  <a:lnTo>
                    <a:pt x="2328" y="237"/>
                  </a:lnTo>
                  <a:lnTo>
                    <a:pt x="2315" y="351"/>
                  </a:lnTo>
                  <a:lnTo>
                    <a:pt x="2300" y="459"/>
                  </a:lnTo>
                  <a:lnTo>
                    <a:pt x="2291" y="510"/>
                  </a:lnTo>
                  <a:lnTo>
                    <a:pt x="2284" y="557"/>
                  </a:lnTo>
                  <a:lnTo>
                    <a:pt x="2277" y="603"/>
                  </a:lnTo>
                  <a:lnTo>
                    <a:pt x="2268" y="645"/>
                  </a:lnTo>
                  <a:lnTo>
                    <a:pt x="2261" y="683"/>
                  </a:lnTo>
                  <a:lnTo>
                    <a:pt x="2252" y="718"/>
                  </a:lnTo>
                  <a:lnTo>
                    <a:pt x="2244" y="749"/>
                  </a:lnTo>
                  <a:lnTo>
                    <a:pt x="2235" y="774"/>
                  </a:lnTo>
                  <a:lnTo>
                    <a:pt x="2229" y="774"/>
                  </a:lnTo>
                  <a:lnTo>
                    <a:pt x="2224" y="775"/>
                  </a:lnTo>
                  <a:lnTo>
                    <a:pt x="2217" y="775"/>
                  </a:lnTo>
                  <a:lnTo>
                    <a:pt x="2211" y="775"/>
                  </a:lnTo>
                  <a:lnTo>
                    <a:pt x="2206" y="776"/>
                  </a:lnTo>
                  <a:lnTo>
                    <a:pt x="2200" y="778"/>
                  </a:lnTo>
                  <a:lnTo>
                    <a:pt x="2193" y="780"/>
                  </a:lnTo>
                  <a:lnTo>
                    <a:pt x="2187" y="782"/>
                  </a:lnTo>
                  <a:lnTo>
                    <a:pt x="2183" y="821"/>
                  </a:lnTo>
                  <a:lnTo>
                    <a:pt x="2177" y="858"/>
                  </a:lnTo>
                  <a:lnTo>
                    <a:pt x="2171" y="895"/>
                  </a:lnTo>
                  <a:lnTo>
                    <a:pt x="2165" y="932"/>
                  </a:lnTo>
                  <a:lnTo>
                    <a:pt x="2150" y="1006"/>
                  </a:lnTo>
                  <a:lnTo>
                    <a:pt x="2133" y="1078"/>
                  </a:lnTo>
                  <a:lnTo>
                    <a:pt x="2115" y="1151"/>
                  </a:lnTo>
                  <a:lnTo>
                    <a:pt x="2097" y="1223"/>
                  </a:lnTo>
                  <a:lnTo>
                    <a:pt x="2077" y="1295"/>
                  </a:lnTo>
                  <a:lnTo>
                    <a:pt x="2057" y="1367"/>
                  </a:lnTo>
                  <a:lnTo>
                    <a:pt x="2037" y="1439"/>
                  </a:lnTo>
                  <a:lnTo>
                    <a:pt x="2018" y="1511"/>
                  </a:lnTo>
                  <a:lnTo>
                    <a:pt x="1998" y="1583"/>
                  </a:lnTo>
                  <a:lnTo>
                    <a:pt x="1980" y="1656"/>
                  </a:lnTo>
                  <a:lnTo>
                    <a:pt x="1963" y="1729"/>
                  </a:lnTo>
                  <a:lnTo>
                    <a:pt x="1947" y="1802"/>
                  </a:lnTo>
                  <a:lnTo>
                    <a:pt x="1940" y="1839"/>
                  </a:lnTo>
                  <a:lnTo>
                    <a:pt x="1933" y="1876"/>
                  </a:lnTo>
                  <a:lnTo>
                    <a:pt x="1927" y="1913"/>
                  </a:lnTo>
                  <a:lnTo>
                    <a:pt x="1922" y="1952"/>
                  </a:lnTo>
                  <a:lnTo>
                    <a:pt x="1912" y="1953"/>
                  </a:lnTo>
                  <a:lnTo>
                    <a:pt x="1904" y="1956"/>
                  </a:lnTo>
                  <a:lnTo>
                    <a:pt x="1895" y="1961"/>
                  </a:lnTo>
                  <a:lnTo>
                    <a:pt x="1888" y="1967"/>
                  </a:lnTo>
                  <a:lnTo>
                    <a:pt x="1881" y="1976"/>
                  </a:lnTo>
                  <a:lnTo>
                    <a:pt x="1873" y="1985"/>
                  </a:lnTo>
                  <a:lnTo>
                    <a:pt x="1867" y="1997"/>
                  </a:lnTo>
                  <a:lnTo>
                    <a:pt x="1860" y="2009"/>
                  </a:lnTo>
                  <a:lnTo>
                    <a:pt x="1258" y="2009"/>
                  </a:lnTo>
                  <a:close/>
                  <a:moveTo>
                    <a:pt x="820" y="0"/>
                  </a:moveTo>
                  <a:lnTo>
                    <a:pt x="1027" y="0"/>
                  </a:lnTo>
                  <a:lnTo>
                    <a:pt x="994" y="136"/>
                  </a:lnTo>
                  <a:lnTo>
                    <a:pt x="961" y="271"/>
                  </a:lnTo>
                  <a:lnTo>
                    <a:pt x="929" y="407"/>
                  </a:lnTo>
                  <a:lnTo>
                    <a:pt x="897" y="543"/>
                  </a:lnTo>
                  <a:lnTo>
                    <a:pt x="864" y="679"/>
                  </a:lnTo>
                  <a:lnTo>
                    <a:pt x="833" y="816"/>
                  </a:lnTo>
                  <a:lnTo>
                    <a:pt x="801" y="953"/>
                  </a:lnTo>
                  <a:lnTo>
                    <a:pt x="769" y="1089"/>
                  </a:lnTo>
                  <a:lnTo>
                    <a:pt x="761" y="1092"/>
                  </a:lnTo>
                  <a:lnTo>
                    <a:pt x="751" y="1095"/>
                  </a:lnTo>
                  <a:lnTo>
                    <a:pt x="743" y="1099"/>
                  </a:lnTo>
                  <a:lnTo>
                    <a:pt x="734" y="1101"/>
                  </a:lnTo>
                  <a:lnTo>
                    <a:pt x="726" y="1104"/>
                  </a:lnTo>
                  <a:lnTo>
                    <a:pt x="719" y="1107"/>
                  </a:lnTo>
                  <a:lnTo>
                    <a:pt x="711" y="1110"/>
                  </a:lnTo>
                  <a:lnTo>
                    <a:pt x="705" y="1113"/>
                  </a:lnTo>
                  <a:lnTo>
                    <a:pt x="705" y="1126"/>
                  </a:lnTo>
                  <a:lnTo>
                    <a:pt x="704" y="1139"/>
                  </a:lnTo>
                  <a:lnTo>
                    <a:pt x="702" y="1153"/>
                  </a:lnTo>
                  <a:lnTo>
                    <a:pt x="700" y="1168"/>
                  </a:lnTo>
                  <a:lnTo>
                    <a:pt x="692" y="1200"/>
                  </a:lnTo>
                  <a:lnTo>
                    <a:pt x="683" y="1234"/>
                  </a:lnTo>
                  <a:lnTo>
                    <a:pt x="671" y="1270"/>
                  </a:lnTo>
                  <a:lnTo>
                    <a:pt x="657" y="1306"/>
                  </a:lnTo>
                  <a:lnTo>
                    <a:pt x="641" y="1343"/>
                  </a:lnTo>
                  <a:lnTo>
                    <a:pt x="625" y="1379"/>
                  </a:lnTo>
                  <a:lnTo>
                    <a:pt x="612" y="1379"/>
                  </a:lnTo>
                  <a:lnTo>
                    <a:pt x="600" y="1379"/>
                  </a:lnTo>
                  <a:lnTo>
                    <a:pt x="589" y="1379"/>
                  </a:lnTo>
                  <a:lnTo>
                    <a:pt x="576" y="1379"/>
                  </a:lnTo>
                  <a:lnTo>
                    <a:pt x="564" y="1379"/>
                  </a:lnTo>
                  <a:lnTo>
                    <a:pt x="552" y="1379"/>
                  </a:lnTo>
                  <a:lnTo>
                    <a:pt x="540" y="1379"/>
                  </a:lnTo>
                  <a:lnTo>
                    <a:pt x="527" y="1379"/>
                  </a:lnTo>
                  <a:lnTo>
                    <a:pt x="525" y="1377"/>
                  </a:lnTo>
                  <a:lnTo>
                    <a:pt x="522" y="1373"/>
                  </a:lnTo>
                  <a:lnTo>
                    <a:pt x="519" y="1370"/>
                  </a:lnTo>
                  <a:lnTo>
                    <a:pt x="516" y="1367"/>
                  </a:lnTo>
                  <a:lnTo>
                    <a:pt x="513" y="1364"/>
                  </a:lnTo>
                  <a:lnTo>
                    <a:pt x="509" y="1361"/>
                  </a:lnTo>
                  <a:lnTo>
                    <a:pt x="506" y="1357"/>
                  </a:lnTo>
                  <a:lnTo>
                    <a:pt x="504" y="1355"/>
                  </a:lnTo>
                  <a:lnTo>
                    <a:pt x="509" y="1352"/>
                  </a:lnTo>
                  <a:lnTo>
                    <a:pt x="516" y="1350"/>
                  </a:lnTo>
                  <a:lnTo>
                    <a:pt x="522" y="1349"/>
                  </a:lnTo>
                  <a:lnTo>
                    <a:pt x="528" y="1348"/>
                  </a:lnTo>
                  <a:lnTo>
                    <a:pt x="536" y="1347"/>
                  </a:lnTo>
                  <a:lnTo>
                    <a:pt x="543" y="1347"/>
                  </a:lnTo>
                  <a:lnTo>
                    <a:pt x="552" y="1347"/>
                  </a:lnTo>
                  <a:lnTo>
                    <a:pt x="560" y="1347"/>
                  </a:lnTo>
                  <a:lnTo>
                    <a:pt x="560" y="1337"/>
                  </a:lnTo>
                  <a:lnTo>
                    <a:pt x="560" y="1329"/>
                  </a:lnTo>
                  <a:lnTo>
                    <a:pt x="560" y="1319"/>
                  </a:lnTo>
                  <a:lnTo>
                    <a:pt x="561" y="1311"/>
                  </a:lnTo>
                  <a:lnTo>
                    <a:pt x="562" y="1301"/>
                  </a:lnTo>
                  <a:lnTo>
                    <a:pt x="563" y="1292"/>
                  </a:lnTo>
                  <a:lnTo>
                    <a:pt x="565" y="1284"/>
                  </a:lnTo>
                  <a:lnTo>
                    <a:pt x="569" y="1274"/>
                  </a:lnTo>
                  <a:lnTo>
                    <a:pt x="577" y="1226"/>
                  </a:lnTo>
                  <a:lnTo>
                    <a:pt x="587" y="1178"/>
                  </a:lnTo>
                  <a:lnTo>
                    <a:pt x="595" y="1129"/>
                  </a:lnTo>
                  <a:lnTo>
                    <a:pt x="604" y="1081"/>
                  </a:lnTo>
                  <a:lnTo>
                    <a:pt x="613" y="1032"/>
                  </a:lnTo>
                  <a:lnTo>
                    <a:pt x="622" y="984"/>
                  </a:lnTo>
                  <a:lnTo>
                    <a:pt x="632" y="936"/>
                  </a:lnTo>
                  <a:lnTo>
                    <a:pt x="640" y="887"/>
                  </a:lnTo>
                  <a:lnTo>
                    <a:pt x="644" y="884"/>
                  </a:lnTo>
                  <a:lnTo>
                    <a:pt x="647" y="882"/>
                  </a:lnTo>
                  <a:lnTo>
                    <a:pt x="650" y="879"/>
                  </a:lnTo>
                  <a:lnTo>
                    <a:pt x="654" y="877"/>
                  </a:lnTo>
                  <a:lnTo>
                    <a:pt x="657" y="874"/>
                  </a:lnTo>
                  <a:lnTo>
                    <a:pt x="662" y="872"/>
                  </a:lnTo>
                  <a:lnTo>
                    <a:pt x="667" y="871"/>
                  </a:lnTo>
                  <a:lnTo>
                    <a:pt x="673" y="871"/>
                  </a:lnTo>
                  <a:lnTo>
                    <a:pt x="678" y="848"/>
                  </a:lnTo>
                  <a:lnTo>
                    <a:pt x="683" y="827"/>
                  </a:lnTo>
                  <a:lnTo>
                    <a:pt x="686" y="807"/>
                  </a:lnTo>
                  <a:lnTo>
                    <a:pt x="688" y="788"/>
                  </a:lnTo>
                  <a:lnTo>
                    <a:pt x="689" y="771"/>
                  </a:lnTo>
                  <a:lnTo>
                    <a:pt x="689" y="755"/>
                  </a:lnTo>
                  <a:lnTo>
                    <a:pt x="689" y="740"/>
                  </a:lnTo>
                  <a:lnTo>
                    <a:pt x="688" y="726"/>
                  </a:lnTo>
                  <a:lnTo>
                    <a:pt x="685" y="700"/>
                  </a:lnTo>
                  <a:lnTo>
                    <a:pt x="681" y="677"/>
                  </a:lnTo>
                  <a:lnTo>
                    <a:pt x="676" y="654"/>
                  </a:lnTo>
                  <a:lnTo>
                    <a:pt x="673" y="629"/>
                  </a:lnTo>
                  <a:lnTo>
                    <a:pt x="675" y="596"/>
                  </a:lnTo>
                  <a:lnTo>
                    <a:pt x="678" y="565"/>
                  </a:lnTo>
                  <a:lnTo>
                    <a:pt x="683" y="533"/>
                  </a:lnTo>
                  <a:lnTo>
                    <a:pt x="686" y="501"/>
                  </a:lnTo>
                  <a:lnTo>
                    <a:pt x="690" y="471"/>
                  </a:lnTo>
                  <a:lnTo>
                    <a:pt x="694" y="440"/>
                  </a:lnTo>
                  <a:lnTo>
                    <a:pt x="700" y="409"/>
                  </a:lnTo>
                  <a:lnTo>
                    <a:pt x="705" y="380"/>
                  </a:lnTo>
                  <a:lnTo>
                    <a:pt x="693" y="383"/>
                  </a:lnTo>
                  <a:lnTo>
                    <a:pt x="681" y="386"/>
                  </a:lnTo>
                  <a:lnTo>
                    <a:pt x="669" y="388"/>
                  </a:lnTo>
                  <a:lnTo>
                    <a:pt x="656" y="391"/>
                  </a:lnTo>
                  <a:lnTo>
                    <a:pt x="645" y="395"/>
                  </a:lnTo>
                  <a:lnTo>
                    <a:pt x="633" y="398"/>
                  </a:lnTo>
                  <a:lnTo>
                    <a:pt x="620" y="401"/>
                  </a:lnTo>
                  <a:lnTo>
                    <a:pt x="609" y="404"/>
                  </a:lnTo>
                  <a:lnTo>
                    <a:pt x="607" y="429"/>
                  </a:lnTo>
                  <a:lnTo>
                    <a:pt x="603" y="461"/>
                  </a:lnTo>
                  <a:lnTo>
                    <a:pt x="596" y="500"/>
                  </a:lnTo>
                  <a:lnTo>
                    <a:pt x="588" y="545"/>
                  </a:lnTo>
                  <a:lnTo>
                    <a:pt x="577" y="594"/>
                  </a:lnTo>
                  <a:lnTo>
                    <a:pt x="565" y="646"/>
                  </a:lnTo>
                  <a:lnTo>
                    <a:pt x="552" y="700"/>
                  </a:lnTo>
                  <a:lnTo>
                    <a:pt x="537" y="755"/>
                  </a:lnTo>
                  <a:lnTo>
                    <a:pt x="521" y="811"/>
                  </a:lnTo>
                  <a:lnTo>
                    <a:pt x="504" y="865"/>
                  </a:lnTo>
                  <a:lnTo>
                    <a:pt x="486" y="918"/>
                  </a:lnTo>
                  <a:lnTo>
                    <a:pt x="469" y="967"/>
                  </a:lnTo>
                  <a:lnTo>
                    <a:pt x="451" y="1013"/>
                  </a:lnTo>
                  <a:lnTo>
                    <a:pt x="433" y="1052"/>
                  </a:lnTo>
                  <a:lnTo>
                    <a:pt x="425" y="1070"/>
                  </a:lnTo>
                  <a:lnTo>
                    <a:pt x="415" y="1087"/>
                  </a:lnTo>
                  <a:lnTo>
                    <a:pt x="407" y="1101"/>
                  </a:lnTo>
                  <a:lnTo>
                    <a:pt x="398" y="1113"/>
                  </a:lnTo>
                  <a:lnTo>
                    <a:pt x="403" y="1128"/>
                  </a:lnTo>
                  <a:lnTo>
                    <a:pt x="406" y="1145"/>
                  </a:lnTo>
                  <a:lnTo>
                    <a:pt x="408" y="1162"/>
                  </a:lnTo>
                  <a:lnTo>
                    <a:pt x="408" y="1181"/>
                  </a:lnTo>
                  <a:lnTo>
                    <a:pt x="408" y="1202"/>
                  </a:lnTo>
                  <a:lnTo>
                    <a:pt x="407" y="1223"/>
                  </a:lnTo>
                  <a:lnTo>
                    <a:pt x="404" y="1245"/>
                  </a:lnTo>
                  <a:lnTo>
                    <a:pt x="401" y="1269"/>
                  </a:lnTo>
                  <a:lnTo>
                    <a:pt x="396" y="1294"/>
                  </a:lnTo>
                  <a:lnTo>
                    <a:pt x="391" y="1319"/>
                  </a:lnTo>
                  <a:lnTo>
                    <a:pt x="386" y="1346"/>
                  </a:lnTo>
                  <a:lnTo>
                    <a:pt x="379" y="1373"/>
                  </a:lnTo>
                  <a:lnTo>
                    <a:pt x="364" y="1429"/>
                  </a:lnTo>
                  <a:lnTo>
                    <a:pt x="347" y="1490"/>
                  </a:lnTo>
                  <a:lnTo>
                    <a:pt x="327" y="1551"/>
                  </a:lnTo>
                  <a:lnTo>
                    <a:pt x="306" y="1614"/>
                  </a:lnTo>
                  <a:lnTo>
                    <a:pt x="283" y="1680"/>
                  </a:lnTo>
                  <a:lnTo>
                    <a:pt x="260" y="1745"/>
                  </a:lnTo>
                  <a:lnTo>
                    <a:pt x="212" y="1879"/>
                  </a:lnTo>
                  <a:lnTo>
                    <a:pt x="165" y="2009"/>
                  </a:lnTo>
                  <a:lnTo>
                    <a:pt x="0" y="2009"/>
                  </a:lnTo>
                  <a:lnTo>
                    <a:pt x="28" y="1966"/>
                  </a:lnTo>
                  <a:lnTo>
                    <a:pt x="54" y="1921"/>
                  </a:lnTo>
                  <a:lnTo>
                    <a:pt x="79" y="1873"/>
                  </a:lnTo>
                  <a:lnTo>
                    <a:pt x="103" y="1827"/>
                  </a:lnTo>
                  <a:lnTo>
                    <a:pt x="124" y="1782"/>
                  </a:lnTo>
                  <a:lnTo>
                    <a:pt x="142" y="1742"/>
                  </a:lnTo>
                  <a:lnTo>
                    <a:pt x="156" y="1706"/>
                  </a:lnTo>
                  <a:lnTo>
                    <a:pt x="165" y="1678"/>
                  </a:lnTo>
                  <a:lnTo>
                    <a:pt x="169" y="1677"/>
                  </a:lnTo>
                  <a:lnTo>
                    <a:pt x="172" y="1676"/>
                  </a:lnTo>
                  <a:lnTo>
                    <a:pt x="176" y="1674"/>
                  </a:lnTo>
                  <a:lnTo>
                    <a:pt x="178" y="1671"/>
                  </a:lnTo>
                  <a:lnTo>
                    <a:pt x="183" y="1664"/>
                  </a:lnTo>
                  <a:lnTo>
                    <a:pt x="187" y="1655"/>
                  </a:lnTo>
                  <a:lnTo>
                    <a:pt x="190" y="1644"/>
                  </a:lnTo>
                  <a:lnTo>
                    <a:pt x="194" y="1630"/>
                  </a:lnTo>
                  <a:lnTo>
                    <a:pt x="196" y="1616"/>
                  </a:lnTo>
                  <a:lnTo>
                    <a:pt x="198" y="1601"/>
                  </a:lnTo>
                  <a:lnTo>
                    <a:pt x="200" y="1568"/>
                  </a:lnTo>
                  <a:lnTo>
                    <a:pt x="201" y="1534"/>
                  </a:lnTo>
                  <a:lnTo>
                    <a:pt x="203" y="1503"/>
                  </a:lnTo>
                  <a:lnTo>
                    <a:pt x="205" y="1476"/>
                  </a:lnTo>
                  <a:lnTo>
                    <a:pt x="212" y="1470"/>
                  </a:lnTo>
                  <a:lnTo>
                    <a:pt x="219" y="1464"/>
                  </a:lnTo>
                  <a:lnTo>
                    <a:pt x="226" y="1458"/>
                  </a:lnTo>
                  <a:lnTo>
                    <a:pt x="235" y="1453"/>
                  </a:lnTo>
                  <a:lnTo>
                    <a:pt x="243" y="1447"/>
                  </a:lnTo>
                  <a:lnTo>
                    <a:pt x="252" y="1443"/>
                  </a:lnTo>
                  <a:lnTo>
                    <a:pt x="261" y="1439"/>
                  </a:lnTo>
                  <a:lnTo>
                    <a:pt x="270" y="1436"/>
                  </a:lnTo>
                  <a:lnTo>
                    <a:pt x="271" y="1409"/>
                  </a:lnTo>
                  <a:lnTo>
                    <a:pt x="272" y="1382"/>
                  </a:lnTo>
                  <a:lnTo>
                    <a:pt x="274" y="1354"/>
                  </a:lnTo>
                  <a:lnTo>
                    <a:pt x="277" y="1325"/>
                  </a:lnTo>
                  <a:lnTo>
                    <a:pt x="280" y="1296"/>
                  </a:lnTo>
                  <a:lnTo>
                    <a:pt x="284" y="1268"/>
                  </a:lnTo>
                  <a:lnTo>
                    <a:pt x="290" y="1239"/>
                  </a:lnTo>
                  <a:lnTo>
                    <a:pt x="295" y="1212"/>
                  </a:lnTo>
                  <a:lnTo>
                    <a:pt x="301" y="1185"/>
                  </a:lnTo>
                  <a:lnTo>
                    <a:pt x="308" y="1160"/>
                  </a:lnTo>
                  <a:lnTo>
                    <a:pt x="314" y="1136"/>
                  </a:lnTo>
                  <a:lnTo>
                    <a:pt x="321" y="1113"/>
                  </a:lnTo>
                  <a:lnTo>
                    <a:pt x="328" y="1093"/>
                  </a:lnTo>
                  <a:lnTo>
                    <a:pt x="335" y="1076"/>
                  </a:lnTo>
                  <a:lnTo>
                    <a:pt x="342" y="1060"/>
                  </a:lnTo>
                  <a:lnTo>
                    <a:pt x="351" y="1049"/>
                  </a:lnTo>
                  <a:lnTo>
                    <a:pt x="348" y="1039"/>
                  </a:lnTo>
                  <a:lnTo>
                    <a:pt x="345" y="1031"/>
                  </a:lnTo>
                  <a:lnTo>
                    <a:pt x="341" y="1021"/>
                  </a:lnTo>
                  <a:lnTo>
                    <a:pt x="338" y="1012"/>
                  </a:lnTo>
                  <a:lnTo>
                    <a:pt x="335" y="1003"/>
                  </a:lnTo>
                  <a:lnTo>
                    <a:pt x="332" y="994"/>
                  </a:lnTo>
                  <a:lnTo>
                    <a:pt x="330" y="985"/>
                  </a:lnTo>
                  <a:lnTo>
                    <a:pt x="327" y="976"/>
                  </a:lnTo>
                  <a:lnTo>
                    <a:pt x="335" y="973"/>
                  </a:lnTo>
                  <a:lnTo>
                    <a:pt x="345" y="970"/>
                  </a:lnTo>
                  <a:lnTo>
                    <a:pt x="353" y="967"/>
                  </a:lnTo>
                  <a:lnTo>
                    <a:pt x="363" y="964"/>
                  </a:lnTo>
                  <a:lnTo>
                    <a:pt x="372" y="961"/>
                  </a:lnTo>
                  <a:lnTo>
                    <a:pt x="381" y="958"/>
                  </a:lnTo>
                  <a:lnTo>
                    <a:pt x="390" y="955"/>
                  </a:lnTo>
                  <a:lnTo>
                    <a:pt x="398" y="952"/>
                  </a:lnTo>
                  <a:lnTo>
                    <a:pt x="402" y="927"/>
                  </a:lnTo>
                  <a:lnTo>
                    <a:pt x="405" y="904"/>
                  </a:lnTo>
                  <a:lnTo>
                    <a:pt x="408" y="880"/>
                  </a:lnTo>
                  <a:lnTo>
                    <a:pt x="412" y="856"/>
                  </a:lnTo>
                  <a:lnTo>
                    <a:pt x="415" y="833"/>
                  </a:lnTo>
                  <a:lnTo>
                    <a:pt x="421" y="810"/>
                  </a:lnTo>
                  <a:lnTo>
                    <a:pt x="425" y="788"/>
                  </a:lnTo>
                  <a:lnTo>
                    <a:pt x="431" y="767"/>
                  </a:lnTo>
                  <a:lnTo>
                    <a:pt x="439" y="758"/>
                  </a:lnTo>
                  <a:lnTo>
                    <a:pt x="446" y="748"/>
                  </a:lnTo>
                  <a:lnTo>
                    <a:pt x="453" y="736"/>
                  </a:lnTo>
                  <a:lnTo>
                    <a:pt x="462" y="723"/>
                  </a:lnTo>
                  <a:lnTo>
                    <a:pt x="477" y="694"/>
                  </a:lnTo>
                  <a:lnTo>
                    <a:pt x="491" y="660"/>
                  </a:lnTo>
                  <a:lnTo>
                    <a:pt x="506" y="622"/>
                  </a:lnTo>
                  <a:lnTo>
                    <a:pt x="520" y="582"/>
                  </a:lnTo>
                  <a:lnTo>
                    <a:pt x="534" y="539"/>
                  </a:lnTo>
                  <a:lnTo>
                    <a:pt x="546" y="496"/>
                  </a:lnTo>
                  <a:lnTo>
                    <a:pt x="557" y="454"/>
                  </a:lnTo>
                  <a:lnTo>
                    <a:pt x="567" y="411"/>
                  </a:lnTo>
                  <a:lnTo>
                    <a:pt x="577" y="371"/>
                  </a:lnTo>
                  <a:lnTo>
                    <a:pt x="585" y="333"/>
                  </a:lnTo>
                  <a:lnTo>
                    <a:pt x="592" y="299"/>
                  </a:lnTo>
                  <a:lnTo>
                    <a:pt x="596" y="270"/>
                  </a:lnTo>
                  <a:lnTo>
                    <a:pt x="599" y="244"/>
                  </a:lnTo>
                  <a:lnTo>
                    <a:pt x="600" y="227"/>
                  </a:lnTo>
                  <a:lnTo>
                    <a:pt x="618" y="223"/>
                  </a:lnTo>
                  <a:lnTo>
                    <a:pt x="638" y="220"/>
                  </a:lnTo>
                  <a:lnTo>
                    <a:pt x="657" y="217"/>
                  </a:lnTo>
                  <a:lnTo>
                    <a:pt x="677" y="214"/>
                  </a:lnTo>
                  <a:lnTo>
                    <a:pt x="698" y="212"/>
                  </a:lnTo>
                  <a:lnTo>
                    <a:pt x="720" y="209"/>
                  </a:lnTo>
                  <a:lnTo>
                    <a:pt x="740" y="205"/>
                  </a:lnTo>
                  <a:lnTo>
                    <a:pt x="762" y="202"/>
                  </a:lnTo>
                  <a:lnTo>
                    <a:pt x="759" y="191"/>
                  </a:lnTo>
                  <a:lnTo>
                    <a:pt x="756" y="179"/>
                  </a:lnTo>
                  <a:lnTo>
                    <a:pt x="752" y="169"/>
                  </a:lnTo>
                  <a:lnTo>
                    <a:pt x="749" y="159"/>
                  </a:lnTo>
                  <a:lnTo>
                    <a:pt x="746" y="149"/>
                  </a:lnTo>
                  <a:lnTo>
                    <a:pt x="743" y="140"/>
                  </a:lnTo>
                  <a:lnTo>
                    <a:pt x="740" y="130"/>
                  </a:lnTo>
                  <a:lnTo>
                    <a:pt x="738" y="122"/>
                  </a:lnTo>
                  <a:lnTo>
                    <a:pt x="744" y="119"/>
                  </a:lnTo>
                  <a:lnTo>
                    <a:pt x="750" y="116"/>
                  </a:lnTo>
                  <a:lnTo>
                    <a:pt x="759" y="112"/>
                  </a:lnTo>
                  <a:lnTo>
                    <a:pt x="766" y="109"/>
                  </a:lnTo>
                  <a:lnTo>
                    <a:pt x="775" y="106"/>
                  </a:lnTo>
                  <a:lnTo>
                    <a:pt x="784" y="104"/>
                  </a:lnTo>
                  <a:lnTo>
                    <a:pt x="792" y="101"/>
                  </a:lnTo>
                  <a:lnTo>
                    <a:pt x="802" y="98"/>
                  </a:lnTo>
                  <a:lnTo>
                    <a:pt x="804" y="87"/>
                  </a:lnTo>
                  <a:lnTo>
                    <a:pt x="806" y="75"/>
                  </a:lnTo>
                  <a:lnTo>
                    <a:pt x="808" y="64"/>
                  </a:lnTo>
                  <a:lnTo>
                    <a:pt x="810" y="52"/>
                  </a:lnTo>
                  <a:lnTo>
                    <a:pt x="813" y="39"/>
                  </a:lnTo>
                  <a:lnTo>
                    <a:pt x="815" y="27"/>
                  </a:lnTo>
                  <a:lnTo>
                    <a:pt x="818" y="14"/>
                  </a:lnTo>
                  <a:lnTo>
                    <a:pt x="820" y="0"/>
                  </a:lnTo>
                  <a:close/>
                  <a:moveTo>
                    <a:pt x="1160" y="0"/>
                  </a:moveTo>
                  <a:lnTo>
                    <a:pt x="1353" y="0"/>
                  </a:lnTo>
                  <a:lnTo>
                    <a:pt x="1344" y="16"/>
                  </a:lnTo>
                  <a:lnTo>
                    <a:pt x="1335" y="33"/>
                  </a:lnTo>
                  <a:lnTo>
                    <a:pt x="1329" y="50"/>
                  </a:lnTo>
                  <a:lnTo>
                    <a:pt x="1324" y="67"/>
                  </a:lnTo>
                  <a:lnTo>
                    <a:pt x="1316" y="102"/>
                  </a:lnTo>
                  <a:lnTo>
                    <a:pt x="1308" y="138"/>
                  </a:lnTo>
                  <a:lnTo>
                    <a:pt x="1303" y="156"/>
                  </a:lnTo>
                  <a:lnTo>
                    <a:pt x="1296" y="174"/>
                  </a:lnTo>
                  <a:lnTo>
                    <a:pt x="1289" y="192"/>
                  </a:lnTo>
                  <a:lnTo>
                    <a:pt x="1278" y="211"/>
                  </a:lnTo>
                  <a:lnTo>
                    <a:pt x="1273" y="219"/>
                  </a:lnTo>
                  <a:lnTo>
                    <a:pt x="1267" y="229"/>
                  </a:lnTo>
                  <a:lnTo>
                    <a:pt x="1259" y="238"/>
                  </a:lnTo>
                  <a:lnTo>
                    <a:pt x="1252" y="247"/>
                  </a:lnTo>
                  <a:lnTo>
                    <a:pt x="1244" y="256"/>
                  </a:lnTo>
                  <a:lnTo>
                    <a:pt x="1234" y="265"/>
                  </a:lnTo>
                  <a:lnTo>
                    <a:pt x="1223" y="274"/>
                  </a:lnTo>
                  <a:lnTo>
                    <a:pt x="1213" y="283"/>
                  </a:lnTo>
                  <a:lnTo>
                    <a:pt x="1197" y="274"/>
                  </a:lnTo>
                  <a:lnTo>
                    <a:pt x="1182" y="265"/>
                  </a:lnTo>
                  <a:lnTo>
                    <a:pt x="1167" y="256"/>
                  </a:lnTo>
                  <a:lnTo>
                    <a:pt x="1153" y="248"/>
                  </a:lnTo>
                  <a:lnTo>
                    <a:pt x="1139" y="239"/>
                  </a:lnTo>
                  <a:lnTo>
                    <a:pt x="1125" y="232"/>
                  </a:lnTo>
                  <a:lnTo>
                    <a:pt x="1113" y="224"/>
                  </a:lnTo>
                  <a:lnTo>
                    <a:pt x="1100" y="218"/>
                  </a:lnTo>
                  <a:lnTo>
                    <a:pt x="1100" y="210"/>
                  </a:lnTo>
                  <a:lnTo>
                    <a:pt x="1100" y="200"/>
                  </a:lnTo>
                  <a:lnTo>
                    <a:pt x="1100" y="192"/>
                  </a:lnTo>
                  <a:lnTo>
                    <a:pt x="1100" y="182"/>
                  </a:lnTo>
                  <a:lnTo>
                    <a:pt x="1100" y="173"/>
                  </a:lnTo>
                  <a:lnTo>
                    <a:pt x="1100" y="164"/>
                  </a:lnTo>
                  <a:lnTo>
                    <a:pt x="1100" y="155"/>
                  </a:lnTo>
                  <a:lnTo>
                    <a:pt x="1100" y="146"/>
                  </a:lnTo>
                  <a:lnTo>
                    <a:pt x="1108" y="137"/>
                  </a:lnTo>
                  <a:lnTo>
                    <a:pt x="1117" y="127"/>
                  </a:lnTo>
                  <a:lnTo>
                    <a:pt x="1123" y="118"/>
                  </a:lnTo>
                  <a:lnTo>
                    <a:pt x="1129" y="108"/>
                  </a:lnTo>
                  <a:lnTo>
                    <a:pt x="1135" y="100"/>
                  </a:lnTo>
                  <a:lnTo>
                    <a:pt x="1140" y="90"/>
                  </a:lnTo>
                  <a:lnTo>
                    <a:pt x="1144" y="81"/>
                  </a:lnTo>
                  <a:lnTo>
                    <a:pt x="1147" y="72"/>
                  </a:lnTo>
                  <a:lnTo>
                    <a:pt x="1153" y="53"/>
                  </a:lnTo>
                  <a:lnTo>
                    <a:pt x="1156" y="35"/>
                  </a:lnTo>
                  <a:lnTo>
                    <a:pt x="1159" y="18"/>
                  </a:lnTo>
                  <a:lnTo>
                    <a:pt x="1160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5400000">
              <a:off x="5335200" y="5155920"/>
              <a:ext cx="212040" cy="747720"/>
            </a:xfrm>
            <a:custGeom>
              <a:avLst/>
              <a:gdLst/>
              <a:ahLst/>
              <a:rect l="l" t="t" r="r" b="b"/>
              <a:pathLst>
                <a:path w="1981" h="2008">
                  <a:moveTo>
                    <a:pt x="1109" y="2008"/>
                  </a:moveTo>
                  <a:lnTo>
                    <a:pt x="1128" y="1884"/>
                  </a:lnTo>
                  <a:lnTo>
                    <a:pt x="1147" y="1759"/>
                  </a:lnTo>
                  <a:lnTo>
                    <a:pt x="1165" y="1634"/>
                  </a:lnTo>
                  <a:lnTo>
                    <a:pt x="1182" y="1508"/>
                  </a:lnTo>
                  <a:lnTo>
                    <a:pt x="1197" y="1384"/>
                  </a:lnTo>
                  <a:lnTo>
                    <a:pt x="1212" y="1258"/>
                  </a:lnTo>
                  <a:lnTo>
                    <a:pt x="1226" y="1132"/>
                  </a:lnTo>
                  <a:lnTo>
                    <a:pt x="1239" y="1006"/>
                  </a:lnTo>
                  <a:lnTo>
                    <a:pt x="1250" y="882"/>
                  </a:lnTo>
                  <a:lnTo>
                    <a:pt x="1261" y="756"/>
                  </a:lnTo>
                  <a:lnTo>
                    <a:pt x="1270" y="630"/>
                  </a:lnTo>
                  <a:lnTo>
                    <a:pt x="1278" y="503"/>
                  </a:lnTo>
                  <a:lnTo>
                    <a:pt x="1284" y="377"/>
                  </a:lnTo>
                  <a:lnTo>
                    <a:pt x="1289" y="252"/>
                  </a:lnTo>
                  <a:lnTo>
                    <a:pt x="1294" y="126"/>
                  </a:lnTo>
                  <a:lnTo>
                    <a:pt x="1297" y="0"/>
                  </a:lnTo>
                  <a:lnTo>
                    <a:pt x="1981" y="0"/>
                  </a:lnTo>
                  <a:lnTo>
                    <a:pt x="1981" y="8"/>
                  </a:lnTo>
                  <a:lnTo>
                    <a:pt x="1981" y="18"/>
                  </a:lnTo>
                  <a:lnTo>
                    <a:pt x="1981" y="27"/>
                  </a:lnTo>
                  <a:lnTo>
                    <a:pt x="1981" y="37"/>
                  </a:lnTo>
                  <a:lnTo>
                    <a:pt x="1981" y="45"/>
                  </a:lnTo>
                  <a:lnTo>
                    <a:pt x="1981" y="55"/>
                  </a:lnTo>
                  <a:lnTo>
                    <a:pt x="1981" y="64"/>
                  </a:lnTo>
                  <a:lnTo>
                    <a:pt x="1981" y="74"/>
                  </a:lnTo>
                  <a:lnTo>
                    <a:pt x="1972" y="74"/>
                  </a:lnTo>
                  <a:lnTo>
                    <a:pt x="1964" y="75"/>
                  </a:lnTo>
                  <a:lnTo>
                    <a:pt x="1957" y="77"/>
                  </a:lnTo>
                  <a:lnTo>
                    <a:pt x="1950" y="79"/>
                  </a:lnTo>
                  <a:lnTo>
                    <a:pt x="1943" y="81"/>
                  </a:lnTo>
                  <a:lnTo>
                    <a:pt x="1937" y="85"/>
                  </a:lnTo>
                  <a:lnTo>
                    <a:pt x="1931" y="87"/>
                  </a:lnTo>
                  <a:lnTo>
                    <a:pt x="1924" y="90"/>
                  </a:lnTo>
                  <a:lnTo>
                    <a:pt x="1922" y="96"/>
                  </a:lnTo>
                  <a:lnTo>
                    <a:pt x="1920" y="104"/>
                  </a:lnTo>
                  <a:lnTo>
                    <a:pt x="1918" y="111"/>
                  </a:lnTo>
                  <a:lnTo>
                    <a:pt x="1918" y="119"/>
                  </a:lnTo>
                  <a:lnTo>
                    <a:pt x="1917" y="128"/>
                  </a:lnTo>
                  <a:lnTo>
                    <a:pt x="1917" y="136"/>
                  </a:lnTo>
                  <a:lnTo>
                    <a:pt x="1917" y="146"/>
                  </a:lnTo>
                  <a:lnTo>
                    <a:pt x="1917" y="154"/>
                  </a:lnTo>
                  <a:lnTo>
                    <a:pt x="1927" y="167"/>
                  </a:lnTo>
                  <a:lnTo>
                    <a:pt x="1938" y="182"/>
                  </a:lnTo>
                  <a:lnTo>
                    <a:pt x="1946" y="198"/>
                  </a:lnTo>
                  <a:lnTo>
                    <a:pt x="1954" y="215"/>
                  </a:lnTo>
                  <a:lnTo>
                    <a:pt x="1959" y="233"/>
                  </a:lnTo>
                  <a:lnTo>
                    <a:pt x="1964" y="252"/>
                  </a:lnTo>
                  <a:lnTo>
                    <a:pt x="1969" y="272"/>
                  </a:lnTo>
                  <a:lnTo>
                    <a:pt x="1972" y="293"/>
                  </a:lnTo>
                  <a:lnTo>
                    <a:pt x="1974" y="315"/>
                  </a:lnTo>
                  <a:lnTo>
                    <a:pt x="1975" y="337"/>
                  </a:lnTo>
                  <a:lnTo>
                    <a:pt x="1976" y="360"/>
                  </a:lnTo>
                  <a:lnTo>
                    <a:pt x="1976" y="385"/>
                  </a:lnTo>
                  <a:lnTo>
                    <a:pt x="1975" y="434"/>
                  </a:lnTo>
                  <a:lnTo>
                    <a:pt x="1973" y="485"/>
                  </a:lnTo>
                  <a:lnTo>
                    <a:pt x="1969" y="485"/>
                  </a:lnTo>
                  <a:lnTo>
                    <a:pt x="1964" y="487"/>
                  </a:lnTo>
                  <a:lnTo>
                    <a:pt x="1961" y="489"/>
                  </a:lnTo>
                  <a:lnTo>
                    <a:pt x="1958" y="493"/>
                  </a:lnTo>
                  <a:lnTo>
                    <a:pt x="1956" y="497"/>
                  </a:lnTo>
                  <a:lnTo>
                    <a:pt x="1954" y="502"/>
                  </a:lnTo>
                  <a:lnTo>
                    <a:pt x="1952" y="507"/>
                  </a:lnTo>
                  <a:lnTo>
                    <a:pt x="1950" y="514"/>
                  </a:lnTo>
                  <a:lnTo>
                    <a:pt x="1947" y="529"/>
                  </a:lnTo>
                  <a:lnTo>
                    <a:pt x="1946" y="544"/>
                  </a:lnTo>
                  <a:lnTo>
                    <a:pt x="1946" y="562"/>
                  </a:lnTo>
                  <a:lnTo>
                    <a:pt x="1946" y="581"/>
                  </a:lnTo>
                  <a:lnTo>
                    <a:pt x="1948" y="623"/>
                  </a:lnTo>
                  <a:lnTo>
                    <a:pt x="1953" y="662"/>
                  </a:lnTo>
                  <a:lnTo>
                    <a:pt x="1955" y="698"/>
                  </a:lnTo>
                  <a:lnTo>
                    <a:pt x="1957" y="727"/>
                  </a:lnTo>
                  <a:lnTo>
                    <a:pt x="1954" y="728"/>
                  </a:lnTo>
                  <a:lnTo>
                    <a:pt x="1951" y="730"/>
                  </a:lnTo>
                  <a:lnTo>
                    <a:pt x="1948" y="735"/>
                  </a:lnTo>
                  <a:lnTo>
                    <a:pt x="1946" y="741"/>
                  </a:lnTo>
                  <a:lnTo>
                    <a:pt x="1942" y="757"/>
                  </a:lnTo>
                  <a:lnTo>
                    <a:pt x="1938" y="778"/>
                  </a:lnTo>
                  <a:lnTo>
                    <a:pt x="1935" y="804"/>
                  </a:lnTo>
                  <a:lnTo>
                    <a:pt x="1933" y="833"/>
                  </a:lnTo>
                  <a:lnTo>
                    <a:pt x="1931" y="865"/>
                  </a:lnTo>
                  <a:lnTo>
                    <a:pt x="1929" y="897"/>
                  </a:lnTo>
                  <a:lnTo>
                    <a:pt x="1928" y="965"/>
                  </a:lnTo>
                  <a:lnTo>
                    <a:pt x="1928" y="1030"/>
                  </a:lnTo>
                  <a:lnTo>
                    <a:pt x="1929" y="1084"/>
                  </a:lnTo>
                  <a:lnTo>
                    <a:pt x="1933" y="1121"/>
                  </a:lnTo>
                  <a:lnTo>
                    <a:pt x="1926" y="1125"/>
                  </a:lnTo>
                  <a:lnTo>
                    <a:pt x="1922" y="1128"/>
                  </a:lnTo>
                  <a:lnTo>
                    <a:pt x="1917" y="1131"/>
                  </a:lnTo>
                  <a:lnTo>
                    <a:pt x="1914" y="1134"/>
                  </a:lnTo>
                  <a:lnTo>
                    <a:pt x="1909" y="1137"/>
                  </a:lnTo>
                  <a:lnTo>
                    <a:pt x="1906" y="1141"/>
                  </a:lnTo>
                  <a:lnTo>
                    <a:pt x="1903" y="1144"/>
                  </a:lnTo>
                  <a:lnTo>
                    <a:pt x="1900" y="1146"/>
                  </a:lnTo>
                  <a:lnTo>
                    <a:pt x="1901" y="1167"/>
                  </a:lnTo>
                  <a:lnTo>
                    <a:pt x="1902" y="1189"/>
                  </a:lnTo>
                  <a:lnTo>
                    <a:pt x="1903" y="1210"/>
                  </a:lnTo>
                  <a:lnTo>
                    <a:pt x="1905" y="1231"/>
                  </a:lnTo>
                  <a:lnTo>
                    <a:pt x="1907" y="1254"/>
                  </a:lnTo>
                  <a:lnTo>
                    <a:pt x="1910" y="1277"/>
                  </a:lnTo>
                  <a:lnTo>
                    <a:pt x="1914" y="1300"/>
                  </a:lnTo>
                  <a:lnTo>
                    <a:pt x="1917" y="1323"/>
                  </a:lnTo>
                  <a:lnTo>
                    <a:pt x="1911" y="1324"/>
                  </a:lnTo>
                  <a:lnTo>
                    <a:pt x="1907" y="1328"/>
                  </a:lnTo>
                  <a:lnTo>
                    <a:pt x="1903" y="1332"/>
                  </a:lnTo>
                  <a:lnTo>
                    <a:pt x="1899" y="1338"/>
                  </a:lnTo>
                  <a:lnTo>
                    <a:pt x="1895" y="1347"/>
                  </a:lnTo>
                  <a:lnTo>
                    <a:pt x="1890" y="1356"/>
                  </a:lnTo>
                  <a:lnTo>
                    <a:pt x="1886" y="1368"/>
                  </a:lnTo>
                  <a:lnTo>
                    <a:pt x="1882" y="1380"/>
                  </a:lnTo>
                  <a:lnTo>
                    <a:pt x="1875" y="1411"/>
                  </a:lnTo>
                  <a:lnTo>
                    <a:pt x="1866" y="1447"/>
                  </a:lnTo>
                  <a:lnTo>
                    <a:pt x="1858" y="1488"/>
                  </a:lnTo>
                  <a:lnTo>
                    <a:pt x="1850" y="1534"/>
                  </a:lnTo>
                  <a:lnTo>
                    <a:pt x="1834" y="1636"/>
                  </a:lnTo>
                  <a:lnTo>
                    <a:pt x="1819" y="1753"/>
                  </a:lnTo>
                  <a:lnTo>
                    <a:pt x="1804" y="1877"/>
                  </a:lnTo>
                  <a:lnTo>
                    <a:pt x="1788" y="2008"/>
                  </a:lnTo>
                  <a:lnTo>
                    <a:pt x="1109" y="2008"/>
                  </a:lnTo>
                  <a:close/>
                  <a:moveTo>
                    <a:pt x="784" y="2008"/>
                  </a:moveTo>
                  <a:lnTo>
                    <a:pt x="591" y="2008"/>
                  </a:lnTo>
                  <a:lnTo>
                    <a:pt x="591" y="1989"/>
                  </a:lnTo>
                  <a:lnTo>
                    <a:pt x="592" y="1970"/>
                  </a:lnTo>
                  <a:lnTo>
                    <a:pt x="593" y="1952"/>
                  </a:lnTo>
                  <a:lnTo>
                    <a:pt x="595" y="1935"/>
                  </a:lnTo>
                  <a:lnTo>
                    <a:pt x="597" y="1927"/>
                  </a:lnTo>
                  <a:lnTo>
                    <a:pt x="600" y="1918"/>
                  </a:lnTo>
                  <a:lnTo>
                    <a:pt x="603" y="1910"/>
                  </a:lnTo>
                  <a:lnTo>
                    <a:pt x="606" y="1902"/>
                  </a:lnTo>
                  <a:lnTo>
                    <a:pt x="610" y="1894"/>
                  </a:lnTo>
                  <a:lnTo>
                    <a:pt x="615" y="1887"/>
                  </a:lnTo>
                  <a:lnTo>
                    <a:pt x="621" y="1879"/>
                  </a:lnTo>
                  <a:lnTo>
                    <a:pt x="627" y="1872"/>
                  </a:lnTo>
                  <a:lnTo>
                    <a:pt x="622" y="1854"/>
                  </a:lnTo>
                  <a:lnTo>
                    <a:pt x="615" y="1837"/>
                  </a:lnTo>
                  <a:lnTo>
                    <a:pt x="609" y="1820"/>
                  </a:lnTo>
                  <a:lnTo>
                    <a:pt x="603" y="1804"/>
                  </a:lnTo>
                  <a:lnTo>
                    <a:pt x="597" y="1788"/>
                  </a:lnTo>
                  <a:lnTo>
                    <a:pt x="591" y="1773"/>
                  </a:lnTo>
                  <a:lnTo>
                    <a:pt x="585" y="1758"/>
                  </a:lnTo>
                  <a:lnTo>
                    <a:pt x="579" y="1743"/>
                  </a:lnTo>
                  <a:lnTo>
                    <a:pt x="570" y="1743"/>
                  </a:lnTo>
                  <a:lnTo>
                    <a:pt x="563" y="1743"/>
                  </a:lnTo>
                  <a:lnTo>
                    <a:pt x="555" y="1743"/>
                  </a:lnTo>
                  <a:lnTo>
                    <a:pt x="548" y="1744"/>
                  </a:lnTo>
                  <a:lnTo>
                    <a:pt x="541" y="1745"/>
                  </a:lnTo>
                  <a:lnTo>
                    <a:pt x="535" y="1746"/>
                  </a:lnTo>
                  <a:lnTo>
                    <a:pt x="529" y="1748"/>
                  </a:lnTo>
                  <a:lnTo>
                    <a:pt x="522" y="1750"/>
                  </a:lnTo>
                  <a:lnTo>
                    <a:pt x="514" y="1783"/>
                  </a:lnTo>
                  <a:lnTo>
                    <a:pt x="507" y="1815"/>
                  </a:lnTo>
                  <a:lnTo>
                    <a:pt x="498" y="1848"/>
                  </a:lnTo>
                  <a:lnTo>
                    <a:pt x="490" y="1879"/>
                  </a:lnTo>
                  <a:lnTo>
                    <a:pt x="482" y="1912"/>
                  </a:lnTo>
                  <a:lnTo>
                    <a:pt x="474" y="1944"/>
                  </a:lnTo>
                  <a:lnTo>
                    <a:pt x="466" y="1977"/>
                  </a:lnTo>
                  <a:lnTo>
                    <a:pt x="458" y="2008"/>
                  </a:lnTo>
                  <a:lnTo>
                    <a:pt x="251" y="2008"/>
                  </a:lnTo>
                  <a:lnTo>
                    <a:pt x="265" y="1926"/>
                  </a:lnTo>
                  <a:lnTo>
                    <a:pt x="279" y="1834"/>
                  </a:lnTo>
                  <a:lnTo>
                    <a:pt x="294" y="1733"/>
                  </a:lnTo>
                  <a:lnTo>
                    <a:pt x="310" y="1625"/>
                  </a:lnTo>
                  <a:lnTo>
                    <a:pt x="325" y="1508"/>
                  </a:lnTo>
                  <a:lnTo>
                    <a:pt x="341" y="1386"/>
                  </a:lnTo>
                  <a:lnTo>
                    <a:pt x="357" y="1258"/>
                  </a:lnTo>
                  <a:lnTo>
                    <a:pt x="371" y="1126"/>
                  </a:lnTo>
                  <a:lnTo>
                    <a:pt x="386" y="989"/>
                  </a:lnTo>
                  <a:lnTo>
                    <a:pt x="400" y="850"/>
                  </a:lnTo>
                  <a:lnTo>
                    <a:pt x="413" y="708"/>
                  </a:lnTo>
                  <a:lnTo>
                    <a:pt x="425" y="566"/>
                  </a:lnTo>
                  <a:lnTo>
                    <a:pt x="436" y="423"/>
                  </a:lnTo>
                  <a:lnTo>
                    <a:pt x="445" y="280"/>
                  </a:lnTo>
                  <a:lnTo>
                    <a:pt x="454" y="138"/>
                  </a:lnTo>
                  <a:lnTo>
                    <a:pt x="460" y="0"/>
                  </a:lnTo>
                  <a:lnTo>
                    <a:pt x="957" y="0"/>
                  </a:lnTo>
                  <a:lnTo>
                    <a:pt x="954" y="187"/>
                  </a:lnTo>
                  <a:lnTo>
                    <a:pt x="952" y="381"/>
                  </a:lnTo>
                  <a:lnTo>
                    <a:pt x="949" y="572"/>
                  </a:lnTo>
                  <a:lnTo>
                    <a:pt x="945" y="757"/>
                  </a:lnTo>
                  <a:lnTo>
                    <a:pt x="941" y="928"/>
                  </a:lnTo>
                  <a:lnTo>
                    <a:pt x="935" y="1079"/>
                  </a:lnTo>
                  <a:lnTo>
                    <a:pt x="930" y="1205"/>
                  </a:lnTo>
                  <a:lnTo>
                    <a:pt x="926" y="1299"/>
                  </a:lnTo>
                  <a:lnTo>
                    <a:pt x="920" y="1302"/>
                  </a:lnTo>
                  <a:lnTo>
                    <a:pt x="913" y="1305"/>
                  </a:lnTo>
                  <a:lnTo>
                    <a:pt x="908" y="1309"/>
                  </a:lnTo>
                  <a:lnTo>
                    <a:pt x="903" y="1312"/>
                  </a:lnTo>
                  <a:lnTo>
                    <a:pt x="897" y="1315"/>
                  </a:lnTo>
                  <a:lnTo>
                    <a:pt x="892" y="1317"/>
                  </a:lnTo>
                  <a:lnTo>
                    <a:pt x="889" y="1320"/>
                  </a:lnTo>
                  <a:lnTo>
                    <a:pt x="885" y="1323"/>
                  </a:lnTo>
                  <a:lnTo>
                    <a:pt x="888" y="1339"/>
                  </a:lnTo>
                  <a:lnTo>
                    <a:pt x="891" y="1355"/>
                  </a:lnTo>
                  <a:lnTo>
                    <a:pt x="894" y="1372"/>
                  </a:lnTo>
                  <a:lnTo>
                    <a:pt x="897" y="1389"/>
                  </a:lnTo>
                  <a:lnTo>
                    <a:pt x="901" y="1407"/>
                  </a:lnTo>
                  <a:lnTo>
                    <a:pt x="904" y="1425"/>
                  </a:lnTo>
                  <a:lnTo>
                    <a:pt x="906" y="1443"/>
                  </a:lnTo>
                  <a:lnTo>
                    <a:pt x="909" y="1461"/>
                  </a:lnTo>
                  <a:lnTo>
                    <a:pt x="900" y="1464"/>
                  </a:lnTo>
                  <a:lnTo>
                    <a:pt x="891" y="1468"/>
                  </a:lnTo>
                  <a:lnTo>
                    <a:pt x="883" y="1476"/>
                  </a:lnTo>
                  <a:lnTo>
                    <a:pt x="875" y="1483"/>
                  </a:lnTo>
                  <a:lnTo>
                    <a:pt x="869" y="1494"/>
                  </a:lnTo>
                  <a:lnTo>
                    <a:pt x="863" y="1504"/>
                  </a:lnTo>
                  <a:lnTo>
                    <a:pt x="856" y="1517"/>
                  </a:lnTo>
                  <a:lnTo>
                    <a:pt x="851" y="1529"/>
                  </a:lnTo>
                  <a:lnTo>
                    <a:pt x="847" y="1544"/>
                  </a:lnTo>
                  <a:lnTo>
                    <a:pt x="841" y="1560"/>
                  </a:lnTo>
                  <a:lnTo>
                    <a:pt x="838" y="1577"/>
                  </a:lnTo>
                  <a:lnTo>
                    <a:pt x="834" y="1594"/>
                  </a:lnTo>
                  <a:lnTo>
                    <a:pt x="829" y="1632"/>
                  </a:lnTo>
                  <a:lnTo>
                    <a:pt x="823" y="1671"/>
                  </a:lnTo>
                  <a:lnTo>
                    <a:pt x="820" y="1712"/>
                  </a:lnTo>
                  <a:lnTo>
                    <a:pt x="817" y="1755"/>
                  </a:lnTo>
                  <a:lnTo>
                    <a:pt x="815" y="1797"/>
                  </a:lnTo>
                  <a:lnTo>
                    <a:pt x="813" y="1838"/>
                  </a:lnTo>
                  <a:lnTo>
                    <a:pt x="810" y="1916"/>
                  </a:lnTo>
                  <a:lnTo>
                    <a:pt x="804" y="1984"/>
                  </a:lnTo>
                  <a:lnTo>
                    <a:pt x="801" y="1987"/>
                  </a:lnTo>
                  <a:lnTo>
                    <a:pt x="799" y="1990"/>
                  </a:lnTo>
                  <a:lnTo>
                    <a:pt x="796" y="1994"/>
                  </a:lnTo>
                  <a:lnTo>
                    <a:pt x="794" y="1997"/>
                  </a:lnTo>
                  <a:lnTo>
                    <a:pt x="792" y="2000"/>
                  </a:lnTo>
                  <a:lnTo>
                    <a:pt x="789" y="2002"/>
                  </a:lnTo>
                  <a:lnTo>
                    <a:pt x="787" y="2005"/>
                  </a:lnTo>
                  <a:lnTo>
                    <a:pt x="784" y="2008"/>
                  </a:lnTo>
                  <a:close/>
                  <a:moveTo>
                    <a:pt x="301" y="0"/>
                  </a:moveTo>
                  <a:lnTo>
                    <a:pt x="302" y="18"/>
                  </a:lnTo>
                  <a:lnTo>
                    <a:pt x="303" y="37"/>
                  </a:lnTo>
                  <a:lnTo>
                    <a:pt x="304" y="56"/>
                  </a:lnTo>
                  <a:lnTo>
                    <a:pt x="304" y="76"/>
                  </a:lnTo>
                  <a:lnTo>
                    <a:pt x="305" y="95"/>
                  </a:lnTo>
                  <a:lnTo>
                    <a:pt x="305" y="115"/>
                  </a:lnTo>
                  <a:lnTo>
                    <a:pt x="305" y="134"/>
                  </a:lnTo>
                  <a:lnTo>
                    <a:pt x="305" y="154"/>
                  </a:lnTo>
                  <a:lnTo>
                    <a:pt x="284" y="164"/>
                  </a:lnTo>
                  <a:lnTo>
                    <a:pt x="263" y="174"/>
                  </a:lnTo>
                  <a:lnTo>
                    <a:pt x="243" y="185"/>
                  </a:lnTo>
                  <a:lnTo>
                    <a:pt x="221" y="196"/>
                  </a:lnTo>
                  <a:lnTo>
                    <a:pt x="201" y="207"/>
                  </a:lnTo>
                  <a:lnTo>
                    <a:pt x="181" y="219"/>
                  </a:lnTo>
                  <a:lnTo>
                    <a:pt x="162" y="231"/>
                  </a:lnTo>
                  <a:lnTo>
                    <a:pt x="144" y="243"/>
                  </a:lnTo>
                  <a:lnTo>
                    <a:pt x="144" y="253"/>
                  </a:lnTo>
                  <a:lnTo>
                    <a:pt x="144" y="261"/>
                  </a:lnTo>
                  <a:lnTo>
                    <a:pt x="144" y="271"/>
                  </a:lnTo>
                  <a:lnTo>
                    <a:pt x="145" y="279"/>
                  </a:lnTo>
                  <a:lnTo>
                    <a:pt x="146" y="289"/>
                  </a:lnTo>
                  <a:lnTo>
                    <a:pt x="147" y="298"/>
                  </a:lnTo>
                  <a:lnTo>
                    <a:pt x="150" y="307"/>
                  </a:lnTo>
                  <a:lnTo>
                    <a:pt x="152" y="316"/>
                  </a:lnTo>
                  <a:lnTo>
                    <a:pt x="168" y="322"/>
                  </a:lnTo>
                  <a:lnTo>
                    <a:pt x="182" y="328"/>
                  </a:lnTo>
                  <a:lnTo>
                    <a:pt x="197" y="334"/>
                  </a:lnTo>
                  <a:lnTo>
                    <a:pt x="213" y="340"/>
                  </a:lnTo>
                  <a:lnTo>
                    <a:pt x="228" y="346"/>
                  </a:lnTo>
                  <a:lnTo>
                    <a:pt x="243" y="352"/>
                  </a:lnTo>
                  <a:lnTo>
                    <a:pt x="257" y="358"/>
                  </a:lnTo>
                  <a:lnTo>
                    <a:pt x="273" y="365"/>
                  </a:lnTo>
                  <a:lnTo>
                    <a:pt x="273" y="435"/>
                  </a:lnTo>
                  <a:lnTo>
                    <a:pt x="272" y="586"/>
                  </a:lnTo>
                  <a:lnTo>
                    <a:pt x="270" y="682"/>
                  </a:lnTo>
                  <a:lnTo>
                    <a:pt x="268" y="786"/>
                  </a:lnTo>
                  <a:lnTo>
                    <a:pt x="263" y="897"/>
                  </a:lnTo>
                  <a:lnTo>
                    <a:pt x="256" y="1011"/>
                  </a:lnTo>
                  <a:lnTo>
                    <a:pt x="252" y="1065"/>
                  </a:lnTo>
                  <a:lnTo>
                    <a:pt x="247" y="1120"/>
                  </a:lnTo>
                  <a:lnTo>
                    <a:pt x="241" y="1174"/>
                  </a:lnTo>
                  <a:lnTo>
                    <a:pt x="235" y="1226"/>
                  </a:lnTo>
                  <a:lnTo>
                    <a:pt x="228" y="1276"/>
                  </a:lnTo>
                  <a:lnTo>
                    <a:pt x="220" y="1322"/>
                  </a:lnTo>
                  <a:lnTo>
                    <a:pt x="211" y="1366"/>
                  </a:lnTo>
                  <a:lnTo>
                    <a:pt x="201" y="1406"/>
                  </a:lnTo>
                  <a:lnTo>
                    <a:pt x="191" y="1442"/>
                  </a:lnTo>
                  <a:lnTo>
                    <a:pt x="179" y="1473"/>
                  </a:lnTo>
                  <a:lnTo>
                    <a:pt x="166" y="1500"/>
                  </a:lnTo>
                  <a:lnTo>
                    <a:pt x="154" y="1521"/>
                  </a:lnTo>
                  <a:lnTo>
                    <a:pt x="139" y="1536"/>
                  </a:lnTo>
                  <a:lnTo>
                    <a:pt x="123" y="1544"/>
                  </a:lnTo>
                  <a:lnTo>
                    <a:pt x="106" y="1546"/>
                  </a:lnTo>
                  <a:lnTo>
                    <a:pt x="87" y="1541"/>
                  </a:lnTo>
                  <a:lnTo>
                    <a:pt x="85" y="1495"/>
                  </a:lnTo>
                  <a:lnTo>
                    <a:pt x="83" y="1450"/>
                  </a:lnTo>
                  <a:lnTo>
                    <a:pt x="82" y="1407"/>
                  </a:lnTo>
                  <a:lnTo>
                    <a:pt x="81" y="1365"/>
                  </a:lnTo>
                  <a:lnTo>
                    <a:pt x="81" y="1284"/>
                  </a:lnTo>
                  <a:lnTo>
                    <a:pt x="83" y="1207"/>
                  </a:lnTo>
                  <a:lnTo>
                    <a:pt x="85" y="1134"/>
                  </a:lnTo>
                  <a:lnTo>
                    <a:pt x="88" y="1064"/>
                  </a:lnTo>
                  <a:lnTo>
                    <a:pt x="93" y="996"/>
                  </a:lnTo>
                  <a:lnTo>
                    <a:pt x="96" y="928"/>
                  </a:lnTo>
                  <a:lnTo>
                    <a:pt x="84" y="835"/>
                  </a:lnTo>
                  <a:lnTo>
                    <a:pt x="71" y="741"/>
                  </a:lnTo>
                  <a:lnTo>
                    <a:pt x="60" y="647"/>
                  </a:lnTo>
                  <a:lnTo>
                    <a:pt x="47" y="554"/>
                  </a:lnTo>
                  <a:lnTo>
                    <a:pt x="35" y="460"/>
                  </a:lnTo>
                  <a:lnTo>
                    <a:pt x="23" y="366"/>
                  </a:lnTo>
                  <a:lnTo>
                    <a:pt x="11" y="273"/>
                  </a:lnTo>
                  <a:lnTo>
                    <a:pt x="0" y="179"/>
                  </a:lnTo>
                  <a:lnTo>
                    <a:pt x="3" y="178"/>
                  </a:lnTo>
                  <a:lnTo>
                    <a:pt x="5" y="175"/>
                  </a:lnTo>
                  <a:lnTo>
                    <a:pt x="8" y="170"/>
                  </a:lnTo>
                  <a:lnTo>
                    <a:pt x="10" y="164"/>
                  </a:lnTo>
                  <a:lnTo>
                    <a:pt x="14" y="147"/>
                  </a:lnTo>
                  <a:lnTo>
                    <a:pt x="18" y="125"/>
                  </a:lnTo>
                  <a:lnTo>
                    <a:pt x="20" y="98"/>
                  </a:lnTo>
                  <a:lnTo>
                    <a:pt x="22" y="68"/>
                  </a:lnTo>
                  <a:lnTo>
                    <a:pt x="22" y="35"/>
                  </a:lnTo>
                  <a:lnTo>
                    <a:pt x="23" y="0"/>
                  </a:lnTo>
                  <a:lnTo>
                    <a:pt x="301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5400000">
              <a:off x="6075000" y="5148720"/>
              <a:ext cx="233280" cy="752400"/>
            </a:xfrm>
            <a:custGeom>
              <a:avLst/>
              <a:gdLst/>
              <a:ahLst/>
              <a:rect l="l" t="t" r="r" b="b"/>
              <a:pathLst>
                <a:path w="2183" h="2009">
                  <a:moveTo>
                    <a:pt x="1443" y="2009"/>
                  </a:moveTo>
                  <a:lnTo>
                    <a:pt x="1444" y="1869"/>
                  </a:lnTo>
                  <a:lnTo>
                    <a:pt x="1444" y="1731"/>
                  </a:lnTo>
                  <a:lnTo>
                    <a:pt x="1442" y="1593"/>
                  </a:lnTo>
                  <a:lnTo>
                    <a:pt x="1437" y="1453"/>
                  </a:lnTo>
                  <a:lnTo>
                    <a:pt x="1431" y="1315"/>
                  </a:lnTo>
                  <a:lnTo>
                    <a:pt x="1424" y="1175"/>
                  </a:lnTo>
                  <a:lnTo>
                    <a:pt x="1413" y="1037"/>
                  </a:lnTo>
                  <a:lnTo>
                    <a:pt x="1402" y="898"/>
                  </a:lnTo>
                  <a:lnTo>
                    <a:pt x="1400" y="786"/>
                  </a:lnTo>
                  <a:lnTo>
                    <a:pt x="1398" y="673"/>
                  </a:lnTo>
                  <a:lnTo>
                    <a:pt x="1394" y="561"/>
                  </a:lnTo>
                  <a:lnTo>
                    <a:pt x="1389" y="448"/>
                  </a:lnTo>
                  <a:lnTo>
                    <a:pt x="1383" y="336"/>
                  </a:lnTo>
                  <a:lnTo>
                    <a:pt x="1374" y="224"/>
                  </a:lnTo>
                  <a:lnTo>
                    <a:pt x="1365" y="112"/>
                  </a:lnTo>
                  <a:lnTo>
                    <a:pt x="1354" y="0"/>
                  </a:lnTo>
                  <a:lnTo>
                    <a:pt x="2106" y="0"/>
                  </a:lnTo>
                  <a:lnTo>
                    <a:pt x="2120" y="58"/>
                  </a:lnTo>
                  <a:lnTo>
                    <a:pt x="2132" y="116"/>
                  </a:lnTo>
                  <a:lnTo>
                    <a:pt x="2145" y="175"/>
                  </a:lnTo>
                  <a:lnTo>
                    <a:pt x="2158" y="233"/>
                  </a:lnTo>
                  <a:lnTo>
                    <a:pt x="2163" y="264"/>
                  </a:lnTo>
                  <a:lnTo>
                    <a:pt x="2167" y="293"/>
                  </a:lnTo>
                  <a:lnTo>
                    <a:pt x="2173" y="323"/>
                  </a:lnTo>
                  <a:lnTo>
                    <a:pt x="2176" y="353"/>
                  </a:lnTo>
                  <a:lnTo>
                    <a:pt x="2179" y="382"/>
                  </a:lnTo>
                  <a:lnTo>
                    <a:pt x="2181" y="412"/>
                  </a:lnTo>
                  <a:lnTo>
                    <a:pt x="2183" y="441"/>
                  </a:lnTo>
                  <a:lnTo>
                    <a:pt x="2183" y="471"/>
                  </a:lnTo>
                  <a:lnTo>
                    <a:pt x="2178" y="471"/>
                  </a:lnTo>
                  <a:lnTo>
                    <a:pt x="2173" y="471"/>
                  </a:lnTo>
                  <a:lnTo>
                    <a:pt x="2168" y="471"/>
                  </a:lnTo>
                  <a:lnTo>
                    <a:pt x="2164" y="472"/>
                  </a:lnTo>
                  <a:lnTo>
                    <a:pt x="2160" y="473"/>
                  </a:lnTo>
                  <a:lnTo>
                    <a:pt x="2157" y="474"/>
                  </a:lnTo>
                  <a:lnTo>
                    <a:pt x="2154" y="476"/>
                  </a:lnTo>
                  <a:lnTo>
                    <a:pt x="2150" y="478"/>
                  </a:lnTo>
                  <a:lnTo>
                    <a:pt x="2148" y="517"/>
                  </a:lnTo>
                  <a:lnTo>
                    <a:pt x="2143" y="563"/>
                  </a:lnTo>
                  <a:lnTo>
                    <a:pt x="2136" y="617"/>
                  </a:lnTo>
                  <a:lnTo>
                    <a:pt x="2127" y="676"/>
                  </a:lnTo>
                  <a:lnTo>
                    <a:pt x="2119" y="740"/>
                  </a:lnTo>
                  <a:lnTo>
                    <a:pt x="2109" y="807"/>
                  </a:lnTo>
                  <a:lnTo>
                    <a:pt x="2102" y="877"/>
                  </a:lnTo>
                  <a:lnTo>
                    <a:pt x="2094" y="948"/>
                  </a:lnTo>
                  <a:lnTo>
                    <a:pt x="2091" y="983"/>
                  </a:lnTo>
                  <a:lnTo>
                    <a:pt x="2089" y="1018"/>
                  </a:lnTo>
                  <a:lnTo>
                    <a:pt x="2088" y="1052"/>
                  </a:lnTo>
                  <a:lnTo>
                    <a:pt x="2087" y="1086"/>
                  </a:lnTo>
                  <a:lnTo>
                    <a:pt x="2087" y="1120"/>
                  </a:lnTo>
                  <a:lnTo>
                    <a:pt x="2088" y="1153"/>
                  </a:lnTo>
                  <a:lnTo>
                    <a:pt x="2089" y="1185"/>
                  </a:lnTo>
                  <a:lnTo>
                    <a:pt x="2092" y="1214"/>
                  </a:lnTo>
                  <a:lnTo>
                    <a:pt x="2096" y="1244"/>
                  </a:lnTo>
                  <a:lnTo>
                    <a:pt x="2101" y="1271"/>
                  </a:lnTo>
                  <a:lnTo>
                    <a:pt x="2107" y="1298"/>
                  </a:lnTo>
                  <a:lnTo>
                    <a:pt x="2115" y="1322"/>
                  </a:lnTo>
                  <a:lnTo>
                    <a:pt x="2123" y="1344"/>
                  </a:lnTo>
                  <a:lnTo>
                    <a:pt x="2134" y="1364"/>
                  </a:lnTo>
                  <a:lnTo>
                    <a:pt x="2145" y="1382"/>
                  </a:lnTo>
                  <a:lnTo>
                    <a:pt x="2159" y="1398"/>
                  </a:lnTo>
                  <a:lnTo>
                    <a:pt x="2159" y="1404"/>
                  </a:lnTo>
                  <a:lnTo>
                    <a:pt x="2159" y="1410"/>
                  </a:lnTo>
                  <a:lnTo>
                    <a:pt x="2159" y="1416"/>
                  </a:lnTo>
                  <a:lnTo>
                    <a:pt x="2159" y="1422"/>
                  </a:lnTo>
                  <a:lnTo>
                    <a:pt x="2159" y="1428"/>
                  </a:lnTo>
                  <a:lnTo>
                    <a:pt x="2159" y="1434"/>
                  </a:lnTo>
                  <a:lnTo>
                    <a:pt x="2159" y="1440"/>
                  </a:lnTo>
                  <a:lnTo>
                    <a:pt x="2159" y="1447"/>
                  </a:lnTo>
                  <a:lnTo>
                    <a:pt x="2135" y="1458"/>
                  </a:lnTo>
                  <a:lnTo>
                    <a:pt x="2109" y="1471"/>
                  </a:lnTo>
                  <a:lnTo>
                    <a:pt x="2097" y="1477"/>
                  </a:lnTo>
                  <a:lnTo>
                    <a:pt x="2085" y="1485"/>
                  </a:lnTo>
                  <a:lnTo>
                    <a:pt x="2073" y="1493"/>
                  </a:lnTo>
                  <a:lnTo>
                    <a:pt x="2063" y="1502"/>
                  </a:lnTo>
                  <a:lnTo>
                    <a:pt x="2052" y="1511"/>
                  </a:lnTo>
                  <a:lnTo>
                    <a:pt x="2043" y="1523"/>
                  </a:lnTo>
                  <a:lnTo>
                    <a:pt x="2034" y="1535"/>
                  </a:lnTo>
                  <a:lnTo>
                    <a:pt x="2028" y="1549"/>
                  </a:lnTo>
                  <a:lnTo>
                    <a:pt x="2022" y="1565"/>
                  </a:lnTo>
                  <a:lnTo>
                    <a:pt x="2017" y="1583"/>
                  </a:lnTo>
                  <a:lnTo>
                    <a:pt x="2015" y="1602"/>
                  </a:lnTo>
                  <a:lnTo>
                    <a:pt x="2014" y="1623"/>
                  </a:lnTo>
                  <a:lnTo>
                    <a:pt x="2027" y="1630"/>
                  </a:lnTo>
                  <a:lnTo>
                    <a:pt x="2040" y="1637"/>
                  </a:lnTo>
                  <a:lnTo>
                    <a:pt x="2053" y="1644"/>
                  </a:lnTo>
                  <a:lnTo>
                    <a:pt x="2067" y="1653"/>
                  </a:lnTo>
                  <a:lnTo>
                    <a:pt x="2082" y="1661"/>
                  </a:lnTo>
                  <a:lnTo>
                    <a:pt x="2097" y="1670"/>
                  </a:lnTo>
                  <a:lnTo>
                    <a:pt x="2111" y="1679"/>
                  </a:lnTo>
                  <a:lnTo>
                    <a:pt x="2127" y="1688"/>
                  </a:lnTo>
                  <a:lnTo>
                    <a:pt x="2127" y="1728"/>
                  </a:lnTo>
                  <a:lnTo>
                    <a:pt x="2127" y="1767"/>
                  </a:lnTo>
                  <a:lnTo>
                    <a:pt x="2127" y="1807"/>
                  </a:lnTo>
                  <a:lnTo>
                    <a:pt x="2127" y="1846"/>
                  </a:lnTo>
                  <a:lnTo>
                    <a:pt x="2127" y="1886"/>
                  </a:lnTo>
                  <a:lnTo>
                    <a:pt x="2127" y="1928"/>
                  </a:lnTo>
                  <a:lnTo>
                    <a:pt x="2127" y="1968"/>
                  </a:lnTo>
                  <a:lnTo>
                    <a:pt x="2127" y="2009"/>
                  </a:lnTo>
                  <a:lnTo>
                    <a:pt x="1443" y="2009"/>
                  </a:lnTo>
                  <a:close/>
                  <a:moveTo>
                    <a:pt x="9" y="0"/>
                  </a:moveTo>
                  <a:lnTo>
                    <a:pt x="994" y="0"/>
                  </a:lnTo>
                  <a:lnTo>
                    <a:pt x="1001" y="17"/>
                  </a:lnTo>
                  <a:lnTo>
                    <a:pt x="1009" y="31"/>
                  </a:lnTo>
                  <a:lnTo>
                    <a:pt x="1017" y="45"/>
                  </a:lnTo>
                  <a:lnTo>
                    <a:pt x="1025" y="58"/>
                  </a:lnTo>
                  <a:lnTo>
                    <a:pt x="1034" y="69"/>
                  </a:lnTo>
                  <a:lnTo>
                    <a:pt x="1043" y="79"/>
                  </a:lnTo>
                  <a:lnTo>
                    <a:pt x="1053" y="86"/>
                  </a:lnTo>
                  <a:lnTo>
                    <a:pt x="1063" y="92"/>
                  </a:lnTo>
                  <a:lnTo>
                    <a:pt x="1068" y="129"/>
                  </a:lnTo>
                  <a:lnTo>
                    <a:pt x="1072" y="167"/>
                  </a:lnTo>
                  <a:lnTo>
                    <a:pt x="1075" y="204"/>
                  </a:lnTo>
                  <a:lnTo>
                    <a:pt x="1078" y="242"/>
                  </a:lnTo>
                  <a:lnTo>
                    <a:pt x="1079" y="280"/>
                  </a:lnTo>
                  <a:lnTo>
                    <a:pt x="1081" y="318"/>
                  </a:lnTo>
                  <a:lnTo>
                    <a:pt x="1081" y="357"/>
                  </a:lnTo>
                  <a:lnTo>
                    <a:pt x="1081" y="395"/>
                  </a:lnTo>
                  <a:lnTo>
                    <a:pt x="1081" y="472"/>
                  </a:lnTo>
                  <a:lnTo>
                    <a:pt x="1078" y="550"/>
                  </a:lnTo>
                  <a:lnTo>
                    <a:pt x="1076" y="629"/>
                  </a:lnTo>
                  <a:lnTo>
                    <a:pt x="1072" y="708"/>
                  </a:lnTo>
                  <a:lnTo>
                    <a:pt x="1069" y="787"/>
                  </a:lnTo>
                  <a:lnTo>
                    <a:pt x="1067" y="866"/>
                  </a:lnTo>
                  <a:lnTo>
                    <a:pt x="1065" y="946"/>
                  </a:lnTo>
                  <a:lnTo>
                    <a:pt x="1065" y="1025"/>
                  </a:lnTo>
                  <a:lnTo>
                    <a:pt x="1065" y="1065"/>
                  </a:lnTo>
                  <a:lnTo>
                    <a:pt x="1067" y="1104"/>
                  </a:lnTo>
                  <a:lnTo>
                    <a:pt x="1068" y="1144"/>
                  </a:lnTo>
                  <a:lnTo>
                    <a:pt x="1070" y="1183"/>
                  </a:lnTo>
                  <a:lnTo>
                    <a:pt x="1073" y="1224"/>
                  </a:lnTo>
                  <a:lnTo>
                    <a:pt x="1077" y="1263"/>
                  </a:lnTo>
                  <a:lnTo>
                    <a:pt x="1081" y="1302"/>
                  </a:lnTo>
                  <a:lnTo>
                    <a:pt x="1088" y="1341"/>
                  </a:lnTo>
                  <a:lnTo>
                    <a:pt x="1089" y="1342"/>
                  </a:lnTo>
                  <a:lnTo>
                    <a:pt x="1090" y="1345"/>
                  </a:lnTo>
                  <a:lnTo>
                    <a:pt x="1091" y="1349"/>
                  </a:lnTo>
                  <a:lnTo>
                    <a:pt x="1092" y="1355"/>
                  </a:lnTo>
                  <a:lnTo>
                    <a:pt x="1094" y="1372"/>
                  </a:lnTo>
                  <a:lnTo>
                    <a:pt x="1096" y="1394"/>
                  </a:lnTo>
                  <a:lnTo>
                    <a:pt x="1099" y="1455"/>
                  </a:lnTo>
                  <a:lnTo>
                    <a:pt x="1102" y="1537"/>
                  </a:lnTo>
                  <a:lnTo>
                    <a:pt x="1103" y="1636"/>
                  </a:lnTo>
                  <a:lnTo>
                    <a:pt x="1103" y="1749"/>
                  </a:lnTo>
                  <a:lnTo>
                    <a:pt x="1103" y="1874"/>
                  </a:lnTo>
                  <a:lnTo>
                    <a:pt x="1103" y="2009"/>
                  </a:lnTo>
                  <a:lnTo>
                    <a:pt x="606" y="2009"/>
                  </a:lnTo>
                  <a:lnTo>
                    <a:pt x="610" y="1904"/>
                  </a:lnTo>
                  <a:lnTo>
                    <a:pt x="612" y="1803"/>
                  </a:lnTo>
                  <a:lnTo>
                    <a:pt x="615" y="1704"/>
                  </a:lnTo>
                  <a:lnTo>
                    <a:pt x="615" y="1606"/>
                  </a:lnTo>
                  <a:lnTo>
                    <a:pt x="613" y="1513"/>
                  </a:lnTo>
                  <a:lnTo>
                    <a:pt x="610" y="1424"/>
                  </a:lnTo>
                  <a:lnTo>
                    <a:pt x="607" y="1339"/>
                  </a:lnTo>
                  <a:lnTo>
                    <a:pt x="601" y="1257"/>
                  </a:lnTo>
                  <a:lnTo>
                    <a:pt x="598" y="1219"/>
                  </a:lnTo>
                  <a:lnTo>
                    <a:pt x="593" y="1181"/>
                  </a:lnTo>
                  <a:lnTo>
                    <a:pt x="589" y="1145"/>
                  </a:lnTo>
                  <a:lnTo>
                    <a:pt x="585" y="1111"/>
                  </a:lnTo>
                  <a:lnTo>
                    <a:pt x="580" y="1078"/>
                  </a:lnTo>
                  <a:lnTo>
                    <a:pt x="574" y="1046"/>
                  </a:lnTo>
                  <a:lnTo>
                    <a:pt x="568" y="1015"/>
                  </a:lnTo>
                  <a:lnTo>
                    <a:pt x="562" y="987"/>
                  </a:lnTo>
                  <a:lnTo>
                    <a:pt x="554" y="959"/>
                  </a:lnTo>
                  <a:lnTo>
                    <a:pt x="547" y="934"/>
                  </a:lnTo>
                  <a:lnTo>
                    <a:pt x="540" y="910"/>
                  </a:lnTo>
                  <a:lnTo>
                    <a:pt x="531" y="888"/>
                  </a:lnTo>
                  <a:lnTo>
                    <a:pt x="522" y="867"/>
                  </a:lnTo>
                  <a:lnTo>
                    <a:pt x="512" y="848"/>
                  </a:lnTo>
                  <a:lnTo>
                    <a:pt x="502" y="833"/>
                  </a:lnTo>
                  <a:lnTo>
                    <a:pt x="491" y="818"/>
                  </a:lnTo>
                  <a:lnTo>
                    <a:pt x="486" y="875"/>
                  </a:lnTo>
                  <a:lnTo>
                    <a:pt x="479" y="932"/>
                  </a:lnTo>
                  <a:lnTo>
                    <a:pt x="474" y="990"/>
                  </a:lnTo>
                  <a:lnTo>
                    <a:pt x="469" y="1047"/>
                  </a:lnTo>
                  <a:lnTo>
                    <a:pt x="464" y="1104"/>
                  </a:lnTo>
                  <a:lnTo>
                    <a:pt x="458" y="1162"/>
                  </a:lnTo>
                  <a:lnTo>
                    <a:pt x="454" y="1219"/>
                  </a:lnTo>
                  <a:lnTo>
                    <a:pt x="451" y="1277"/>
                  </a:lnTo>
                  <a:lnTo>
                    <a:pt x="442" y="1283"/>
                  </a:lnTo>
                  <a:lnTo>
                    <a:pt x="433" y="1289"/>
                  </a:lnTo>
                  <a:lnTo>
                    <a:pt x="424" y="1296"/>
                  </a:lnTo>
                  <a:lnTo>
                    <a:pt x="416" y="1301"/>
                  </a:lnTo>
                  <a:lnTo>
                    <a:pt x="408" y="1307"/>
                  </a:lnTo>
                  <a:lnTo>
                    <a:pt x="400" y="1314"/>
                  </a:lnTo>
                  <a:lnTo>
                    <a:pt x="393" y="1319"/>
                  </a:lnTo>
                  <a:lnTo>
                    <a:pt x="386" y="1325"/>
                  </a:lnTo>
                  <a:lnTo>
                    <a:pt x="387" y="1362"/>
                  </a:lnTo>
                  <a:lnTo>
                    <a:pt x="389" y="1400"/>
                  </a:lnTo>
                  <a:lnTo>
                    <a:pt x="391" y="1438"/>
                  </a:lnTo>
                  <a:lnTo>
                    <a:pt x="394" y="1477"/>
                  </a:lnTo>
                  <a:lnTo>
                    <a:pt x="402" y="1557"/>
                  </a:lnTo>
                  <a:lnTo>
                    <a:pt x="412" y="1639"/>
                  </a:lnTo>
                  <a:lnTo>
                    <a:pt x="421" y="1726"/>
                  </a:lnTo>
                  <a:lnTo>
                    <a:pt x="432" y="1816"/>
                  </a:lnTo>
                  <a:lnTo>
                    <a:pt x="436" y="1862"/>
                  </a:lnTo>
                  <a:lnTo>
                    <a:pt x="440" y="1910"/>
                  </a:lnTo>
                  <a:lnTo>
                    <a:pt x="444" y="1958"/>
                  </a:lnTo>
                  <a:lnTo>
                    <a:pt x="447" y="2009"/>
                  </a:lnTo>
                  <a:lnTo>
                    <a:pt x="169" y="2009"/>
                  </a:lnTo>
                  <a:lnTo>
                    <a:pt x="168" y="1982"/>
                  </a:lnTo>
                  <a:lnTo>
                    <a:pt x="168" y="1953"/>
                  </a:lnTo>
                  <a:lnTo>
                    <a:pt x="167" y="1926"/>
                  </a:lnTo>
                  <a:lnTo>
                    <a:pt x="166" y="1898"/>
                  </a:lnTo>
                  <a:lnTo>
                    <a:pt x="165" y="1872"/>
                  </a:lnTo>
                  <a:lnTo>
                    <a:pt x="164" y="1846"/>
                  </a:lnTo>
                  <a:lnTo>
                    <a:pt x="162" y="1823"/>
                  </a:lnTo>
                  <a:lnTo>
                    <a:pt x="161" y="1801"/>
                  </a:lnTo>
                  <a:lnTo>
                    <a:pt x="168" y="1797"/>
                  </a:lnTo>
                  <a:lnTo>
                    <a:pt x="174" y="1791"/>
                  </a:lnTo>
                  <a:lnTo>
                    <a:pt x="180" y="1786"/>
                  </a:lnTo>
                  <a:lnTo>
                    <a:pt x="185" y="1780"/>
                  </a:lnTo>
                  <a:lnTo>
                    <a:pt x="189" y="1772"/>
                  </a:lnTo>
                  <a:lnTo>
                    <a:pt x="192" y="1765"/>
                  </a:lnTo>
                  <a:lnTo>
                    <a:pt x="194" y="1756"/>
                  </a:lnTo>
                  <a:lnTo>
                    <a:pt x="196" y="1747"/>
                  </a:lnTo>
                  <a:lnTo>
                    <a:pt x="198" y="1729"/>
                  </a:lnTo>
                  <a:lnTo>
                    <a:pt x="199" y="1709"/>
                  </a:lnTo>
                  <a:lnTo>
                    <a:pt x="197" y="1689"/>
                  </a:lnTo>
                  <a:lnTo>
                    <a:pt x="195" y="1669"/>
                  </a:lnTo>
                  <a:lnTo>
                    <a:pt x="192" y="1650"/>
                  </a:lnTo>
                  <a:lnTo>
                    <a:pt x="188" y="1631"/>
                  </a:lnTo>
                  <a:lnTo>
                    <a:pt x="184" y="1614"/>
                  </a:lnTo>
                  <a:lnTo>
                    <a:pt x="179" y="1598"/>
                  </a:lnTo>
                  <a:lnTo>
                    <a:pt x="172" y="1576"/>
                  </a:lnTo>
                  <a:lnTo>
                    <a:pt x="169" y="1567"/>
                  </a:lnTo>
                  <a:lnTo>
                    <a:pt x="175" y="1564"/>
                  </a:lnTo>
                  <a:lnTo>
                    <a:pt x="181" y="1561"/>
                  </a:lnTo>
                  <a:lnTo>
                    <a:pt x="188" y="1558"/>
                  </a:lnTo>
                  <a:lnTo>
                    <a:pt x="193" y="1555"/>
                  </a:lnTo>
                  <a:lnTo>
                    <a:pt x="199" y="1552"/>
                  </a:lnTo>
                  <a:lnTo>
                    <a:pt x="206" y="1549"/>
                  </a:lnTo>
                  <a:lnTo>
                    <a:pt x="211" y="1546"/>
                  </a:lnTo>
                  <a:lnTo>
                    <a:pt x="217" y="1543"/>
                  </a:lnTo>
                  <a:lnTo>
                    <a:pt x="208" y="1508"/>
                  </a:lnTo>
                  <a:lnTo>
                    <a:pt x="199" y="1472"/>
                  </a:lnTo>
                  <a:lnTo>
                    <a:pt x="193" y="1436"/>
                  </a:lnTo>
                  <a:lnTo>
                    <a:pt x="188" y="1399"/>
                  </a:lnTo>
                  <a:lnTo>
                    <a:pt x="183" y="1363"/>
                  </a:lnTo>
                  <a:lnTo>
                    <a:pt x="179" y="1326"/>
                  </a:lnTo>
                  <a:lnTo>
                    <a:pt x="177" y="1290"/>
                  </a:lnTo>
                  <a:lnTo>
                    <a:pt x="175" y="1254"/>
                  </a:lnTo>
                  <a:lnTo>
                    <a:pt x="173" y="1186"/>
                  </a:lnTo>
                  <a:lnTo>
                    <a:pt x="172" y="1119"/>
                  </a:lnTo>
                  <a:lnTo>
                    <a:pt x="171" y="1058"/>
                  </a:lnTo>
                  <a:lnTo>
                    <a:pt x="169" y="1003"/>
                  </a:lnTo>
                  <a:lnTo>
                    <a:pt x="164" y="1000"/>
                  </a:lnTo>
                  <a:lnTo>
                    <a:pt x="158" y="996"/>
                  </a:lnTo>
                  <a:lnTo>
                    <a:pt x="154" y="994"/>
                  </a:lnTo>
                  <a:lnTo>
                    <a:pt x="150" y="991"/>
                  </a:lnTo>
                  <a:lnTo>
                    <a:pt x="147" y="988"/>
                  </a:lnTo>
                  <a:lnTo>
                    <a:pt x="143" y="985"/>
                  </a:lnTo>
                  <a:lnTo>
                    <a:pt x="140" y="982"/>
                  </a:lnTo>
                  <a:lnTo>
                    <a:pt x="137" y="978"/>
                  </a:lnTo>
                  <a:lnTo>
                    <a:pt x="134" y="967"/>
                  </a:lnTo>
                  <a:lnTo>
                    <a:pt x="132" y="954"/>
                  </a:lnTo>
                  <a:lnTo>
                    <a:pt x="131" y="942"/>
                  </a:lnTo>
                  <a:lnTo>
                    <a:pt x="130" y="930"/>
                  </a:lnTo>
                  <a:lnTo>
                    <a:pt x="130" y="918"/>
                  </a:lnTo>
                  <a:lnTo>
                    <a:pt x="129" y="907"/>
                  </a:lnTo>
                  <a:lnTo>
                    <a:pt x="129" y="894"/>
                  </a:lnTo>
                  <a:lnTo>
                    <a:pt x="129" y="882"/>
                  </a:lnTo>
                  <a:lnTo>
                    <a:pt x="111" y="879"/>
                  </a:lnTo>
                  <a:lnTo>
                    <a:pt x="94" y="876"/>
                  </a:lnTo>
                  <a:lnTo>
                    <a:pt x="78" y="874"/>
                  </a:lnTo>
                  <a:lnTo>
                    <a:pt x="61" y="871"/>
                  </a:lnTo>
                  <a:lnTo>
                    <a:pt x="46" y="869"/>
                  </a:lnTo>
                  <a:lnTo>
                    <a:pt x="30" y="867"/>
                  </a:lnTo>
                  <a:lnTo>
                    <a:pt x="16" y="866"/>
                  </a:lnTo>
                  <a:lnTo>
                    <a:pt x="0" y="865"/>
                  </a:lnTo>
                  <a:lnTo>
                    <a:pt x="12" y="860"/>
                  </a:lnTo>
                  <a:lnTo>
                    <a:pt x="24" y="854"/>
                  </a:lnTo>
                  <a:lnTo>
                    <a:pt x="37" y="847"/>
                  </a:lnTo>
                  <a:lnTo>
                    <a:pt x="48" y="842"/>
                  </a:lnTo>
                  <a:lnTo>
                    <a:pt x="60" y="836"/>
                  </a:lnTo>
                  <a:lnTo>
                    <a:pt x="73" y="829"/>
                  </a:lnTo>
                  <a:lnTo>
                    <a:pt x="84" y="823"/>
                  </a:lnTo>
                  <a:lnTo>
                    <a:pt x="97" y="818"/>
                  </a:lnTo>
                  <a:lnTo>
                    <a:pt x="93" y="795"/>
                  </a:lnTo>
                  <a:lnTo>
                    <a:pt x="90" y="772"/>
                  </a:lnTo>
                  <a:lnTo>
                    <a:pt x="87" y="751"/>
                  </a:lnTo>
                  <a:lnTo>
                    <a:pt x="86" y="729"/>
                  </a:lnTo>
                  <a:lnTo>
                    <a:pt x="86" y="708"/>
                  </a:lnTo>
                  <a:lnTo>
                    <a:pt x="86" y="688"/>
                  </a:lnTo>
                  <a:lnTo>
                    <a:pt x="87" y="667"/>
                  </a:lnTo>
                  <a:lnTo>
                    <a:pt x="89" y="647"/>
                  </a:lnTo>
                  <a:lnTo>
                    <a:pt x="97" y="570"/>
                  </a:lnTo>
                  <a:lnTo>
                    <a:pt x="105" y="499"/>
                  </a:lnTo>
                  <a:lnTo>
                    <a:pt x="109" y="466"/>
                  </a:lnTo>
                  <a:lnTo>
                    <a:pt x="109" y="434"/>
                  </a:lnTo>
                  <a:lnTo>
                    <a:pt x="108" y="419"/>
                  </a:lnTo>
                  <a:lnTo>
                    <a:pt x="106" y="404"/>
                  </a:lnTo>
                  <a:lnTo>
                    <a:pt x="103" y="390"/>
                  </a:lnTo>
                  <a:lnTo>
                    <a:pt x="100" y="375"/>
                  </a:lnTo>
                  <a:lnTo>
                    <a:pt x="95" y="362"/>
                  </a:lnTo>
                  <a:lnTo>
                    <a:pt x="90" y="348"/>
                  </a:lnTo>
                  <a:lnTo>
                    <a:pt x="82" y="336"/>
                  </a:lnTo>
                  <a:lnTo>
                    <a:pt x="74" y="323"/>
                  </a:lnTo>
                  <a:lnTo>
                    <a:pt x="64" y="311"/>
                  </a:lnTo>
                  <a:lnTo>
                    <a:pt x="53" y="300"/>
                  </a:lnTo>
                  <a:lnTo>
                    <a:pt x="39" y="288"/>
                  </a:lnTo>
                  <a:lnTo>
                    <a:pt x="24" y="278"/>
                  </a:lnTo>
                  <a:lnTo>
                    <a:pt x="25" y="260"/>
                  </a:lnTo>
                  <a:lnTo>
                    <a:pt x="28" y="242"/>
                  </a:lnTo>
                  <a:lnTo>
                    <a:pt x="31" y="225"/>
                  </a:lnTo>
                  <a:lnTo>
                    <a:pt x="37" y="208"/>
                  </a:lnTo>
                  <a:lnTo>
                    <a:pt x="47" y="176"/>
                  </a:lnTo>
                  <a:lnTo>
                    <a:pt x="57" y="147"/>
                  </a:lnTo>
                  <a:lnTo>
                    <a:pt x="60" y="133"/>
                  </a:lnTo>
                  <a:lnTo>
                    <a:pt x="61" y="119"/>
                  </a:lnTo>
                  <a:lnTo>
                    <a:pt x="61" y="113"/>
                  </a:lnTo>
                  <a:lnTo>
                    <a:pt x="61" y="106"/>
                  </a:lnTo>
                  <a:lnTo>
                    <a:pt x="60" y="100"/>
                  </a:lnTo>
                  <a:lnTo>
                    <a:pt x="58" y="94"/>
                  </a:lnTo>
                  <a:lnTo>
                    <a:pt x="56" y="87"/>
                  </a:lnTo>
                  <a:lnTo>
                    <a:pt x="53" y="82"/>
                  </a:lnTo>
                  <a:lnTo>
                    <a:pt x="48" y="77"/>
                  </a:lnTo>
                  <a:lnTo>
                    <a:pt x="44" y="72"/>
                  </a:lnTo>
                  <a:lnTo>
                    <a:pt x="39" y="66"/>
                  </a:lnTo>
                  <a:lnTo>
                    <a:pt x="33" y="61"/>
                  </a:lnTo>
                  <a:lnTo>
                    <a:pt x="25" y="57"/>
                  </a:lnTo>
                  <a:lnTo>
                    <a:pt x="16" y="51"/>
                  </a:lnTo>
                  <a:lnTo>
                    <a:pt x="16" y="45"/>
                  </a:lnTo>
                  <a:lnTo>
                    <a:pt x="15" y="39"/>
                  </a:lnTo>
                  <a:lnTo>
                    <a:pt x="14" y="32"/>
                  </a:lnTo>
                  <a:lnTo>
                    <a:pt x="12" y="26"/>
                  </a:lnTo>
                  <a:lnTo>
                    <a:pt x="11" y="20"/>
                  </a:lnTo>
                  <a:lnTo>
                    <a:pt x="10" y="12"/>
                  </a:lnTo>
                  <a:lnTo>
                    <a:pt x="10" y="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5400000">
              <a:off x="6806880" y="5124240"/>
              <a:ext cx="269280" cy="747720"/>
            </a:xfrm>
            <a:custGeom>
              <a:avLst/>
              <a:gdLst/>
              <a:ahLst/>
              <a:rect l="l" t="t" r="r" b="b"/>
              <a:pathLst>
                <a:path w="2527" h="2009">
                  <a:moveTo>
                    <a:pt x="1775" y="2009"/>
                  </a:moveTo>
                  <a:lnTo>
                    <a:pt x="1765" y="1919"/>
                  </a:lnTo>
                  <a:lnTo>
                    <a:pt x="1755" y="1830"/>
                  </a:lnTo>
                  <a:lnTo>
                    <a:pt x="1744" y="1741"/>
                  </a:lnTo>
                  <a:lnTo>
                    <a:pt x="1733" y="1652"/>
                  </a:lnTo>
                  <a:lnTo>
                    <a:pt x="1721" y="1564"/>
                  </a:lnTo>
                  <a:lnTo>
                    <a:pt x="1708" y="1476"/>
                  </a:lnTo>
                  <a:lnTo>
                    <a:pt x="1695" y="1389"/>
                  </a:lnTo>
                  <a:lnTo>
                    <a:pt x="1681" y="1303"/>
                  </a:lnTo>
                  <a:lnTo>
                    <a:pt x="1652" y="1130"/>
                  </a:lnTo>
                  <a:lnTo>
                    <a:pt x="1622" y="962"/>
                  </a:lnTo>
                  <a:lnTo>
                    <a:pt x="1590" y="796"/>
                  </a:lnTo>
                  <a:lnTo>
                    <a:pt x="1557" y="633"/>
                  </a:lnTo>
                  <a:lnTo>
                    <a:pt x="1542" y="592"/>
                  </a:lnTo>
                  <a:lnTo>
                    <a:pt x="1518" y="526"/>
                  </a:lnTo>
                  <a:lnTo>
                    <a:pt x="1489" y="443"/>
                  </a:lnTo>
                  <a:lnTo>
                    <a:pt x="1458" y="353"/>
                  </a:lnTo>
                  <a:lnTo>
                    <a:pt x="1443" y="309"/>
                  </a:lnTo>
                  <a:lnTo>
                    <a:pt x="1430" y="265"/>
                  </a:lnTo>
                  <a:lnTo>
                    <a:pt x="1418" y="223"/>
                  </a:lnTo>
                  <a:lnTo>
                    <a:pt x="1407" y="185"/>
                  </a:lnTo>
                  <a:lnTo>
                    <a:pt x="1400" y="152"/>
                  </a:lnTo>
                  <a:lnTo>
                    <a:pt x="1395" y="123"/>
                  </a:lnTo>
                  <a:lnTo>
                    <a:pt x="1394" y="110"/>
                  </a:lnTo>
                  <a:lnTo>
                    <a:pt x="1394" y="101"/>
                  </a:lnTo>
                  <a:lnTo>
                    <a:pt x="1394" y="92"/>
                  </a:lnTo>
                  <a:lnTo>
                    <a:pt x="1396" y="86"/>
                  </a:lnTo>
                  <a:lnTo>
                    <a:pt x="1387" y="76"/>
                  </a:lnTo>
                  <a:lnTo>
                    <a:pt x="1379" y="67"/>
                  </a:lnTo>
                  <a:lnTo>
                    <a:pt x="1370" y="56"/>
                  </a:lnTo>
                  <a:lnTo>
                    <a:pt x="1363" y="46"/>
                  </a:lnTo>
                  <a:lnTo>
                    <a:pt x="1356" y="35"/>
                  </a:lnTo>
                  <a:lnTo>
                    <a:pt x="1348" y="24"/>
                  </a:lnTo>
                  <a:lnTo>
                    <a:pt x="1342" y="12"/>
                  </a:lnTo>
                  <a:lnTo>
                    <a:pt x="1336" y="0"/>
                  </a:lnTo>
                  <a:lnTo>
                    <a:pt x="2125" y="0"/>
                  </a:lnTo>
                  <a:lnTo>
                    <a:pt x="2140" y="34"/>
                  </a:lnTo>
                  <a:lnTo>
                    <a:pt x="2155" y="74"/>
                  </a:lnTo>
                  <a:lnTo>
                    <a:pt x="2170" y="120"/>
                  </a:lnTo>
                  <a:lnTo>
                    <a:pt x="2184" y="169"/>
                  </a:lnTo>
                  <a:lnTo>
                    <a:pt x="2198" y="223"/>
                  </a:lnTo>
                  <a:lnTo>
                    <a:pt x="2211" y="280"/>
                  </a:lnTo>
                  <a:lnTo>
                    <a:pt x="2225" y="342"/>
                  </a:lnTo>
                  <a:lnTo>
                    <a:pt x="2238" y="406"/>
                  </a:lnTo>
                  <a:lnTo>
                    <a:pt x="2250" y="473"/>
                  </a:lnTo>
                  <a:lnTo>
                    <a:pt x="2262" y="540"/>
                  </a:lnTo>
                  <a:lnTo>
                    <a:pt x="2274" y="611"/>
                  </a:lnTo>
                  <a:lnTo>
                    <a:pt x="2286" y="682"/>
                  </a:lnTo>
                  <a:lnTo>
                    <a:pt x="2308" y="827"/>
                  </a:lnTo>
                  <a:lnTo>
                    <a:pt x="2330" y="972"/>
                  </a:lnTo>
                  <a:lnTo>
                    <a:pt x="2351" y="1112"/>
                  </a:lnTo>
                  <a:lnTo>
                    <a:pt x="2371" y="1245"/>
                  </a:lnTo>
                  <a:lnTo>
                    <a:pt x="2390" y="1369"/>
                  </a:lnTo>
                  <a:lnTo>
                    <a:pt x="2409" y="1478"/>
                  </a:lnTo>
                  <a:lnTo>
                    <a:pt x="2418" y="1527"/>
                  </a:lnTo>
                  <a:lnTo>
                    <a:pt x="2428" y="1570"/>
                  </a:lnTo>
                  <a:lnTo>
                    <a:pt x="2437" y="1608"/>
                  </a:lnTo>
                  <a:lnTo>
                    <a:pt x="2447" y="1641"/>
                  </a:lnTo>
                  <a:lnTo>
                    <a:pt x="2455" y="1667"/>
                  </a:lnTo>
                  <a:lnTo>
                    <a:pt x="2465" y="1687"/>
                  </a:lnTo>
                  <a:lnTo>
                    <a:pt x="2474" y="1700"/>
                  </a:lnTo>
                  <a:lnTo>
                    <a:pt x="2484" y="1706"/>
                  </a:lnTo>
                  <a:lnTo>
                    <a:pt x="2484" y="1742"/>
                  </a:lnTo>
                  <a:lnTo>
                    <a:pt x="2487" y="1778"/>
                  </a:lnTo>
                  <a:lnTo>
                    <a:pt x="2491" y="1816"/>
                  </a:lnTo>
                  <a:lnTo>
                    <a:pt x="2496" y="1853"/>
                  </a:lnTo>
                  <a:lnTo>
                    <a:pt x="2503" y="1892"/>
                  </a:lnTo>
                  <a:lnTo>
                    <a:pt x="2510" y="1930"/>
                  </a:lnTo>
                  <a:lnTo>
                    <a:pt x="2519" y="1970"/>
                  </a:lnTo>
                  <a:lnTo>
                    <a:pt x="2527" y="2009"/>
                  </a:lnTo>
                  <a:lnTo>
                    <a:pt x="1775" y="2009"/>
                  </a:lnTo>
                  <a:close/>
                  <a:moveTo>
                    <a:pt x="1415" y="2009"/>
                  </a:moveTo>
                  <a:lnTo>
                    <a:pt x="430" y="2009"/>
                  </a:lnTo>
                  <a:lnTo>
                    <a:pt x="419" y="1927"/>
                  </a:lnTo>
                  <a:lnTo>
                    <a:pt x="408" y="1847"/>
                  </a:lnTo>
                  <a:lnTo>
                    <a:pt x="398" y="1766"/>
                  </a:lnTo>
                  <a:lnTo>
                    <a:pt x="387" y="1684"/>
                  </a:lnTo>
                  <a:lnTo>
                    <a:pt x="376" y="1603"/>
                  </a:lnTo>
                  <a:lnTo>
                    <a:pt x="367" y="1521"/>
                  </a:lnTo>
                  <a:lnTo>
                    <a:pt x="357" y="1441"/>
                  </a:lnTo>
                  <a:lnTo>
                    <a:pt x="349" y="1360"/>
                  </a:lnTo>
                  <a:lnTo>
                    <a:pt x="338" y="1337"/>
                  </a:lnTo>
                  <a:lnTo>
                    <a:pt x="328" y="1313"/>
                  </a:lnTo>
                  <a:lnTo>
                    <a:pt x="318" y="1287"/>
                  </a:lnTo>
                  <a:lnTo>
                    <a:pt x="310" y="1259"/>
                  </a:lnTo>
                  <a:lnTo>
                    <a:pt x="300" y="1231"/>
                  </a:lnTo>
                  <a:lnTo>
                    <a:pt x="292" y="1200"/>
                  </a:lnTo>
                  <a:lnTo>
                    <a:pt x="285" y="1168"/>
                  </a:lnTo>
                  <a:lnTo>
                    <a:pt x="277" y="1135"/>
                  </a:lnTo>
                  <a:lnTo>
                    <a:pt x="262" y="1066"/>
                  </a:lnTo>
                  <a:lnTo>
                    <a:pt x="250" y="994"/>
                  </a:lnTo>
                  <a:lnTo>
                    <a:pt x="237" y="920"/>
                  </a:lnTo>
                  <a:lnTo>
                    <a:pt x="226" y="845"/>
                  </a:lnTo>
                  <a:lnTo>
                    <a:pt x="217" y="770"/>
                  </a:lnTo>
                  <a:lnTo>
                    <a:pt x="208" y="696"/>
                  </a:lnTo>
                  <a:lnTo>
                    <a:pt x="200" y="624"/>
                  </a:lnTo>
                  <a:lnTo>
                    <a:pt x="194" y="555"/>
                  </a:lnTo>
                  <a:lnTo>
                    <a:pt x="181" y="433"/>
                  </a:lnTo>
                  <a:lnTo>
                    <a:pt x="171" y="335"/>
                  </a:lnTo>
                  <a:lnTo>
                    <a:pt x="161" y="325"/>
                  </a:lnTo>
                  <a:lnTo>
                    <a:pt x="151" y="312"/>
                  </a:lnTo>
                  <a:lnTo>
                    <a:pt x="141" y="298"/>
                  </a:lnTo>
                  <a:lnTo>
                    <a:pt x="130" y="283"/>
                  </a:lnTo>
                  <a:lnTo>
                    <a:pt x="120" y="267"/>
                  </a:lnTo>
                  <a:lnTo>
                    <a:pt x="109" y="248"/>
                  </a:lnTo>
                  <a:lnTo>
                    <a:pt x="99" y="229"/>
                  </a:lnTo>
                  <a:lnTo>
                    <a:pt x="88" y="208"/>
                  </a:lnTo>
                  <a:lnTo>
                    <a:pt x="67" y="162"/>
                  </a:lnTo>
                  <a:lnTo>
                    <a:pt x="45" y="112"/>
                  </a:lnTo>
                  <a:lnTo>
                    <a:pt x="23" y="58"/>
                  </a:lnTo>
                  <a:lnTo>
                    <a:pt x="0" y="0"/>
                  </a:lnTo>
                  <a:lnTo>
                    <a:pt x="985" y="0"/>
                  </a:lnTo>
                  <a:lnTo>
                    <a:pt x="1017" y="118"/>
                  </a:lnTo>
                  <a:lnTo>
                    <a:pt x="1046" y="236"/>
                  </a:lnTo>
                  <a:lnTo>
                    <a:pt x="1076" y="352"/>
                  </a:lnTo>
                  <a:lnTo>
                    <a:pt x="1105" y="468"/>
                  </a:lnTo>
                  <a:lnTo>
                    <a:pt x="1159" y="687"/>
                  </a:lnTo>
                  <a:lnTo>
                    <a:pt x="1208" y="887"/>
                  </a:lnTo>
                  <a:lnTo>
                    <a:pt x="1229" y="977"/>
                  </a:lnTo>
                  <a:lnTo>
                    <a:pt x="1250" y="1058"/>
                  </a:lnTo>
                  <a:lnTo>
                    <a:pt x="1268" y="1131"/>
                  </a:lnTo>
                  <a:lnTo>
                    <a:pt x="1285" y="1193"/>
                  </a:lnTo>
                  <a:lnTo>
                    <a:pt x="1300" y="1244"/>
                  </a:lnTo>
                  <a:lnTo>
                    <a:pt x="1312" y="1282"/>
                  </a:lnTo>
                  <a:lnTo>
                    <a:pt x="1319" y="1297"/>
                  </a:lnTo>
                  <a:lnTo>
                    <a:pt x="1323" y="1308"/>
                  </a:lnTo>
                  <a:lnTo>
                    <a:pt x="1327" y="1315"/>
                  </a:lnTo>
                  <a:lnTo>
                    <a:pt x="1331" y="1319"/>
                  </a:lnTo>
                  <a:lnTo>
                    <a:pt x="1331" y="1350"/>
                  </a:lnTo>
                  <a:lnTo>
                    <a:pt x="1332" y="1413"/>
                  </a:lnTo>
                  <a:lnTo>
                    <a:pt x="1333" y="1453"/>
                  </a:lnTo>
                  <a:lnTo>
                    <a:pt x="1336" y="1498"/>
                  </a:lnTo>
                  <a:lnTo>
                    <a:pt x="1339" y="1548"/>
                  </a:lnTo>
                  <a:lnTo>
                    <a:pt x="1342" y="1600"/>
                  </a:lnTo>
                  <a:lnTo>
                    <a:pt x="1346" y="1655"/>
                  </a:lnTo>
                  <a:lnTo>
                    <a:pt x="1351" y="1710"/>
                  </a:lnTo>
                  <a:lnTo>
                    <a:pt x="1359" y="1766"/>
                  </a:lnTo>
                  <a:lnTo>
                    <a:pt x="1366" y="1819"/>
                  </a:lnTo>
                  <a:lnTo>
                    <a:pt x="1371" y="1846"/>
                  </a:lnTo>
                  <a:lnTo>
                    <a:pt x="1376" y="1872"/>
                  </a:lnTo>
                  <a:lnTo>
                    <a:pt x="1382" y="1898"/>
                  </a:lnTo>
                  <a:lnTo>
                    <a:pt x="1387" y="1922"/>
                  </a:lnTo>
                  <a:lnTo>
                    <a:pt x="1394" y="1945"/>
                  </a:lnTo>
                  <a:lnTo>
                    <a:pt x="1400" y="1967"/>
                  </a:lnTo>
                  <a:lnTo>
                    <a:pt x="1407" y="1990"/>
                  </a:lnTo>
                  <a:lnTo>
                    <a:pt x="1415" y="20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5400000">
              <a:off x="7522200" y="5044680"/>
              <a:ext cx="339480" cy="752400"/>
            </a:xfrm>
            <a:custGeom>
              <a:avLst/>
              <a:gdLst/>
              <a:ahLst/>
              <a:rect l="l" t="t" r="r" b="b"/>
              <a:pathLst>
                <a:path w="3177" h="2009">
                  <a:moveTo>
                    <a:pt x="2388" y="2009"/>
                  </a:moveTo>
                  <a:lnTo>
                    <a:pt x="2376" y="1982"/>
                  </a:lnTo>
                  <a:lnTo>
                    <a:pt x="2364" y="1954"/>
                  </a:lnTo>
                  <a:lnTo>
                    <a:pt x="2355" y="1926"/>
                  </a:lnTo>
                  <a:lnTo>
                    <a:pt x="2346" y="1896"/>
                  </a:lnTo>
                  <a:lnTo>
                    <a:pt x="2339" y="1867"/>
                  </a:lnTo>
                  <a:lnTo>
                    <a:pt x="2333" y="1837"/>
                  </a:lnTo>
                  <a:lnTo>
                    <a:pt x="2327" y="1809"/>
                  </a:lnTo>
                  <a:lnTo>
                    <a:pt x="2322" y="1779"/>
                  </a:lnTo>
                  <a:lnTo>
                    <a:pt x="2315" y="1724"/>
                  </a:lnTo>
                  <a:lnTo>
                    <a:pt x="2307" y="1673"/>
                  </a:lnTo>
                  <a:lnTo>
                    <a:pt x="2301" y="1630"/>
                  </a:lnTo>
                  <a:lnTo>
                    <a:pt x="2295" y="1595"/>
                  </a:lnTo>
                  <a:lnTo>
                    <a:pt x="2286" y="1592"/>
                  </a:lnTo>
                  <a:lnTo>
                    <a:pt x="2277" y="1589"/>
                  </a:lnTo>
                  <a:lnTo>
                    <a:pt x="2268" y="1587"/>
                  </a:lnTo>
                  <a:lnTo>
                    <a:pt x="2260" y="1583"/>
                  </a:lnTo>
                  <a:lnTo>
                    <a:pt x="2251" y="1581"/>
                  </a:lnTo>
                  <a:lnTo>
                    <a:pt x="2244" y="1580"/>
                  </a:lnTo>
                  <a:lnTo>
                    <a:pt x="2236" y="1579"/>
                  </a:lnTo>
                  <a:lnTo>
                    <a:pt x="2230" y="1579"/>
                  </a:lnTo>
                  <a:lnTo>
                    <a:pt x="2226" y="1554"/>
                  </a:lnTo>
                  <a:lnTo>
                    <a:pt x="2221" y="1525"/>
                  </a:lnTo>
                  <a:lnTo>
                    <a:pt x="2213" y="1495"/>
                  </a:lnTo>
                  <a:lnTo>
                    <a:pt x="2205" y="1463"/>
                  </a:lnTo>
                  <a:lnTo>
                    <a:pt x="2195" y="1429"/>
                  </a:lnTo>
                  <a:lnTo>
                    <a:pt x="2184" y="1393"/>
                  </a:lnTo>
                  <a:lnTo>
                    <a:pt x="2171" y="1355"/>
                  </a:lnTo>
                  <a:lnTo>
                    <a:pt x="2158" y="1317"/>
                  </a:lnTo>
                  <a:lnTo>
                    <a:pt x="2144" y="1278"/>
                  </a:lnTo>
                  <a:lnTo>
                    <a:pt x="2128" y="1238"/>
                  </a:lnTo>
                  <a:lnTo>
                    <a:pt x="2111" y="1197"/>
                  </a:lnTo>
                  <a:lnTo>
                    <a:pt x="2094" y="1155"/>
                  </a:lnTo>
                  <a:lnTo>
                    <a:pt x="2076" y="1114"/>
                  </a:lnTo>
                  <a:lnTo>
                    <a:pt x="2058" y="1072"/>
                  </a:lnTo>
                  <a:lnTo>
                    <a:pt x="2039" y="1032"/>
                  </a:lnTo>
                  <a:lnTo>
                    <a:pt x="2020" y="990"/>
                  </a:lnTo>
                  <a:lnTo>
                    <a:pt x="2000" y="950"/>
                  </a:lnTo>
                  <a:lnTo>
                    <a:pt x="1981" y="911"/>
                  </a:lnTo>
                  <a:lnTo>
                    <a:pt x="1961" y="873"/>
                  </a:lnTo>
                  <a:lnTo>
                    <a:pt x="1941" y="836"/>
                  </a:lnTo>
                  <a:lnTo>
                    <a:pt x="1921" y="801"/>
                  </a:lnTo>
                  <a:lnTo>
                    <a:pt x="1901" y="767"/>
                  </a:lnTo>
                  <a:lnTo>
                    <a:pt x="1882" y="736"/>
                  </a:lnTo>
                  <a:lnTo>
                    <a:pt x="1863" y="706"/>
                  </a:lnTo>
                  <a:lnTo>
                    <a:pt x="1844" y="679"/>
                  </a:lnTo>
                  <a:lnTo>
                    <a:pt x="1825" y="654"/>
                  </a:lnTo>
                  <a:lnTo>
                    <a:pt x="1808" y="632"/>
                  </a:lnTo>
                  <a:lnTo>
                    <a:pt x="1791" y="613"/>
                  </a:lnTo>
                  <a:lnTo>
                    <a:pt x="1774" y="597"/>
                  </a:lnTo>
                  <a:lnTo>
                    <a:pt x="1759" y="585"/>
                  </a:lnTo>
                  <a:lnTo>
                    <a:pt x="1744" y="576"/>
                  </a:lnTo>
                  <a:lnTo>
                    <a:pt x="1731" y="571"/>
                  </a:lnTo>
                  <a:lnTo>
                    <a:pt x="1713" y="526"/>
                  </a:lnTo>
                  <a:lnTo>
                    <a:pt x="1694" y="483"/>
                  </a:lnTo>
                  <a:lnTo>
                    <a:pt x="1673" y="442"/>
                  </a:lnTo>
                  <a:lnTo>
                    <a:pt x="1652" y="402"/>
                  </a:lnTo>
                  <a:lnTo>
                    <a:pt x="1630" y="364"/>
                  </a:lnTo>
                  <a:lnTo>
                    <a:pt x="1608" y="327"/>
                  </a:lnTo>
                  <a:lnTo>
                    <a:pt x="1586" y="291"/>
                  </a:lnTo>
                  <a:lnTo>
                    <a:pt x="1563" y="255"/>
                  </a:lnTo>
                  <a:lnTo>
                    <a:pt x="1539" y="221"/>
                  </a:lnTo>
                  <a:lnTo>
                    <a:pt x="1515" y="188"/>
                  </a:lnTo>
                  <a:lnTo>
                    <a:pt x="1492" y="155"/>
                  </a:lnTo>
                  <a:lnTo>
                    <a:pt x="1467" y="124"/>
                  </a:lnTo>
                  <a:lnTo>
                    <a:pt x="1421" y="61"/>
                  </a:lnTo>
                  <a:lnTo>
                    <a:pt x="1375" y="0"/>
                  </a:lnTo>
                  <a:lnTo>
                    <a:pt x="2018" y="0"/>
                  </a:lnTo>
                  <a:lnTo>
                    <a:pt x="2088" y="117"/>
                  </a:lnTo>
                  <a:lnTo>
                    <a:pt x="2158" y="234"/>
                  </a:lnTo>
                  <a:lnTo>
                    <a:pt x="2193" y="291"/>
                  </a:lnTo>
                  <a:lnTo>
                    <a:pt x="2229" y="347"/>
                  </a:lnTo>
                  <a:lnTo>
                    <a:pt x="2264" y="402"/>
                  </a:lnTo>
                  <a:lnTo>
                    <a:pt x="2300" y="455"/>
                  </a:lnTo>
                  <a:lnTo>
                    <a:pt x="2336" y="506"/>
                  </a:lnTo>
                  <a:lnTo>
                    <a:pt x="2372" y="556"/>
                  </a:lnTo>
                  <a:lnTo>
                    <a:pt x="2409" y="604"/>
                  </a:lnTo>
                  <a:lnTo>
                    <a:pt x="2445" y="649"/>
                  </a:lnTo>
                  <a:lnTo>
                    <a:pt x="2463" y="670"/>
                  </a:lnTo>
                  <a:lnTo>
                    <a:pt x="2482" y="690"/>
                  </a:lnTo>
                  <a:lnTo>
                    <a:pt x="2500" y="710"/>
                  </a:lnTo>
                  <a:lnTo>
                    <a:pt x="2519" y="729"/>
                  </a:lnTo>
                  <a:lnTo>
                    <a:pt x="2536" y="747"/>
                  </a:lnTo>
                  <a:lnTo>
                    <a:pt x="2556" y="765"/>
                  </a:lnTo>
                  <a:lnTo>
                    <a:pt x="2575" y="781"/>
                  </a:lnTo>
                  <a:lnTo>
                    <a:pt x="2592" y="797"/>
                  </a:lnTo>
                  <a:lnTo>
                    <a:pt x="2587" y="800"/>
                  </a:lnTo>
                  <a:lnTo>
                    <a:pt x="2582" y="803"/>
                  </a:lnTo>
                  <a:lnTo>
                    <a:pt x="2578" y="806"/>
                  </a:lnTo>
                  <a:lnTo>
                    <a:pt x="2573" y="809"/>
                  </a:lnTo>
                  <a:lnTo>
                    <a:pt x="2570" y="812"/>
                  </a:lnTo>
                  <a:lnTo>
                    <a:pt x="2567" y="815"/>
                  </a:lnTo>
                  <a:lnTo>
                    <a:pt x="2564" y="818"/>
                  </a:lnTo>
                  <a:lnTo>
                    <a:pt x="2561" y="821"/>
                  </a:lnTo>
                  <a:lnTo>
                    <a:pt x="2569" y="846"/>
                  </a:lnTo>
                  <a:lnTo>
                    <a:pt x="2579" y="871"/>
                  </a:lnTo>
                  <a:lnTo>
                    <a:pt x="2587" y="896"/>
                  </a:lnTo>
                  <a:lnTo>
                    <a:pt x="2597" y="923"/>
                  </a:lnTo>
                  <a:lnTo>
                    <a:pt x="2606" y="949"/>
                  </a:lnTo>
                  <a:lnTo>
                    <a:pt x="2615" y="977"/>
                  </a:lnTo>
                  <a:lnTo>
                    <a:pt x="2624" y="1003"/>
                  </a:lnTo>
                  <a:lnTo>
                    <a:pt x="2633" y="1031"/>
                  </a:lnTo>
                  <a:lnTo>
                    <a:pt x="2655" y="1067"/>
                  </a:lnTo>
                  <a:lnTo>
                    <a:pt x="2677" y="1104"/>
                  </a:lnTo>
                  <a:lnTo>
                    <a:pt x="2699" y="1139"/>
                  </a:lnTo>
                  <a:lnTo>
                    <a:pt x="2722" y="1176"/>
                  </a:lnTo>
                  <a:lnTo>
                    <a:pt x="2747" y="1214"/>
                  </a:lnTo>
                  <a:lnTo>
                    <a:pt x="2770" y="1251"/>
                  </a:lnTo>
                  <a:lnTo>
                    <a:pt x="2794" y="1290"/>
                  </a:lnTo>
                  <a:lnTo>
                    <a:pt x="2819" y="1329"/>
                  </a:lnTo>
                  <a:lnTo>
                    <a:pt x="2823" y="1324"/>
                  </a:lnTo>
                  <a:lnTo>
                    <a:pt x="2826" y="1319"/>
                  </a:lnTo>
                  <a:lnTo>
                    <a:pt x="2830" y="1314"/>
                  </a:lnTo>
                  <a:lnTo>
                    <a:pt x="2832" y="1309"/>
                  </a:lnTo>
                  <a:lnTo>
                    <a:pt x="2838" y="1297"/>
                  </a:lnTo>
                  <a:lnTo>
                    <a:pt x="2840" y="1284"/>
                  </a:lnTo>
                  <a:lnTo>
                    <a:pt x="2842" y="1272"/>
                  </a:lnTo>
                  <a:lnTo>
                    <a:pt x="2842" y="1259"/>
                  </a:lnTo>
                  <a:lnTo>
                    <a:pt x="2842" y="1246"/>
                  </a:lnTo>
                  <a:lnTo>
                    <a:pt x="2841" y="1235"/>
                  </a:lnTo>
                  <a:lnTo>
                    <a:pt x="2836" y="1211"/>
                  </a:lnTo>
                  <a:lnTo>
                    <a:pt x="2832" y="1193"/>
                  </a:lnTo>
                  <a:lnTo>
                    <a:pt x="2828" y="1181"/>
                  </a:lnTo>
                  <a:lnTo>
                    <a:pt x="2826" y="1175"/>
                  </a:lnTo>
                  <a:lnTo>
                    <a:pt x="2821" y="1173"/>
                  </a:lnTo>
                  <a:lnTo>
                    <a:pt x="2815" y="1171"/>
                  </a:lnTo>
                  <a:lnTo>
                    <a:pt x="2811" y="1170"/>
                  </a:lnTo>
                  <a:lnTo>
                    <a:pt x="2807" y="1169"/>
                  </a:lnTo>
                  <a:lnTo>
                    <a:pt x="2804" y="1168"/>
                  </a:lnTo>
                  <a:lnTo>
                    <a:pt x="2801" y="1168"/>
                  </a:lnTo>
                  <a:lnTo>
                    <a:pt x="2797" y="1168"/>
                  </a:lnTo>
                  <a:lnTo>
                    <a:pt x="2794" y="1168"/>
                  </a:lnTo>
                  <a:lnTo>
                    <a:pt x="2793" y="1149"/>
                  </a:lnTo>
                  <a:lnTo>
                    <a:pt x="2792" y="1132"/>
                  </a:lnTo>
                  <a:lnTo>
                    <a:pt x="2789" y="1117"/>
                  </a:lnTo>
                  <a:lnTo>
                    <a:pt x="2786" y="1102"/>
                  </a:lnTo>
                  <a:lnTo>
                    <a:pt x="2782" y="1091"/>
                  </a:lnTo>
                  <a:lnTo>
                    <a:pt x="2777" y="1079"/>
                  </a:lnTo>
                  <a:lnTo>
                    <a:pt x="2773" y="1070"/>
                  </a:lnTo>
                  <a:lnTo>
                    <a:pt x="2769" y="1061"/>
                  </a:lnTo>
                  <a:lnTo>
                    <a:pt x="2761" y="1046"/>
                  </a:lnTo>
                  <a:lnTo>
                    <a:pt x="2757" y="1034"/>
                  </a:lnTo>
                  <a:lnTo>
                    <a:pt x="2756" y="1028"/>
                  </a:lnTo>
                  <a:lnTo>
                    <a:pt x="2756" y="1024"/>
                  </a:lnTo>
                  <a:lnTo>
                    <a:pt x="2758" y="1019"/>
                  </a:lnTo>
                  <a:lnTo>
                    <a:pt x="2761" y="1015"/>
                  </a:lnTo>
                  <a:lnTo>
                    <a:pt x="2777" y="1034"/>
                  </a:lnTo>
                  <a:lnTo>
                    <a:pt x="2792" y="1054"/>
                  </a:lnTo>
                  <a:lnTo>
                    <a:pt x="2806" y="1075"/>
                  </a:lnTo>
                  <a:lnTo>
                    <a:pt x="2821" y="1097"/>
                  </a:lnTo>
                  <a:lnTo>
                    <a:pt x="2834" y="1119"/>
                  </a:lnTo>
                  <a:lnTo>
                    <a:pt x="2849" y="1143"/>
                  </a:lnTo>
                  <a:lnTo>
                    <a:pt x="2863" y="1166"/>
                  </a:lnTo>
                  <a:lnTo>
                    <a:pt x="2876" y="1191"/>
                  </a:lnTo>
                  <a:lnTo>
                    <a:pt x="2902" y="1242"/>
                  </a:lnTo>
                  <a:lnTo>
                    <a:pt x="2927" y="1296"/>
                  </a:lnTo>
                  <a:lnTo>
                    <a:pt x="2951" y="1352"/>
                  </a:lnTo>
                  <a:lnTo>
                    <a:pt x="2974" y="1410"/>
                  </a:lnTo>
                  <a:lnTo>
                    <a:pt x="2995" y="1471"/>
                  </a:lnTo>
                  <a:lnTo>
                    <a:pt x="3014" y="1533"/>
                  </a:lnTo>
                  <a:lnTo>
                    <a:pt x="3033" y="1597"/>
                  </a:lnTo>
                  <a:lnTo>
                    <a:pt x="3050" y="1662"/>
                  </a:lnTo>
                  <a:lnTo>
                    <a:pt x="3065" y="1728"/>
                  </a:lnTo>
                  <a:lnTo>
                    <a:pt x="3078" y="1796"/>
                  </a:lnTo>
                  <a:lnTo>
                    <a:pt x="3090" y="1865"/>
                  </a:lnTo>
                  <a:lnTo>
                    <a:pt x="3101" y="1933"/>
                  </a:lnTo>
                  <a:lnTo>
                    <a:pt x="3106" y="1934"/>
                  </a:lnTo>
                  <a:lnTo>
                    <a:pt x="3110" y="1934"/>
                  </a:lnTo>
                  <a:lnTo>
                    <a:pt x="3115" y="1936"/>
                  </a:lnTo>
                  <a:lnTo>
                    <a:pt x="3121" y="1939"/>
                  </a:lnTo>
                  <a:lnTo>
                    <a:pt x="3130" y="1945"/>
                  </a:lnTo>
                  <a:lnTo>
                    <a:pt x="3140" y="1953"/>
                  </a:lnTo>
                  <a:lnTo>
                    <a:pt x="3149" y="1964"/>
                  </a:lnTo>
                  <a:lnTo>
                    <a:pt x="3159" y="1977"/>
                  </a:lnTo>
                  <a:lnTo>
                    <a:pt x="3168" y="1992"/>
                  </a:lnTo>
                  <a:lnTo>
                    <a:pt x="3177" y="2009"/>
                  </a:lnTo>
                  <a:lnTo>
                    <a:pt x="2388" y="2009"/>
                  </a:lnTo>
                  <a:close/>
                  <a:moveTo>
                    <a:pt x="1142" y="0"/>
                  </a:moveTo>
                  <a:lnTo>
                    <a:pt x="1193" y="76"/>
                  </a:lnTo>
                  <a:lnTo>
                    <a:pt x="1242" y="151"/>
                  </a:lnTo>
                  <a:lnTo>
                    <a:pt x="1290" y="226"/>
                  </a:lnTo>
                  <a:lnTo>
                    <a:pt x="1337" y="299"/>
                  </a:lnTo>
                  <a:lnTo>
                    <a:pt x="1381" y="371"/>
                  </a:lnTo>
                  <a:lnTo>
                    <a:pt x="1423" y="442"/>
                  </a:lnTo>
                  <a:lnTo>
                    <a:pt x="1462" y="511"/>
                  </a:lnTo>
                  <a:lnTo>
                    <a:pt x="1498" y="576"/>
                  </a:lnTo>
                  <a:lnTo>
                    <a:pt x="1532" y="641"/>
                  </a:lnTo>
                  <a:lnTo>
                    <a:pt x="1562" y="701"/>
                  </a:lnTo>
                  <a:lnTo>
                    <a:pt x="1575" y="730"/>
                  </a:lnTo>
                  <a:lnTo>
                    <a:pt x="1587" y="759"/>
                  </a:lnTo>
                  <a:lnTo>
                    <a:pt x="1598" y="786"/>
                  </a:lnTo>
                  <a:lnTo>
                    <a:pt x="1609" y="813"/>
                  </a:lnTo>
                  <a:lnTo>
                    <a:pt x="1619" y="839"/>
                  </a:lnTo>
                  <a:lnTo>
                    <a:pt x="1627" y="864"/>
                  </a:lnTo>
                  <a:lnTo>
                    <a:pt x="1633" y="888"/>
                  </a:lnTo>
                  <a:lnTo>
                    <a:pt x="1640" y="910"/>
                  </a:lnTo>
                  <a:lnTo>
                    <a:pt x="1644" y="932"/>
                  </a:lnTo>
                  <a:lnTo>
                    <a:pt x="1647" y="952"/>
                  </a:lnTo>
                  <a:lnTo>
                    <a:pt x="1649" y="972"/>
                  </a:lnTo>
                  <a:lnTo>
                    <a:pt x="1650" y="990"/>
                  </a:lnTo>
                  <a:lnTo>
                    <a:pt x="1662" y="1003"/>
                  </a:lnTo>
                  <a:lnTo>
                    <a:pt x="1673" y="1017"/>
                  </a:lnTo>
                  <a:lnTo>
                    <a:pt x="1685" y="1033"/>
                  </a:lnTo>
                  <a:lnTo>
                    <a:pt x="1697" y="1051"/>
                  </a:lnTo>
                  <a:lnTo>
                    <a:pt x="1709" y="1070"/>
                  </a:lnTo>
                  <a:lnTo>
                    <a:pt x="1721" y="1091"/>
                  </a:lnTo>
                  <a:lnTo>
                    <a:pt x="1733" y="1113"/>
                  </a:lnTo>
                  <a:lnTo>
                    <a:pt x="1745" y="1136"/>
                  </a:lnTo>
                  <a:lnTo>
                    <a:pt x="1770" y="1188"/>
                  </a:lnTo>
                  <a:lnTo>
                    <a:pt x="1794" y="1245"/>
                  </a:lnTo>
                  <a:lnTo>
                    <a:pt x="1818" y="1306"/>
                  </a:lnTo>
                  <a:lnTo>
                    <a:pt x="1844" y="1373"/>
                  </a:lnTo>
                  <a:lnTo>
                    <a:pt x="1868" y="1443"/>
                  </a:lnTo>
                  <a:lnTo>
                    <a:pt x="1892" y="1517"/>
                  </a:lnTo>
                  <a:lnTo>
                    <a:pt x="1916" y="1593"/>
                  </a:lnTo>
                  <a:lnTo>
                    <a:pt x="1942" y="1673"/>
                  </a:lnTo>
                  <a:lnTo>
                    <a:pt x="1965" y="1755"/>
                  </a:lnTo>
                  <a:lnTo>
                    <a:pt x="1989" y="1838"/>
                  </a:lnTo>
                  <a:lnTo>
                    <a:pt x="2014" y="1923"/>
                  </a:lnTo>
                  <a:lnTo>
                    <a:pt x="2037" y="2009"/>
                  </a:lnTo>
                  <a:lnTo>
                    <a:pt x="1052" y="2009"/>
                  </a:lnTo>
                  <a:lnTo>
                    <a:pt x="1028" y="1946"/>
                  </a:lnTo>
                  <a:lnTo>
                    <a:pt x="1004" y="1878"/>
                  </a:lnTo>
                  <a:lnTo>
                    <a:pt x="979" y="1809"/>
                  </a:lnTo>
                  <a:lnTo>
                    <a:pt x="955" y="1736"/>
                  </a:lnTo>
                  <a:lnTo>
                    <a:pt x="904" y="1583"/>
                  </a:lnTo>
                  <a:lnTo>
                    <a:pt x="852" y="1426"/>
                  </a:lnTo>
                  <a:lnTo>
                    <a:pt x="798" y="1264"/>
                  </a:lnTo>
                  <a:lnTo>
                    <a:pt x="742" y="1101"/>
                  </a:lnTo>
                  <a:lnTo>
                    <a:pt x="713" y="1021"/>
                  </a:lnTo>
                  <a:lnTo>
                    <a:pt x="685" y="943"/>
                  </a:lnTo>
                  <a:lnTo>
                    <a:pt x="655" y="865"/>
                  </a:lnTo>
                  <a:lnTo>
                    <a:pt x="625" y="789"/>
                  </a:lnTo>
                  <a:lnTo>
                    <a:pt x="595" y="715"/>
                  </a:lnTo>
                  <a:lnTo>
                    <a:pt x="563" y="644"/>
                  </a:lnTo>
                  <a:lnTo>
                    <a:pt x="533" y="575"/>
                  </a:lnTo>
                  <a:lnTo>
                    <a:pt x="501" y="509"/>
                  </a:lnTo>
                  <a:lnTo>
                    <a:pt x="468" y="448"/>
                  </a:lnTo>
                  <a:lnTo>
                    <a:pt x="435" y="391"/>
                  </a:lnTo>
                  <a:lnTo>
                    <a:pt x="402" y="338"/>
                  </a:lnTo>
                  <a:lnTo>
                    <a:pt x="368" y="290"/>
                  </a:lnTo>
                  <a:lnTo>
                    <a:pt x="334" y="246"/>
                  </a:lnTo>
                  <a:lnTo>
                    <a:pt x="299" y="209"/>
                  </a:lnTo>
                  <a:lnTo>
                    <a:pt x="264" y="178"/>
                  </a:lnTo>
                  <a:lnTo>
                    <a:pt x="228" y="151"/>
                  </a:lnTo>
                  <a:lnTo>
                    <a:pt x="191" y="133"/>
                  </a:lnTo>
                  <a:lnTo>
                    <a:pt x="154" y="120"/>
                  </a:lnTo>
                  <a:lnTo>
                    <a:pt x="118" y="116"/>
                  </a:lnTo>
                  <a:lnTo>
                    <a:pt x="79" y="119"/>
                  </a:lnTo>
                  <a:lnTo>
                    <a:pt x="81" y="137"/>
                  </a:lnTo>
                  <a:lnTo>
                    <a:pt x="86" y="159"/>
                  </a:lnTo>
                  <a:lnTo>
                    <a:pt x="91" y="184"/>
                  </a:lnTo>
                  <a:lnTo>
                    <a:pt x="97" y="211"/>
                  </a:lnTo>
                  <a:lnTo>
                    <a:pt x="103" y="242"/>
                  </a:lnTo>
                  <a:lnTo>
                    <a:pt x="107" y="275"/>
                  </a:lnTo>
                  <a:lnTo>
                    <a:pt x="107" y="292"/>
                  </a:lnTo>
                  <a:lnTo>
                    <a:pt x="107" y="310"/>
                  </a:lnTo>
                  <a:lnTo>
                    <a:pt x="106" y="328"/>
                  </a:lnTo>
                  <a:lnTo>
                    <a:pt x="104" y="346"/>
                  </a:lnTo>
                  <a:lnTo>
                    <a:pt x="91" y="320"/>
                  </a:lnTo>
                  <a:lnTo>
                    <a:pt x="79" y="297"/>
                  </a:lnTo>
                  <a:lnTo>
                    <a:pt x="68" y="274"/>
                  </a:lnTo>
                  <a:lnTo>
                    <a:pt x="58" y="251"/>
                  </a:lnTo>
                  <a:lnTo>
                    <a:pt x="49" y="229"/>
                  </a:lnTo>
                  <a:lnTo>
                    <a:pt x="41" y="207"/>
                  </a:lnTo>
                  <a:lnTo>
                    <a:pt x="34" y="186"/>
                  </a:lnTo>
                  <a:lnTo>
                    <a:pt x="28" y="165"/>
                  </a:lnTo>
                  <a:lnTo>
                    <a:pt x="21" y="145"/>
                  </a:lnTo>
                  <a:lnTo>
                    <a:pt x="16" y="125"/>
                  </a:lnTo>
                  <a:lnTo>
                    <a:pt x="12" y="104"/>
                  </a:lnTo>
                  <a:lnTo>
                    <a:pt x="9" y="83"/>
                  </a:lnTo>
                  <a:lnTo>
                    <a:pt x="6" y="63"/>
                  </a:lnTo>
                  <a:lnTo>
                    <a:pt x="3" y="42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142" y="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5400000">
              <a:off x="8286120" y="4937760"/>
              <a:ext cx="311040" cy="746640"/>
            </a:xfrm>
            <a:custGeom>
              <a:avLst/>
              <a:gdLst/>
              <a:ahLst/>
              <a:rect l="l" t="t" r="r" b="b"/>
              <a:pathLst>
                <a:path w="2905" h="2008">
                  <a:moveTo>
                    <a:pt x="2262" y="2008"/>
                  </a:moveTo>
                  <a:lnTo>
                    <a:pt x="2237" y="1976"/>
                  </a:lnTo>
                  <a:lnTo>
                    <a:pt x="2214" y="1945"/>
                  </a:lnTo>
                  <a:lnTo>
                    <a:pt x="2192" y="1913"/>
                  </a:lnTo>
                  <a:lnTo>
                    <a:pt x="2171" y="1881"/>
                  </a:lnTo>
                  <a:lnTo>
                    <a:pt x="2150" y="1849"/>
                  </a:lnTo>
                  <a:lnTo>
                    <a:pt x="2129" y="1817"/>
                  </a:lnTo>
                  <a:lnTo>
                    <a:pt x="2112" y="1783"/>
                  </a:lnTo>
                  <a:lnTo>
                    <a:pt x="2095" y="1749"/>
                  </a:lnTo>
                  <a:lnTo>
                    <a:pt x="2083" y="1746"/>
                  </a:lnTo>
                  <a:lnTo>
                    <a:pt x="2070" y="1738"/>
                  </a:lnTo>
                  <a:lnTo>
                    <a:pt x="2056" y="1726"/>
                  </a:lnTo>
                  <a:lnTo>
                    <a:pt x="2040" y="1710"/>
                  </a:lnTo>
                  <a:lnTo>
                    <a:pt x="2022" y="1689"/>
                  </a:lnTo>
                  <a:lnTo>
                    <a:pt x="2002" y="1664"/>
                  </a:lnTo>
                  <a:lnTo>
                    <a:pt x="1982" y="1637"/>
                  </a:lnTo>
                  <a:lnTo>
                    <a:pt x="1958" y="1606"/>
                  </a:lnTo>
                  <a:lnTo>
                    <a:pt x="1857" y="1463"/>
                  </a:lnTo>
                  <a:lnTo>
                    <a:pt x="1742" y="1301"/>
                  </a:lnTo>
                  <a:lnTo>
                    <a:pt x="1711" y="1260"/>
                  </a:lnTo>
                  <a:lnTo>
                    <a:pt x="1681" y="1219"/>
                  </a:lnTo>
                  <a:lnTo>
                    <a:pt x="1649" y="1180"/>
                  </a:lnTo>
                  <a:lnTo>
                    <a:pt x="1618" y="1142"/>
                  </a:lnTo>
                  <a:lnTo>
                    <a:pt x="1587" y="1106"/>
                  </a:lnTo>
                  <a:lnTo>
                    <a:pt x="1555" y="1071"/>
                  </a:lnTo>
                  <a:lnTo>
                    <a:pt x="1523" y="1040"/>
                  </a:lnTo>
                  <a:lnTo>
                    <a:pt x="1491" y="1011"/>
                  </a:lnTo>
                  <a:lnTo>
                    <a:pt x="1460" y="985"/>
                  </a:lnTo>
                  <a:lnTo>
                    <a:pt x="1429" y="963"/>
                  </a:lnTo>
                  <a:lnTo>
                    <a:pt x="1399" y="944"/>
                  </a:lnTo>
                  <a:lnTo>
                    <a:pt x="1369" y="929"/>
                  </a:lnTo>
                  <a:lnTo>
                    <a:pt x="1339" y="918"/>
                  </a:lnTo>
                  <a:lnTo>
                    <a:pt x="1311" y="913"/>
                  </a:lnTo>
                  <a:lnTo>
                    <a:pt x="1283" y="913"/>
                  </a:lnTo>
                  <a:lnTo>
                    <a:pt x="1256" y="918"/>
                  </a:lnTo>
                  <a:lnTo>
                    <a:pt x="1314" y="1002"/>
                  </a:lnTo>
                  <a:lnTo>
                    <a:pt x="1388" y="1106"/>
                  </a:lnTo>
                  <a:lnTo>
                    <a:pt x="1478" y="1230"/>
                  </a:lnTo>
                  <a:lnTo>
                    <a:pt x="1578" y="1367"/>
                  </a:lnTo>
                  <a:lnTo>
                    <a:pt x="1686" y="1518"/>
                  </a:lnTo>
                  <a:lnTo>
                    <a:pt x="1800" y="1677"/>
                  </a:lnTo>
                  <a:lnTo>
                    <a:pt x="1857" y="1759"/>
                  </a:lnTo>
                  <a:lnTo>
                    <a:pt x="1915" y="1841"/>
                  </a:lnTo>
                  <a:lnTo>
                    <a:pt x="1973" y="1924"/>
                  </a:lnTo>
                  <a:lnTo>
                    <a:pt x="2029" y="2008"/>
                  </a:lnTo>
                  <a:lnTo>
                    <a:pt x="887" y="2008"/>
                  </a:lnTo>
                  <a:lnTo>
                    <a:pt x="886" y="2003"/>
                  </a:lnTo>
                  <a:lnTo>
                    <a:pt x="886" y="1996"/>
                  </a:lnTo>
                  <a:lnTo>
                    <a:pt x="886" y="1990"/>
                  </a:lnTo>
                  <a:lnTo>
                    <a:pt x="886" y="1984"/>
                  </a:lnTo>
                  <a:lnTo>
                    <a:pt x="886" y="1977"/>
                  </a:lnTo>
                  <a:lnTo>
                    <a:pt x="886" y="1971"/>
                  </a:lnTo>
                  <a:lnTo>
                    <a:pt x="886" y="1965"/>
                  </a:lnTo>
                  <a:lnTo>
                    <a:pt x="886" y="1958"/>
                  </a:lnTo>
                  <a:lnTo>
                    <a:pt x="895" y="1955"/>
                  </a:lnTo>
                  <a:lnTo>
                    <a:pt x="904" y="1952"/>
                  </a:lnTo>
                  <a:lnTo>
                    <a:pt x="914" y="1950"/>
                  </a:lnTo>
                  <a:lnTo>
                    <a:pt x="923" y="1947"/>
                  </a:lnTo>
                  <a:lnTo>
                    <a:pt x="933" y="1944"/>
                  </a:lnTo>
                  <a:lnTo>
                    <a:pt x="943" y="1940"/>
                  </a:lnTo>
                  <a:lnTo>
                    <a:pt x="955" y="1937"/>
                  </a:lnTo>
                  <a:lnTo>
                    <a:pt x="966" y="1934"/>
                  </a:lnTo>
                  <a:lnTo>
                    <a:pt x="970" y="1929"/>
                  </a:lnTo>
                  <a:lnTo>
                    <a:pt x="973" y="1922"/>
                  </a:lnTo>
                  <a:lnTo>
                    <a:pt x="975" y="1917"/>
                  </a:lnTo>
                  <a:lnTo>
                    <a:pt x="978" y="1911"/>
                  </a:lnTo>
                  <a:lnTo>
                    <a:pt x="981" y="1907"/>
                  </a:lnTo>
                  <a:lnTo>
                    <a:pt x="984" y="1901"/>
                  </a:lnTo>
                  <a:lnTo>
                    <a:pt x="988" y="1897"/>
                  </a:lnTo>
                  <a:lnTo>
                    <a:pt x="991" y="1894"/>
                  </a:lnTo>
                  <a:lnTo>
                    <a:pt x="984" y="1882"/>
                  </a:lnTo>
                  <a:lnTo>
                    <a:pt x="977" y="1871"/>
                  </a:lnTo>
                  <a:lnTo>
                    <a:pt x="969" y="1860"/>
                  </a:lnTo>
                  <a:lnTo>
                    <a:pt x="960" y="1849"/>
                  </a:lnTo>
                  <a:lnTo>
                    <a:pt x="952" y="1840"/>
                  </a:lnTo>
                  <a:lnTo>
                    <a:pt x="942" y="1830"/>
                  </a:lnTo>
                  <a:lnTo>
                    <a:pt x="932" y="1822"/>
                  </a:lnTo>
                  <a:lnTo>
                    <a:pt x="921" y="1814"/>
                  </a:lnTo>
                  <a:lnTo>
                    <a:pt x="899" y="1798"/>
                  </a:lnTo>
                  <a:lnTo>
                    <a:pt x="877" y="1783"/>
                  </a:lnTo>
                  <a:lnTo>
                    <a:pt x="852" y="1769"/>
                  </a:lnTo>
                  <a:lnTo>
                    <a:pt x="829" y="1756"/>
                  </a:lnTo>
                  <a:lnTo>
                    <a:pt x="784" y="1734"/>
                  </a:lnTo>
                  <a:lnTo>
                    <a:pt x="744" y="1713"/>
                  </a:lnTo>
                  <a:lnTo>
                    <a:pt x="727" y="1703"/>
                  </a:lnTo>
                  <a:lnTo>
                    <a:pt x="712" y="1691"/>
                  </a:lnTo>
                  <a:lnTo>
                    <a:pt x="706" y="1686"/>
                  </a:lnTo>
                  <a:lnTo>
                    <a:pt x="700" y="1680"/>
                  </a:lnTo>
                  <a:lnTo>
                    <a:pt x="696" y="1674"/>
                  </a:lnTo>
                  <a:lnTo>
                    <a:pt x="693" y="1669"/>
                  </a:lnTo>
                  <a:lnTo>
                    <a:pt x="724" y="1650"/>
                  </a:lnTo>
                  <a:lnTo>
                    <a:pt x="747" y="1629"/>
                  </a:lnTo>
                  <a:lnTo>
                    <a:pt x="765" y="1603"/>
                  </a:lnTo>
                  <a:lnTo>
                    <a:pt x="777" y="1576"/>
                  </a:lnTo>
                  <a:lnTo>
                    <a:pt x="785" y="1546"/>
                  </a:lnTo>
                  <a:lnTo>
                    <a:pt x="786" y="1513"/>
                  </a:lnTo>
                  <a:lnTo>
                    <a:pt x="784" y="1478"/>
                  </a:lnTo>
                  <a:lnTo>
                    <a:pt x="776" y="1441"/>
                  </a:lnTo>
                  <a:lnTo>
                    <a:pt x="766" y="1402"/>
                  </a:lnTo>
                  <a:lnTo>
                    <a:pt x="751" y="1362"/>
                  </a:lnTo>
                  <a:lnTo>
                    <a:pt x="734" y="1321"/>
                  </a:lnTo>
                  <a:lnTo>
                    <a:pt x="713" y="1278"/>
                  </a:lnTo>
                  <a:lnTo>
                    <a:pt x="691" y="1234"/>
                  </a:lnTo>
                  <a:lnTo>
                    <a:pt x="665" y="1190"/>
                  </a:lnTo>
                  <a:lnTo>
                    <a:pt x="639" y="1144"/>
                  </a:lnTo>
                  <a:lnTo>
                    <a:pt x="610" y="1099"/>
                  </a:lnTo>
                  <a:lnTo>
                    <a:pt x="493" y="918"/>
                  </a:lnTo>
                  <a:lnTo>
                    <a:pt x="383" y="749"/>
                  </a:lnTo>
                  <a:lnTo>
                    <a:pt x="360" y="710"/>
                  </a:lnTo>
                  <a:lnTo>
                    <a:pt x="339" y="673"/>
                  </a:lnTo>
                  <a:lnTo>
                    <a:pt x="320" y="638"/>
                  </a:lnTo>
                  <a:lnTo>
                    <a:pt x="305" y="605"/>
                  </a:lnTo>
                  <a:lnTo>
                    <a:pt x="293" y="575"/>
                  </a:lnTo>
                  <a:lnTo>
                    <a:pt x="285" y="546"/>
                  </a:lnTo>
                  <a:lnTo>
                    <a:pt x="281" y="522"/>
                  </a:lnTo>
                  <a:lnTo>
                    <a:pt x="282" y="500"/>
                  </a:lnTo>
                  <a:lnTo>
                    <a:pt x="293" y="484"/>
                  </a:lnTo>
                  <a:lnTo>
                    <a:pt x="301" y="469"/>
                  </a:lnTo>
                  <a:lnTo>
                    <a:pt x="307" y="454"/>
                  </a:lnTo>
                  <a:lnTo>
                    <a:pt x="310" y="440"/>
                  </a:lnTo>
                  <a:lnTo>
                    <a:pt x="310" y="427"/>
                  </a:lnTo>
                  <a:lnTo>
                    <a:pt x="309" y="414"/>
                  </a:lnTo>
                  <a:lnTo>
                    <a:pt x="305" y="402"/>
                  </a:lnTo>
                  <a:lnTo>
                    <a:pt x="300" y="390"/>
                  </a:lnTo>
                  <a:lnTo>
                    <a:pt x="293" y="379"/>
                  </a:lnTo>
                  <a:lnTo>
                    <a:pt x="283" y="369"/>
                  </a:lnTo>
                  <a:lnTo>
                    <a:pt x="272" y="358"/>
                  </a:lnTo>
                  <a:lnTo>
                    <a:pt x="261" y="349"/>
                  </a:lnTo>
                  <a:lnTo>
                    <a:pt x="248" y="339"/>
                  </a:lnTo>
                  <a:lnTo>
                    <a:pt x="234" y="331"/>
                  </a:lnTo>
                  <a:lnTo>
                    <a:pt x="220" y="323"/>
                  </a:lnTo>
                  <a:lnTo>
                    <a:pt x="204" y="315"/>
                  </a:lnTo>
                  <a:lnTo>
                    <a:pt x="172" y="301"/>
                  </a:lnTo>
                  <a:lnTo>
                    <a:pt x="139" y="289"/>
                  </a:lnTo>
                  <a:lnTo>
                    <a:pt x="107" y="280"/>
                  </a:lnTo>
                  <a:lnTo>
                    <a:pt x="76" y="271"/>
                  </a:lnTo>
                  <a:lnTo>
                    <a:pt x="50" y="265"/>
                  </a:lnTo>
                  <a:lnTo>
                    <a:pt x="26" y="261"/>
                  </a:lnTo>
                  <a:lnTo>
                    <a:pt x="9" y="259"/>
                  </a:lnTo>
                  <a:lnTo>
                    <a:pt x="0" y="258"/>
                  </a:lnTo>
                  <a:lnTo>
                    <a:pt x="0" y="236"/>
                  </a:lnTo>
                  <a:lnTo>
                    <a:pt x="0" y="215"/>
                  </a:lnTo>
                  <a:lnTo>
                    <a:pt x="0" y="194"/>
                  </a:lnTo>
                  <a:lnTo>
                    <a:pt x="0" y="173"/>
                  </a:lnTo>
                  <a:lnTo>
                    <a:pt x="0" y="152"/>
                  </a:lnTo>
                  <a:lnTo>
                    <a:pt x="0" y="131"/>
                  </a:lnTo>
                  <a:lnTo>
                    <a:pt x="0" y="110"/>
                  </a:lnTo>
                  <a:lnTo>
                    <a:pt x="0" y="88"/>
                  </a:lnTo>
                  <a:lnTo>
                    <a:pt x="33" y="85"/>
                  </a:lnTo>
                  <a:lnTo>
                    <a:pt x="68" y="82"/>
                  </a:lnTo>
                  <a:lnTo>
                    <a:pt x="102" y="79"/>
                  </a:lnTo>
                  <a:lnTo>
                    <a:pt x="137" y="76"/>
                  </a:lnTo>
                  <a:lnTo>
                    <a:pt x="173" y="74"/>
                  </a:lnTo>
                  <a:lnTo>
                    <a:pt x="209" y="71"/>
                  </a:lnTo>
                  <a:lnTo>
                    <a:pt x="245" y="67"/>
                  </a:lnTo>
                  <a:lnTo>
                    <a:pt x="282" y="64"/>
                  </a:lnTo>
                  <a:lnTo>
                    <a:pt x="284" y="55"/>
                  </a:lnTo>
                  <a:lnTo>
                    <a:pt x="287" y="46"/>
                  </a:lnTo>
                  <a:lnTo>
                    <a:pt x="290" y="38"/>
                  </a:lnTo>
                  <a:lnTo>
                    <a:pt x="294" y="29"/>
                  </a:lnTo>
                  <a:lnTo>
                    <a:pt x="297" y="21"/>
                  </a:lnTo>
                  <a:lnTo>
                    <a:pt x="300" y="13"/>
                  </a:lnTo>
                  <a:lnTo>
                    <a:pt x="303" y="6"/>
                  </a:lnTo>
                  <a:lnTo>
                    <a:pt x="306" y="0"/>
                  </a:lnTo>
                  <a:lnTo>
                    <a:pt x="327" y="18"/>
                  </a:lnTo>
                  <a:lnTo>
                    <a:pt x="349" y="36"/>
                  </a:lnTo>
                  <a:lnTo>
                    <a:pt x="370" y="54"/>
                  </a:lnTo>
                  <a:lnTo>
                    <a:pt x="391" y="73"/>
                  </a:lnTo>
                  <a:lnTo>
                    <a:pt x="412" y="91"/>
                  </a:lnTo>
                  <a:lnTo>
                    <a:pt x="433" y="109"/>
                  </a:lnTo>
                  <a:lnTo>
                    <a:pt x="454" y="127"/>
                  </a:lnTo>
                  <a:lnTo>
                    <a:pt x="475" y="145"/>
                  </a:lnTo>
                  <a:lnTo>
                    <a:pt x="477" y="141"/>
                  </a:lnTo>
                  <a:lnTo>
                    <a:pt x="481" y="139"/>
                  </a:lnTo>
                  <a:lnTo>
                    <a:pt x="485" y="136"/>
                  </a:lnTo>
                  <a:lnTo>
                    <a:pt x="488" y="133"/>
                  </a:lnTo>
                  <a:lnTo>
                    <a:pt x="492" y="130"/>
                  </a:lnTo>
                  <a:lnTo>
                    <a:pt x="496" y="127"/>
                  </a:lnTo>
                  <a:lnTo>
                    <a:pt x="502" y="123"/>
                  </a:lnTo>
                  <a:lnTo>
                    <a:pt x="507" y="120"/>
                  </a:lnTo>
                  <a:lnTo>
                    <a:pt x="524" y="130"/>
                  </a:lnTo>
                  <a:lnTo>
                    <a:pt x="541" y="140"/>
                  </a:lnTo>
                  <a:lnTo>
                    <a:pt x="560" y="152"/>
                  </a:lnTo>
                  <a:lnTo>
                    <a:pt x="579" y="166"/>
                  </a:lnTo>
                  <a:lnTo>
                    <a:pt x="620" y="195"/>
                  </a:lnTo>
                  <a:lnTo>
                    <a:pt x="664" y="230"/>
                  </a:lnTo>
                  <a:lnTo>
                    <a:pt x="710" y="268"/>
                  </a:lnTo>
                  <a:lnTo>
                    <a:pt x="757" y="309"/>
                  </a:lnTo>
                  <a:lnTo>
                    <a:pt x="807" y="354"/>
                  </a:lnTo>
                  <a:lnTo>
                    <a:pt x="856" y="400"/>
                  </a:lnTo>
                  <a:lnTo>
                    <a:pt x="904" y="449"/>
                  </a:lnTo>
                  <a:lnTo>
                    <a:pt x="953" y="499"/>
                  </a:lnTo>
                  <a:lnTo>
                    <a:pt x="999" y="548"/>
                  </a:lnTo>
                  <a:lnTo>
                    <a:pt x="1045" y="599"/>
                  </a:lnTo>
                  <a:lnTo>
                    <a:pt x="1086" y="649"/>
                  </a:lnTo>
                  <a:lnTo>
                    <a:pt x="1125" y="697"/>
                  </a:lnTo>
                  <a:lnTo>
                    <a:pt x="1144" y="722"/>
                  </a:lnTo>
                  <a:lnTo>
                    <a:pt x="1161" y="745"/>
                  </a:lnTo>
                  <a:lnTo>
                    <a:pt x="1177" y="767"/>
                  </a:lnTo>
                  <a:lnTo>
                    <a:pt x="1191" y="789"/>
                  </a:lnTo>
                  <a:lnTo>
                    <a:pt x="1203" y="787"/>
                  </a:lnTo>
                  <a:lnTo>
                    <a:pt x="1212" y="784"/>
                  </a:lnTo>
                  <a:lnTo>
                    <a:pt x="1218" y="781"/>
                  </a:lnTo>
                  <a:lnTo>
                    <a:pt x="1224" y="776"/>
                  </a:lnTo>
                  <a:lnTo>
                    <a:pt x="1231" y="768"/>
                  </a:lnTo>
                  <a:lnTo>
                    <a:pt x="1237" y="758"/>
                  </a:lnTo>
                  <a:lnTo>
                    <a:pt x="1245" y="744"/>
                  </a:lnTo>
                  <a:lnTo>
                    <a:pt x="1256" y="725"/>
                  </a:lnTo>
                  <a:lnTo>
                    <a:pt x="1273" y="746"/>
                  </a:lnTo>
                  <a:lnTo>
                    <a:pt x="1290" y="767"/>
                  </a:lnTo>
                  <a:lnTo>
                    <a:pt x="1297" y="777"/>
                  </a:lnTo>
                  <a:lnTo>
                    <a:pt x="1306" y="786"/>
                  </a:lnTo>
                  <a:lnTo>
                    <a:pt x="1315" y="795"/>
                  </a:lnTo>
                  <a:lnTo>
                    <a:pt x="1326" y="803"/>
                  </a:lnTo>
                  <a:lnTo>
                    <a:pt x="1337" y="810"/>
                  </a:lnTo>
                  <a:lnTo>
                    <a:pt x="1351" y="817"/>
                  </a:lnTo>
                  <a:lnTo>
                    <a:pt x="1366" y="823"/>
                  </a:lnTo>
                  <a:lnTo>
                    <a:pt x="1382" y="828"/>
                  </a:lnTo>
                  <a:lnTo>
                    <a:pt x="1401" y="833"/>
                  </a:lnTo>
                  <a:lnTo>
                    <a:pt x="1423" y="836"/>
                  </a:lnTo>
                  <a:lnTo>
                    <a:pt x="1447" y="837"/>
                  </a:lnTo>
                  <a:lnTo>
                    <a:pt x="1474" y="838"/>
                  </a:lnTo>
                  <a:lnTo>
                    <a:pt x="1475" y="833"/>
                  </a:lnTo>
                  <a:lnTo>
                    <a:pt x="1476" y="827"/>
                  </a:lnTo>
                  <a:lnTo>
                    <a:pt x="1477" y="823"/>
                  </a:lnTo>
                  <a:lnTo>
                    <a:pt x="1479" y="819"/>
                  </a:lnTo>
                  <a:lnTo>
                    <a:pt x="1481" y="816"/>
                  </a:lnTo>
                  <a:lnTo>
                    <a:pt x="1484" y="811"/>
                  </a:lnTo>
                  <a:lnTo>
                    <a:pt x="1487" y="808"/>
                  </a:lnTo>
                  <a:lnTo>
                    <a:pt x="1490" y="806"/>
                  </a:lnTo>
                  <a:lnTo>
                    <a:pt x="1462" y="766"/>
                  </a:lnTo>
                  <a:lnTo>
                    <a:pt x="1433" y="730"/>
                  </a:lnTo>
                  <a:lnTo>
                    <a:pt x="1406" y="696"/>
                  </a:lnTo>
                  <a:lnTo>
                    <a:pt x="1380" y="665"/>
                  </a:lnTo>
                  <a:lnTo>
                    <a:pt x="1329" y="607"/>
                  </a:lnTo>
                  <a:lnTo>
                    <a:pt x="1282" y="555"/>
                  </a:lnTo>
                  <a:lnTo>
                    <a:pt x="1261" y="530"/>
                  </a:lnTo>
                  <a:lnTo>
                    <a:pt x="1241" y="505"/>
                  </a:lnTo>
                  <a:lnTo>
                    <a:pt x="1223" y="481"/>
                  </a:lnTo>
                  <a:lnTo>
                    <a:pt x="1206" y="455"/>
                  </a:lnTo>
                  <a:lnTo>
                    <a:pt x="1199" y="443"/>
                  </a:lnTo>
                  <a:lnTo>
                    <a:pt x="1191" y="430"/>
                  </a:lnTo>
                  <a:lnTo>
                    <a:pt x="1185" y="417"/>
                  </a:lnTo>
                  <a:lnTo>
                    <a:pt x="1179" y="403"/>
                  </a:lnTo>
                  <a:lnTo>
                    <a:pt x="1174" y="390"/>
                  </a:lnTo>
                  <a:lnTo>
                    <a:pt x="1168" y="376"/>
                  </a:lnTo>
                  <a:lnTo>
                    <a:pt x="1164" y="361"/>
                  </a:lnTo>
                  <a:lnTo>
                    <a:pt x="1160" y="346"/>
                  </a:lnTo>
                  <a:lnTo>
                    <a:pt x="1196" y="333"/>
                  </a:lnTo>
                  <a:lnTo>
                    <a:pt x="1231" y="318"/>
                  </a:lnTo>
                  <a:lnTo>
                    <a:pt x="1266" y="302"/>
                  </a:lnTo>
                  <a:lnTo>
                    <a:pt x="1300" y="286"/>
                  </a:lnTo>
                  <a:lnTo>
                    <a:pt x="1334" y="272"/>
                  </a:lnTo>
                  <a:lnTo>
                    <a:pt x="1368" y="261"/>
                  </a:lnTo>
                  <a:lnTo>
                    <a:pt x="1385" y="255"/>
                  </a:lnTo>
                  <a:lnTo>
                    <a:pt x="1402" y="252"/>
                  </a:lnTo>
                  <a:lnTo>
                    <a:pt x="1418" y="250"/>
                  </a:lnTo>
                  <a:lnTo>
                    <a:pt x="1434" y="248"/>
                  </a:lnTo>
                  <a:lnTo>
                    <a:pt x="1451" y="249"/>
                  </a:lnTo>
                  <a:lnTo>
                    <a:pt x="1467" y="250"/>
                  </a:lnTo>
                  <a:lnTo>
                    <a:pt x="1483" y="253"/>
                  </a:lnTo>
                  <a:lnTo>
                    <a:pt x="1500" y="259"/>
                  </a:lnTo>
                  <a:lnTo>
                    <a:pt x="1516" y="266"/>
                  </a:lnTo>
                  <a:lnTo>
                    <a:pt x="1532" y="275"/>
                  </a:lnTo>
                  <a:lnTo>
                    <a:pt x="1549" y="286"/>
                  </a:lnTo>
                  <a:lnTo>
                    <a:pt x="1564" y="300"/>
                  </a:lnTo>
                  <a:lnTo>
                    <a:pt x="1580" y="316"/>
                  </a:lnTo>
                  <a:lnTo>
                    <a:pt x="1596" y="335"/>
                  </a:lnTo>
                  <a:lnTo>
                    <a:pt x="1612" y="356"/>
                  </a:lnTo>
                  <a:lnTo>
                    <a:pt x="1628" y="380"/>
                  </a:lnTo>
                  <a:lnTo>
                    <a:pt x="1644" y="407"/>
                  </a:lnTo>
                  <a:lnTo>
                    <a:pt x="1659" y="437"/>
                  </a:lnTo>
                  <a:lnTo>
                    <a:pt x="1675" y="471"/>
                  </a:lnTo>
                  <a:lnTo>
                    <a:pt x="1691" y="507"/>
                  </a:lnTo>
                  <a:lnTo>
                    <a:pt x="1710" y="514"/>
                  </a:lnTo>
                  <a:lnTo>
                    <a:pt x="1728" y="524"/>
                  </a:lnTo>
                  <a:lnTo>
                    <a:pt x="1746" y="536"/>
                  </a:lnTo>
                  <a:lnTo>
                    <a:pt x="1764" y="548"/>
                  </a:lnTo>
                  <a:lnTo>
                    <a:pt x="1782" y="564"/>
                  </a:lnTo>
                  <a:lnTo>
                    <a:pt x="1799" y="580"/>
                  </a:lnTo>
                  <a:lnTo>
                    <a:pt x="1816" y="598"/>
                  </a:lnTo>
                  <a:lnTo>
                    <a:pt x="1834" y="618"/>
                  </a:lnTo>
                  <a:lnTo>
                    <a:pt x="1851" y="638"/>
                  </a:lnTo>
                  <a:lnTo>
                    <a:pt x="1868" y="659"/>
                  </a:lnTo>
                  <a:lnTo>
                    <a:pt x="1884" y="681"/>
                  </a:lnTo>
                  <a:lnTo>
                    <a:pt x="1901" y="705"/>
                  </a:lnTo>
                  <a:lnTo>
                    <a:pt x="1935" y="753"/>
                  </a:lnTo>
                  <a:lnTo>
                    <a:pt x="1969" y="802"/>
                  </a:lnTo>
                  <a:lnTo>
                    <a:pt x="2005" y="851"/>
                  </a:lnTo>
                  <a:lnTo>
                    <a:pt x="2041" y="898"/>
                  </a:lnTo>
                  <a:lnTo>
                    <a:pt x="2059" y="921"/>
                  </a:lnTo>
                  <a:lnTo>
                    <a:pt x="2078" y="944"/>
                  </a:lnTo>
                  <a:lnTo>
                    <a:pt x="2098" y="966"/>
                  </a:lnTo>
                  <a:lnTo>
                    <a:pt x="2117" y="986"/>
                  </a:lnTo>
                  <a:lnTo>
                    <a:pt x="2138" y="1005"/>
                  </a:lnTo>
                  <a:lnTo>
                    <a:pt x="2158" y="1023"/>
                  </a:lnTo>
                  <a:lnTo>
                    <a:pt x="2179" y="1040"/>
                  </a:lnTo>
                  <a:lnTo>
                    <a:pt x="2201" y="1055"/>
                  </a:lnTo>
                  <a:lnTo>
                    <a:pt x="2224" y="1068"/>
                  </a:lnTo>
                  <a:lnTo>
                    <a:pt x="2247" y="1079"/>
                  </a:lnTo>
                  <a:lnTo>
                    <a:pt x="2271" y="1088"/>
                  </a:lnTo>
                  <a:lnTo>
                    <a:pt x="2295" y="1096"/>
                  </a:lnTo>
                  <a:lnTo>
                    <a:pt x="2302" y="1120"/>
                  </a:lnTo>
                  <a:lnTo>
                    <a:pt x="2308" y="1145"/>
                  </a:lnTo>
                  <a:lnTo>
                    <a:pt x="2314" y="1172"/>
                  </a:lnTo>
                  <a:lnTo>
                    <a:pt x="2321" y="1197"/>
                  </a:lnTo>
                  <a:lnTo>
                    <a:pt x="2328" y="1225"/>
                  </a:lnTo>
                  <a:lnTo>
                    <a:pt x="2335" y="1251"/>
                  </a:lnTo>
                  <a:lnTo>
                    <a:pt x="2343" y="1279"/>
                  </a:lnTo>
                  <a:lnTo>
                    <a:pt x="2352" y="1305"/>
                  </a:lnTo>
                  <a:lnTo>
                    <a:pt x="2369" y="1315"/>
                  </a:lnTo>
                  <a:lnTo>
                    <a:pt x="2386" y="1325"/>
                  </a:lnTo>
                  <a:lnTo>
                    <a:pt x="2403" y="1336"/>
                  </a:lnTo>
                  <a:lnTo>
                    <a:pt x="2420" y="1348"/>
                  </a:lnTo>
                  <a:lnTo>
                    <a:pt x="2438" y="1362"/>
                  </a:lnTo>
                  <a:lnTo>
                    <a:pt x="2455" y="1377"/>
                  </a:lnTo>
                  <a:lnTo>
                    <a:pt x="2472" y="1392"/>
                  </a:lnTo>
                  <a:lnTo>
                    <a:pt x="2489" y="1409"/>
                  </a:lnTo>
                  <a:lnTo>
                    <a:pt x="2507" y="1427"/>
                  </a:lnTo>
                  <a:lnTo>
                    <a:pt x="2524" y="1445"/>
                  </a:lnTo>
                  <a:lnTo>
                    <a:pt x="2540" y="1464"/>
                  </a:lnTo>
                  <a:lnTo>
                    <a:pt x="2557" y="1484"/>
                  </a:lnTo>
                  <a:lnTo>
                    <a:pt x="2592" y="1527"/>
                  </a:lnTo>
                  <a:lnTo>
                    <a:pt x="2627" y="1573"/>
                  </a:lnTo>
                  <a:lnTo>
                    <a:pt x="2661" y="1620"/>
                  </a:lnTo>
                  <a:lnTo>
                    <a:pt x="2696" y="1671"/>
                  </a:lnTo>
                  <a:lnTo>
                    <a:pt x="2731" y="1724"/>
                  </a:lnTo>
                  <a:lnTo>
                    <a:pt x="2765" y="1779"/>
                  </a:lnTo>
                  <a:lnTo>
                    <a:pt x="2835" y="1892"/>
                  </a:lnTo>
                  <a:lnTo>
                    <a:pt x="2905" y="2008"/>
                  </a:lnTo>
                  <a:lnTo>
                    <a:pt x="2262" y="200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5400000">
              <a:off x="2910240" y="5237280"/>
              <a:ext cx="7200" cy="1980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0" y="65"/>
                  </a:moveTo>
                  <a:lnTo>
                    <a:pt x="7" y="56"/>
                  </a:lnTo>
                  <a:lnTo>
                    <a:pt x="15" y="45"/>
                  </a:lnTo>
                  <a:lnTo>
                    <a:pt x="25" y="31"/>
                  </a:lnTo>
                  <a:lnTo>
                    <a:pt x="34" y="18"/>
                  </a:lnTo>
                  <a:lnTo>
                    <a:pt x="39" y="12"/>
                  </a:lnTo>
                  <a:lnTo>
                    <a:pt x="46" y="8"/>
                  </a:lnTo>
                  <a:lnTo>
                    <a:pt x="51" y="4"/>
                  </a:lnTo>
                  <a:lnTo>
                    <a:pt x="57" y="1"/>
                  </a:lnTo>
                  <a:lnTo>
                    <a:pt x="63" y="0"/>
                  </a:lnTo>
                  <a:lnTo>
                    <a:pt x="69" y="0"/>
                  </a:lnTo>
                  <a:lnTo>
                    <a:pt x="74" y="4"/>
                  </a:lnTo>
                  <a:lnTo>
                    <a:pt x="81" y="8"/>
                  </a:lnTo>
                  <a:lnTo>
                    <a:pt x="75" y="14"/>
                  </a:lnTo>
                  <a:lnTo>
                    <a:pt x="69" y="21"/>
                  </a:lnTo>
                  <a:lnTo>
                    <a:pt x="63" y="27"/>
                  </a:lnTo>
                  <a:lnTo>
                    <a:pt x="57" y="33"/>
                  </a:lnTo>
                  <a:lnTo>
                    <a:pt x="52" y="41"/>
                  </a:lnTo>
                  <a:lnTo>
                    <a:pt x="48" y="48"/>
                  </a:lnTo>
                  <a:lnTo>
                    <a:pt x="44" y="55"/>
                  </a:lnTo>
                  <a:lnTo>
                    <a:pt x="40" y="65"/>
                  </a:lnTo>
                  <a:lnTo>
                    <a:pt x="34" y="65"/>
                  </a:lnTo>
                  <a:lnTo>
                    <a:pt x="29" y="65"/>
                  </a:lnTo>
                  <a:lnTo>
                    <a:pt x="22" y="65"/>
                  </a:lnTo>
                  <a:lnTo>
                    <a:pt x="17" y="65"/>
                  </a:lnTo>
                  <a:lnTo>
                    <a:pt x="12" y="65"/>
                  </a:lnTo>
                  <a:lnTo>
                    <a:pt x="8" y="65"/>
                  </a:lnTo>
                  <a:lnTo>
                    <a:pt x="3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5400000">
              <a:off x="3173760" y="5177880"/>
              <a:ext cx="19440" cy="130320"/>
            </a:xfrm>
            <a:custGeom>
              <a:avLst/>
              <a:gdLst/>
              <a:ahLst/>
              <a:rect l="l" t="t" r="r" b="b"/>
              <a:pathLst>
                <a:path w="177" h="347">
                  <a:moveTo>
                    <a:pt x="0" y="347"/>
                  </a:moveTo>
                  <a:lnTo>
                    <a:pt x="1" y="319"/>
                  </a:lnTo>
                  <a:lnTo>
                    <a:pt x="4" y="293"/>
                  </a:lnTo>
                  <a:lnTo>
                    <a:pt x="8" y="266"/>
                  </a:lnTo>
                  <a:lnTo>
                    <a:pt x="14" y="241"/>
                  </a:lnTo>
                  <a:lnTo>
                    <a:pt x="23" y="217"/>
                  </a:lnTo>
                  <a:lnTo>
                    <a:pt x="31" y="192"/>
                  </a:lnTo>
                  <a:lnTo>
                    <a:pt x="42" y="168"/>
                  </a:lnTo>
                  <a:lnTo>
                    <a:pt x="53" y="146"/>
                  </a:lnTo>
                  <a:lnTo>
                    <a:pt x="65" y="124"/>
                  </a:lnTo>
                  <a:lnTo>
                    <a:pt x="78" y="102"/>
                  </a:lnTo>
                  <a:lnTo>
                    <a:pt x="91" y="82"/>
                  </a:lnTo>
                  <a:lnTo>
                    <a:pt x="105" y="64"/>
                  </a:lnTo>
                  <a:lnTo>
                    <a:pt x="119" y="46"/>
                  </a:lnTo>
                  <a:lnTo>
                    <a:pt x="133" y="30"/>
                  </a:lnTo>
                  <a:lnTo>
                    <a:pt x="147" y="14"/>
                  </a:lnTo>
                  <a:lnTo>
                    <a:pt x="161" y="0"/>
                  </a:lnTo>
                  <a:lnTo>
                    <a:pt x="161" y="2"/>
                  </a:lnTo>
                  <a:lnTo>
                    <a:pt x="162" y="5"/>
                  </a:lnTo>
                  <a:lnTo>
                    <a:pt x="163" y="8"/>
                  </a:lnTo>
                  <a:lnTo>
                    <a:pt x="165" y="12"/>
                  </a:lnTo>
                  <a:lnTo>
                    <a:pt x="169" y="15"/>
                  </a:lnTo>
                  <a:lnTo>
                    <a:pt x="171" y="18"/>
                  </a:lnTo>
                  <a:lnTo>
                    <a:pt x="174" y="21"/>
                  </a:lnTo>
                  <a:lnTo>
                    <a:pt x="177" y="23"/>
                  </a:lnTo>
                  <a:lnTo>
                    <a:pt x="170" y="39"/>
                  </a:lnTo>
                  <a:lnTo>
                    <a:pt x="161" y="56"/>
                  </a:lnTo>
                  <a:lnTo>
                    <a:pt x="154" y="75"/>
                  </a:lnTo>
                  <a:lnTo>
                    <a:pt x="145" y="96"/>
                  </a:lnTo>
                  <a:lnTo>
                    <a:pt x="128" y="140"/>
                  </a:lnTo>
                  <a:lnTo>
                    <a:pt x="109" y="188"/>
                  </a:lnTo>
                  <a:lnTo>
                    <a:pt x="99" y="211"/>
                  </a:lnTo>
                  <a:lnTo>
                    <a:pt x="87" y="235"/>
                  </a:lnTo>
                  <a:lnTo>
                    <a:pt x="76" y="258"/>
                  </a:lnTo>
                  <a:lnTo>
                    <a:pt x="63" y="279"/>
                  </a:lnTo>
                  <a:lnTo>
                    <a:pt x="48" y="299"/>
                  </a:lnTo>
                  <a:lnTo>
                    <a:pt x="33" y="317"/>
                  </a:lnTo>
                  <a:lnTo>
                    <a:pt x="25" y="325"/>
                  </a:lnTo>
                  <a:lnTo>
                    <a:pt x="18" y="333"/>
                  </a:lnTo>
                  <a:lnTo>
                    <a:pt x="8" y="340"/>
                  </a:lnTo>
                  <a:lnTo>
                    <a:pt x="0" y="34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5400000">
              <a:off x="3442680" y="5253840"/>
              <a:ext cx="8640" cy="51840"/>
            </a:xfrm>
            <a:custGeom>
              <a:avLst/>
              <a:gdLst/>
              <a:ahLst/>
              <a:rect l="l" t="t" r="r" b="b"/>
              <a:pathLst>
                <a:path w="89" h="137">
                  <a:moveTo>
                    <a:pt x="0" y="137"/>
                  </a:moveTo>
                  <a:lnTo>
                    <a:pt x="0" y="119"/>
                  </a:lnTo>
                  <a:lnTo>
                    <a:pt x="1" y="103"/>
                  </a:lnTo>
                  <a:lnTo>
                    <a:pt x="3" y="91"/>
                  </a:lnTo>
                  <a:lnTo>
                    <a:pt x="5" y="79"/>
                  </a:lnTo>
                  <a:lnTo>
                    <a:pt x="8" y="71"/>
                  </a:lnTo>
                  <a:lnTo>
                    <a:pt x="11" y="62"/>
                  </a:lnTo>
                  <a:lnTo>
                    <a:pt x="15" y="56"/>
                  </a:lnTo>
                  <a:lnTo>
                    <a:pt x="19" y="50"/>
                  </a:lnTo>
                  <a:lnTo>
                    <a:pt x="31" y="41"/>
                  </a:lnTo>
                  <a:lnTo>
                    <a:pt x="45" y="30"/>
                  </a:lnTo>
                  <a:lnTo>
                    <a:pt x="61" y="18"/>
                  </a:lnTo>
                  <a:lnTo>
                    <a:pt x="80" y="0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2" y="9"/>
                  </a:lnTo>
                  <a:lnTo>
                    <a:pt x="82" y="13"/>
                  </a:lnTo>
                  <a:lnTo>
                    <a:pt x="83" y="17"/>
                  </a:lnTo>
                  <a:lnTo>
                    <a:pt x="85" y="22"/>
                  </a:lnTo>
                  <a:lnTo>
                    <a:pt x="86" y="26"/>
                  </a:lnTo>
                  <a:lnTo>
                    <a:pt x="89" y="32"/>
                  </a:lnTo>
                  <a:lnTo>
                    <a:pt x="77" y="44"/>
                  </a:lnTo>
                  <a:lnTo>
                    <a:pt x="65" y="57"/>
                  </a:lnTo>
                  <a:lnTo>
                    <a:pt x="53" y="69"/>
                  </a:lnTo>
                  <a:lnTo>
                    <a:pt x="41" y="81"/>
                  </a:lnTo>
                  <a:lnTo>
                    <a:pt x="31" y="95"/>
                  </a:lnTo>
                  <a:lnTo>
                    <a:pt x="20" y="109"/>
                  </a:lnTo>
                  <a:lnTo>
                    <a:pt x="10" y="122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5400000">
              <a:off x="3568680" y="5273640"/>
              <a:ext cx="13320" cy="46080"/>
            </a:xfrm>
            <a:custGeom>
              <a:avLst/>
              <a:gdLst/>
              <a:ahLst/>
              <a:rect l="l" t="t" r="r" b="b"/>
              <a:pathLst>
                <a:path w="121" h="121">
                  <a:moveTo>
                    <a:pt x="0" y="121"/>
                  </a:moveTo>
                  <a:lnTo>
                    <a:pt x="0" y="113"/>
                  </a:lnTo>
                  <a:lnTo>
                    <a:pt x="0" y="103"/>
                  </a:lnTo>
                  <a:lnTo>
                    <a:pt x="0" y="95"/>
                  </a:lnTo>
                  <a:lnTo>
                    <a:pt x="0" y="86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3"/>
                  </a:lnTo>
                  <a:lnTo>
                    <a:pt x="0" y="56"/>
                  </a:lnTo>
                  <a:lnTo>
                    <a:pt x="16" y="48"/>
                  </a:lnTo>
                  <a:lnTo>
                    <a:pt x="31" y="41"/>
                  </a:lnTo>
                  <a:lnTo>
                    <a:pt x="45" y="32"/>
                  </a:lnTo>
                  <a:lnTo>
                    <a:pt x="61" y="26"/>
                  </a:lnTo>
                  <a:lnTo>
                    <a:pt x="76" y="19"/>
                  </a:lnTo>
                  <a:lnTo>
                    <a:pt x="91" y="13"/>
                  </a:lnTo>
                  <a:lnTo>
                    <a:pt x="107" y="7"/>
                  </a:lnTo>
                  <a:lnTo>
                    <a:pt x="121" y="0"/>
                  </a:lnTo>
                  <a:lnTo>
                    <a:pt x="117" y="10"/>
                  </a:lnTo>
                  <a:lnTo>
                    <a:pt x="112" y="19"/>
                  </a:lnTo>
                  <a:lnTo>
                    <a:pt x="104" y="30"/>
                  </a:lnTo>
                  <a:lnTo>
                    <a:pt x="95" y="40"/>
                  </a:lnTo>
                  <a:lnTo>
                    <a:pt x="76" y="60"/>
                  </a:lnTo>
                  <a:lnTo>
                    <a:pt x="55" y="79"/>
                  </a:lnTo>
                  <a:lnTo>
                    <a:pt x="35" y="96"/>
                  </a:lnTo>
                  <a:lnTo>
                    <a:pt x="17" y="109"/>
                  </a:lnTo>
                  <a:lnTo>
                    <a:pt x="5" y="118"/>
                  </a:lnTo>
                  <a:lnTo>
                    <a:pt x="0" y="12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5400000">
              <a:off x="3990240" y="5297040"/>
              <a:ext cx="22320" cy="146880"/>
            </a:xfrm>
            <a:custGeom>
              <a:avLst/>
              <a:gdLst/>
              <a:ahLst/>
              <a:rect l="l" t="t" r="r" b="b"/>
              <a:pathLst>
                <a:path w="201" h="396">
                  <a:moveTo>
                    <a:pt x="0" y="380"/>
                  </a:moveTo>
                  <a:lnTo>
                    <a:pt x="18" y="338"/>
                  </a:lnTo>
                  <a:lnTo>
                    <a:pt x="38" y="294"/>
                  </a:lnTo>
                  <a:lnTo>
                    <a:pt x="57" y="251"/>
                  </a:lnTo>
                  <a:lnTo>
                    <a:pt x="76" y="209"/>
                  </a:lnTo>
                  <a:lnTo>
                    <a:pt x="93" y="166"/>
                  </a:lnTo>
                  <a:lnTo>
                    <a:pt x="108" y="126"/>
                  </a:lnTo>
                  <a:lnTo>
                    <a:pt x="114" y="106"/>
                  </a:lnTo>
                  <a:lnTo>
                    <a:pt x="121" y="86"/>
                  </a:lnTo>
                  <a:lnTo>
                    <a:pt x="125" y="68"/>
                  </a:lnTo>
                  <a:lnTo>
                    <a:pt x="129" y="49"/>
                  </a:lnTo>
                  <a:lnTo>
                    <a:pt x="138" y="43"/>
                  </a:lnTo>
                  <a:lnTo>
                    <a:pt x="147" y="37"/>
                  </a:lnTo>
                  <a:lnTo>
                    <a:pt x="156" y="31"/>
                  </a:lnTo>
                  <a:lnTo>
                    <a:pt x="165" y="25"/>
                  </a:lnTo>
                  <a:lnTo>
                    <a:pt x="174" y="19"/>
                  </a:lnTo>
                  <a:lnTo>
                    <a:pt x="183" y="13"/>
                  </a:lnTo>
                  <a:lnTo>
                    <a:pt x="193" y="7"/>
                  </a:lnTo>
                  <a:lnTo>
                    <a:pt x="201" y="0"/>
                  </a:lnTo>
                  <a:lnTo>
                    <a:pt x="201" y="24"/>
                  </a:lnTo>
                  <a:lnTo>
                    <a:pt x="199" y="47"/>
                  </a:lnTo>
                  <a:lnTo>
                    <a:pt x="196" y="70"/>
                  </a:lnTo>
                  <a:lnTo>
                    <a:pt x="193" y="93"/>
                  </a:lnTo>
                  <a:lnTo>
                    <a:pt x="187" y="117"/>
                  </a:lnTo>
                  <a:lnTo>
                    <a:pt x="181" y="141"/>
                  </a:lnTo>
                  <a:lnTo>
                    <a:pt x="174" y="165"/>
                  </a:lnTo>
                  <a:lnTo>
                    <a:pt x="165" y="190"/>
                  </a:lnTo>
                  <a:lnTo>
                    <a:pt x="156" y="214"/>
                  </a:lnTo>
                  <a:lnTo>
                    <a:pt x="145" y="239"/>
                  </a:lnTo>
                  <a:lnTo>
                    <a:pt x="132" y="265"/>
                  </a:lnTo>
                  <a:lnTo>
                    <a:pt x="120" y="290"/>
                  </a:lnTo>
                  <a:lnTo>
                    <a:pt x="106" y="315"/>
                  </a:lnTo>
                  <a:lnTo>
                    <a:pt x="90" y="342"/>
                  </a:lnTo>
                  <a:lnTo>
                    <a:pt x="73" y="369"/>
                  </a:lnTo>
                  <a:lnTo>
                    <a:pt x="56" y="396"/>
                  </a:lnTo>
                  <a:lnTo>
                    <a:pt x="48" y="392"/>
                  </a:lnTo>
                  <a:lnTo>
                    <a:pt x="39" y="390"/>
                  </a:lnTo>
                  <a:lnTo>
                    <a:pt x="32" y="387"/>
                  </a:lnTo>
                  <a:lnTo>
                    <a:pt x="25" y="385"/>
                  </a:lnTo>
                  <a:lnTo>
                    <a:pt x="18" y="383"/>
                  </a:lnTo>
                  <a:lnTo>
                    <a:pt x="12" y="381"/>
                  </a:lnTo>
                  <a:lnTo>
                    <a:pt x="6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rot="5400000">
              <a:off x="4172760" y="5303880"/>
              <a:ext cx="17640" cy="172800"/>
            </a:xfrm>
            <a:custGeom>
              <a:avLst/>
              <a:gdLst/>
              <a:ahLst/>
              <a:rect l="l" t="t" r="r" b="b"/>
              <a:pathLst>
                <a:path w="177" h="459">
                  <a:moveTo>
                    <a:pt x="0" y="459"/>
                  </a:moveTo>
                  <a:lnTo>
                    <a:pt x="15" y="402"/>
                  </a:lnTo>
                  <a:lnTo>
                    <a:pt x="34" y="338"/>
                  </a:lnTo>
                  <a:lnTo>
                    <a:pt x="56" y="269"/>
                  </a:lnTo>
                  <a:lnTo>
                    <a:pt x="80" y="199"/>
                  </a:lnTo>
                  <a:lnTo>
                    <a:pt x="92" y="165"/>
                  </a:lnTo>
                  <a:lnTo>
                    <a:pt x="105" y="134"/>
                  </a:lnTo>
                  <a:lnTo>
                    <a:pt x="118" y="104"/>
                  </a:lnTo>
                  <a:lnTo>
                    <a:pt x="131" y="77"/>
                  </a:lnTo>
                  <a:lnTo>
                    <a:pt x="143" y="51"/>
                  </a:lnTo>
                  <a:lnTo>
                    <a:pt x="155" y="30"/>
                  </a:lnTo>
                  <a:lnTo>
                    <a:pt x="161" y="21"/>
                  </a:lnTo>
                  <a:lnTo>
                    <a:pt x="167" y="13"/>
                  </a:lnTo>
                  <a:lnTo>
                    <a:pt x="172" y="6"/>
                  </a:lnTo>
                  <a:lnTo>
                    <a:pt x="177" y="0"/>
                  </a:lnTo>
                  <a:lnTo>
                    <a:pt x="177" y="17"/>
                  </a:lnTo>
                  <a:lnTo>
                    <a:pt x="175" y="37"/>
                  </a:lnTo>
                  <a:lnTo>
                    <a:pt x="173" y="58"/>
                  </a:lnTo>
                  <a:lnTo>
                    <a:pt x="171" y="80"/>
                  </a:lnTo>
                  <a:lnTo>
                    <a:pt x="163" y="126"/>
                  </a:lnTo>
                  <a:lnTo>
                    <a:pt x="153" y="177"/>
                  </a:lnTo>
                  <a:lnTo>
                    <a:pt x="142" y="229"/>
                  </a:lnTo>
                  <a:lnTo>
                    <a:pt x="130" y="281"/>
                  </a:lnTo>
                  <a:lnTo>
                    <a:pt x="117" y="331"/>
                  </a:lnTo>
                  <a:lnTo>
                    <a:pt x="105" y="379"/>
                  </a:lnTo>
                  <a:lnTo>
                    <a:pt x="90" y="387"/>
                  </a:lnTo>
                  <a:lnTo>
                    <a:pt x="76" y="397"/>
                  </a:lnTo>
                  <a:lnTo>
                    <a:pt x="62" y="406"/>
                  </a:lnTo>
                  <a:lnTo>
                    <a:pt x="50" y="416"/>
                  </a:lnTo>
                  <a:lnTo>
                    <a:pt x="37" y="427"/>
                  </a:lnTo>
                  <a:lnTo>
                    <a:pt x="24" y="436"/>
                  </a:lnTo>
                  <a:lnTo>
                    <a:pt x="13" y="448"/>
                  </a:lnTo>
                  <a:lnTo>
                    <a:pt x="0" y="45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5400000">
              <a:off x="4311360" y="5369400"/>
              <a:ext cx="22320" cy="120600"/>
            </a:xfrm>
            <a:custGeom>
              <a:avLst/>
              <a:gdLst/>
              <a:ahLst/>
              <a:rect l="l" t="t" r="r" b="b"/>
              <a:pathLst>
                <a:path w="202" h="325">
                  <a:moveTo>
                    <a:pt x="0" y="325"/>
                  </a:moveTo>
                  <a:lnTo>
                    <a:pt x="5" y="304"/>
                  </a:lnTo>
                  <a:lnTo>
                    <a:pt x="10" y="280"/>
                  </a:lnTo>
                  <a:lnTo>
                    <a:pt x="17" y="252"/>
                  </a:lnTo>
                  <a:lnTo>
                    <a:pt x="26" y="223"/>
                  </a:lnTo>
                  <a:lnTo>
                    <a:pt x="35" y="191"/>
                  </a:lnTo>
                  <a:lnTo>
                    <a:pt x="46" y="161"/>
                  </a:lnTo>
                  <a:lnTo>
                    <a:pt x="58" y="129"/>
                  </a:lnTo>
                  <a:lnTo>
                    <a:pt x="71" y="99"/>
                  </a:lnTo>
                  <a:lnTo>
                    <a:pt x="79" y="85"/>
                  </a:lnTo>
                  <a:lnTo>
                    <a:pt x="85" y="72"/>
                  </a:lnTo>
                  <a:lnTo>
                    <a:pt x="92" y="59"/>
                  </a:lnTo>
                  <a:lnTo>
                    <a:pt x="100" y="47"/>
                  </a:lnTo>
                  <a:lnTo>
                    <a:pt x="108" y="37"/>
                  </a:lnTo>
                  <a:lnTo>
                    <a:pt x="115" y="27"/>
                  </a:lnTo>
                  <a:lnTo>
                    <a:pt x="124" y="19"/>
                  </a:lnTo>
                  <a:lnTo>
                    <a:pt x="132" y="13"/>
                  </a:lnTo>
                  <a:lnTo>
                    <a:pt x="141" y="6"/>
                  </a:lnTo>
                  <a:lnTo>
                    <a:pt x="149" y="3"/>
                  </a:lnTo>
                  <a:lnTo>
                    <a:pt x="158" y="1"/>
                  </a:lnTo>
                  <a:lnTo>
                    <a:pt x="166" y="0"/>
                  </a:lnTo>
                  <a:lnTo>
                    <a:pt x="175" y="2"/>
                  </a:lnTo>
                  <a:lnTo>
                    <a:pt x="184" y="5"/>
                  </a:lnTo>
                  <a:lnTo>
                    <a:pt x="193" y="10"/>
                  </a:lnTo>
                  <a:lnTo>
                    <a:pt x="202" y="19"/>
                  </a:lnTo>
                  <a:lnTo>
                    <a:pt x="180" y="48"/>
                  </a:lnTo>
                  <a:lnTo>
                    <a:pt x="162" y="74"/>
                  </a:lnTo>
                  <a:lnTo>
                    <a:pt x="146" y="97"/>
                  </a:lnTo>
                  <a:lnTo>
                    <a:pt x="132" y="118"/>
                  </a:lnTo>
                  <a:lnTo>
                    <a:pt x="120" y="142"/>
                  </a:lnTo>
                  <a:lnTo>
                    <a:pt x="108" y="167"/>
                  </a:lnTo>
                  <a:lnTo>
                    <a:pt x="95" y="199"/>
                  </a:lnTo>
                  <a:lnTo>
                    <a:pt x="82" y="237"/>
                  </a:lnTo>
                  <a:lnTo>
                    <a:pt x="72" y="237"/>
                  </a:lnTo>
                  <a:lnTo>
                    <a:pt x="65" y="238"/>
                  </a:lnTo>
                  <a:lnTo>
                    <a:pt x="57" y="239"/>
                  </a:lnTo>
                  <a:lnTo>
                    <a:pt x="52" y="240"/>
                  </a:lnTo>
                  <a:lnTo>
                    <a:pt x="46" y="242"/>
                  </a:lnTo>
                  <a:lnTo>
                    <a:pt x="42" y="244"/>
                  </a:lnTo>
                  <a:lnTo>
                    <a:pt x="37" y="247"/>
                  </a:lnTo>
                  <a:lnTo>
                    <a:pt x="33" y="250"/>
                  </a:lnTo>
                  <a:lnTo>
                    <a:pt x="28" y="257"/>
                  </a:lnTo>
                  <a:lnTo>
                    <a:pt x="24" y="264"/>
                  </a:lnTo>
                  <a:lnTo>
                    <a:pt x="21" y="273"/>
                  </a:lnTo>
                  <a:lnTo>
                    <a:pt x="19" y="281"/>
                  </a:lnTo>
                  <a:lnTo>
                    <a:pt x="18" y="297"/>
                  </a:lnTo>
                  <a:lnTo>
                    <a:pt x="16" y="311"/>
                  </a:lnTo>
                  <a:lnTo>
                    <a:pt x="15" y="317"/>
                  </a:lnTo>
                  <a:lnTo>
                    <a:pt x="12" y="321"/>
                  </a:lnTo>
                  <a:lnTo>
                    <a:pt x="10" y="322"/>
                  </a:lnTo>
                  <a:lnTo>
                    <a:pt x="7" y="324"/>
                  </a:lnTo>
                  <a:lnTo>
                    <a:pt x="5" y="324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5400000">
              <a:off x="4431600" y="5383080"/>
              <a:ext cx="16560" cy="73440"/>
            </a:xfrm>
            <a:custGeom>
              <a:avLst/>
              <a:gdLst/>
              <a:ahLst/>
              <a:rect l="l" t="t" r="r" b="b"/>
              <a:pathLst>
                <a:path w="153" h="201">
                  <a:moveTo>
                    <a:pt x="0" y="201"/>
                  </a:moveTo>
                  <a:lnTo>
                    <a:pt x="7" y="191"/>
                  </a:lnTo>
                  <a:lnTo>
                    <a:pt x="14" y="179"/>
                  </a:lnTo>
                  <a:lnTo>
                    <a:pt x="20" y="168"/>
                  </a:lnTo>
                  <a:lnTo>
                    <a:pt x="26" y="156"/>
                  </a:lnTo>
                  <a:lnTo>
                    <a:pt x="36" y="133"/>
                  </a:lnTo>
                  <a:lnTo>
                    <a:pt x="44" y="108"/>
                  </a:lnTo>
                  <a:lnTo>
                    <a:pt x="51" y="84"/>
                  </a:lnTo>
                  <a:lnTo>
                    <a:pt x="57" y="61"/>
                  </a:lnTo>
                  <a:lnTo>
                    <a:pt x="61" y="38"/>
                  </a:lnTo>
                  <a:lnTo>
                    <a:pt x="65" y="15"/>
                  </a:lnTo>
                  <a:lnTo>
                    <a:pt x="74" y="13"/>
                  </a:lnTo>
                  <a:lnTo>
                    <a:pt x="85" y="10"/>
                  </a:lnTo>
                  <a:lnTo>
                    <a:pt x="95" y="7"/>
                  </a:lnTo>
                  <a:lnTo>
                    <a:pt x="106" y="5"/>
                  </a:lnTo>
                  <a:lnTo>
                    <a:pt x="117" y="3"/>
                  </a:lnTo>
                  <a:lnTo>
                    <a:pt x="129" y="1"/>
                  </a:lnTo>
                  <a:lnTo>
                    <a:pt x="142" y="0"/>
                  </a:lnTo>
                  <a:lnTo>
                    <a:pt x="153" y="0"/>
                  </a:lnTo>
                  <a:lnTo>
                    <a:pt x="132" y="24"/>
                  </a:lnTo>
                  <a:lnTo>
                    <a:pt x="112" y="48"/>
                  </a:lnTo>
                  <a:lnTo>
                    <a:pt x="93" y="72"/>
                  </a:lnTo>
                  <a:lnTo>
                    <a:pt x="74" y="98"/>
                  </a:lnTo>
                  <a:lnTo>
                    <a:pt x="55" y="122"/>
                  </a:lnTo>
                  <a:lnTo>
                    <a:pt x="37" y="149"/>
                  </a:lnTo>
                  <a:lnTo>
                    <a:pt x="18" y="174"/>
                  </a:lnTo>
                  <a:lnTo>
                    <a:pt x="0" y="201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5400000">
              <a:off x="4597200" y="5307840"/>
              <a:ext cx="27000" cy="308160"/>
            </a:xfrm>
            <a:custGeom>
              <a:avLst/>
              <a:gdLst/>
              <a:ahLst/>
              <a:rect l="l" t="t" r="r" b="b"/>
              <a:pathLst>
                <a:path w="258" h="814">
                  <a:moveTo>
                    <a:pt x="56" y="814"/>
                  </a:moveTo>
                  <a:lnTo>
                    <a:pt x="46" y="786"/>
                  </a:lnTo>
                  <a:lnTo>
                    <a:pt x="37" y="759"/>
                  </a:lnTo>
                  <a:lnTo>
                    <a:pt x="30" y="733"/>
                  </a:lnTo>
                  <a:lnTo>
                    <a:pt x="22" y="707"/>
                  </a:lnTo>
                  <a:lnTo>
                    <a:pt x="17" y="683"/>
                  </a:lnTo>
                  <a:lnTo>
                    <a:pt x="12" y="660"/>
                  </a:lnTo>
                  <a:lnTo>
                    <a:pt x="7" y="638"/>
                  </a:lnTo>
                  <a:lnTo>
                    <a:pt x="4" y="615"/>
                  </a:lnTo>
                  <a:lnTo>
                    <a:pt x="2" y="594"/>
                  </a:lnTo>
                  <a:lnTo>
                    <a:pt x="1" y="574"/>
                  </a:lnTo>
                  <a:lnTo>
                    <a:pt x="0" y="554"/>
                  </a:lnTo>
                  <a:lnTo>
                    <a:pt x="0" y="534"/>
                  </a:lnTo>
                  <a:lnTo>
                    <a:pt x="1" y="515"/>
                  </a:lnTo>
                  <a:lnTo>
                    <a:pt x="3" y="496"/>
                  </a:lnTo>
                  <a:lnTo>
                    <a:pt x="5" y="478"/>
                  </a:lnTo>
                  <a:lnTo>
                    <a:pt x="7" y="459"/>
                  </a:lnTo>
                  <a:lnTo>
                    <a:pt x="12" y="458"/>
                  </a:lnTo>
                  <a:lnTo>
                    <a:pt x="15" y="454"/>
                  </a:lnTo>
                  <a:lnTo>
                    <a:pt x="18" y="448"/>
                  </a:lnTo>
                  <a:lnTo>
                    <a:pt x="19" y="440"/>
                  </a:lnTo>
                  <a:lnTo>
                    <a:pt x="22" y="417"/>
                  </a:lnTo>
                  <a:lnTo>
                    <a:pt x="23" y="387"/>
                  </a:lnTo>
                  <a:lnTo>
                    <a:pt x="23" y="353"/>
                  </a:lnTo>
                  <a:lnTo>
                    <a:pt x="25" y="314"/>
                  </a:lnTo>
                  <a:lnTo>
                    <a:pt x="26" y="293"/>
                  </a:lnTo>
                  <a:lnTo>
                    <a:pt x="27" y="273"/>
                  </a:lnTo>
                  <a:lnTo>
                    <a:pt x="30" y="251"/>
                  </a:lnTo>
                  <a:lnTo>
                    <a:pt x="33" y="230"/>
                  </a:lnTo>
                  <a:lnTo>
                    <a:pt x="37" y="208"/>
                  </a:lnTo>
                  <a:lnTo>
                    <a:pt x="41" y="186"/>
                  </a:lnTo>
                  <a:lnTo>
                    <a:pt x="46" y="166"/>
                  </a:lnTo>
                  <a:lnTo>
                    <a:pt x="53" y="145"/>
                  </a:lnTo>
                  <a:lnTo>
                    <a:pt x="61" y="125"/>
                  </a:lnTo>
                  <a:lnTo>
                    <a:pt x="70" y="106"/>
                  </a:lnTo>
                  <a:lnTo>
                    <a:pt x="80" y="88"/>
                  </a:lnTo>
                  <a:lnTo>
                    <a:pt x="93" y="72"/>
                  </a:lnTo>
                  <a:lnTo>
                    <a:pt x="107" y="56"/>
                  </a:lnTo>
                  <a:lnTo>
                    <a:pt x="121" y="43"/>
                  </a:lnTo>
                  <a:lnTo>
                    <a:pt x="139" y="30"/>
                  </a:lnTo>
                  <a:lnTo>
                    <a:pt x="158" y="19"/>
                  </a:lnTo>
                  <a:lnTo>
                    <a:pt x="180" y="11"/>
                  </a:lnTo>
                  <a:lnTo>
                    <a:pt x="204" y="4"/>
                  </a:lnTo>
                  <a:lnTo>
                    <a:pt x="229" y="1"/>
                  </a:lnTo>
                  <a:lnTo>
                    <a:pt x="258" y="0"/>
                  </a:lnTo>
                  <a:lnTo>
                    <a:pt x="254" y="48"/>
                  </a:lnTo>
                  <a:lnTo>
                    <a:pt x="248" y="96"/>
                  </a:lnTo>
                  <a:lnTo>
                    <a:pt x="242" y="146"/>
                  </a:lnTo>
                  <a:lnTo>
                    <a:pt x="233" y="195"/>
                  </a:lnTo>
                  <a:lnTo>
                    <a:pt x="215" y="292"/>
                  </a:lnTo>
                  <a:lnTo>
                    <a:pt x="196" y="390"/>
                  </a:lnTo>
                  <a:lnTo>
                    <a:pt x="175" y="488"/>
                  </a:lnTo>
                  <a:lnTo>
                    <a:pt x="156" y="584"/>
                  </a:lnTo>
                  <a:lnTo>
                    <a:pt x="148" y="631"/>
                  </a:lnTo>
                  <a:lnTo>
                    <a:pt x="140" y="679"/>
                  </a:lnTo>
                  <a:lnTo>
                    <a:pt x="134" y="726"/>
                  </a:lnTo>
                  <a:lnTo>
                    <a:pt x="129" y="774"/>
                  </a:lnTo>
                  <a:lnTo>
                    <a:pt x="119" y="777"/>
                  </a:lnTo>
                  <a:lnTo>
                    <a:pt x="110" y="781"/>
                  </a:lnTo>
                  <a:lnTo>
                    <a:pt x="101" y="786"/>
                  </a:lnTo>
                  <a:lnTo>
                    <a:pt x="92" y="791"/>
                  </a:lnTo>
                  <a:lnTo>
                    <a:pt x="83" y="796"/>
                  </a:lnTo>
                  <a:lnTo>
                    <a:pt x="74" y="803"/>
                  </a:lnTo>
                  <a:lnTo>
                    <a:pt x="65" y="808"/>
                  </a:lnTo>
                  <a:lnTo>
                    <a:pt x="56" y="81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5400000">
              <a:off x="6813360" y="5095080"/>
              <a:ext cx="30960" cy="543960"/>
            </a:xfrm>
            <a:custGeom>
              <a:avLst/>
              <a:gdLst/>
              <a:ahLst/>
              <a:rect l="l" t="t" r="r" b="b"/>
              <a:pathLst>
                <a:path w="300" h="1452">
                  <a:moveTo>
                    <a:pt x="269" y="1452"/>
                  </a:moveTo>
                  <a:lnTo>
                    <a:pt x="265" y="1434"/>
                  </a:lnTo>
                  <a:lnTo>
                    <a:pt x="263" y="1417"/>
                  </a:lnTo>
                  <a:lnTo>
                    <a:pt x="262" y="1400"/>
                  </a:lnTo>
                  <a:lnTo>
                    <a:pt x="261" y="1384"/>
                  </a:lnTo>
                  <a:lnTo>
                    <a:pt x="260" y="1368"/>
                  </a:lnTo>
                  <a:lnTo>
                    <a:pt x="260" y="1352"/>
                  </a:lnTo>
                  <a:lnTo>
                    <a:pt x="260" y="1338"/>
                  </a:lnTo>
                  <a:lnTo>
                    <a:pt x="260" y="1323"/>
                  </a:lnTo>
                  <a:lnTo>
                    <a:pt x="251" y="1317"/>
                  </a:lnTo>
                  <a:lnTo>
                    <a:pt x="242" y="1313"/>
                  </a:lnTo>
                  <a:lnTo>
                    <a:pt x="235" y="1308"/>
                  </a:lnTo>
                  <a:lnTo>
                    <a:pt x="228" y="1303"/>
                  </a:lnTo>
                  <a:lnTo>
                    <a:pt x="222" y="1297"/>
                  </a:lnTo>
                  <a:lnTo>
                    <a:pt x="218" y="1291"/>
                  </a:lnTo>
                  <a:lnTo>
                    <a:pt x="214" y="1286"/>
                  </a:lnTo>
                  <a:lnTo>
                    <a:pt x="209" y="1281"/>
                  </a:lnTo>
                  <a:lnTo>
                    <a:pt x="206" y="1274"/>
                  </a:lnTo>
                  <a:lnTo>
                    <a:pt x="204" y="1268"/>
                  </a:lnTo>
                  <a:lnTo>
                    <a:pt x="202" y="1261"/>
                  </a:lnTo>
                  <a:lnTo>
                    <a:pt x="201" y="1256"/>
                  </a:lnTo>
                  <a:lnTo>
                    <a:pt x="200" y="1244"/>
                  </a:lnTo>
                  <a:lnTo>
                    <a:pt x="201" y="1231"/>
                  </a:lnTo>
                  <a:lnTo>
                    <a:pt x="202" y="1218"/>
                  </a:lnTo>
                  <a:lnTo>
                    <a:pt x="205" y="1207"/>
                  </a:lnTo>
                  <a:lnTo>
                    <a:pt x="208" y="1194"/>
                  </a:lnTo>
                  <a:lnTo>
                    <a:pt x="212" y="1183"/>
                  </a:lnTo>
                  <a:lnTo>
                    <a:pt x="215" y="1173"/>
                  </a:lnTo>
                  <a:lnTo>
                    <a:pt x="217" y="1162"/>
                  </a:lnTo>
                  <a:lnTo>
                    <a:pt x="219" y="1154"/>
                  </a:lnTo>
                  <a:lnTo>
                    <a:pt x="220" y="1145"/>
                  </a:lnTo>
                  <a:lnTo>
                    <a:pt x="208" y="1133"/>
                  </a:lnTo>
                  <a:lnTo>
                    <a:pt x="198" y="1119"/>
                  </a:lnTo>
                  <a:lnTo>
                    <a:pt x="187" y="1102"/>
                  </a:lnTo>
                  <a:lnTo>
                    <a:pt x="178" y="1084"/>
                  </a:lnTo>
                  <a:lnTo>
                    <a:pt x="168" y="1065"/>
                  </a:lnTo>
                  <a:lnTo>
                    <a:pt x="159" y="1044"/>
                  </a:lnTo>
                  <a:lnTo>
                    <a:pt x="149" y="1022"/>
                  </a:lnTo>
                  <a:lnTo>
                    <a:pt x="141" y="997"/>
                  </a:lnTo>
                  <a:lnTo>
                    <a:pt x="133" y="973"/>
                  </a:lnTo>
                  <a:lnTo>
                    <a:pt x="125" y="948"/>
                  </a:lnTo>
                  <a:lnTo>
                    <a:pt x="118" y="921"/>
                  </a:lnTo>
                  <a:lnTo>
                    <a:pt x="111" y="895"/>
                  </a:lnTo>
                  <a:lnTo>
                    <a:pt x="99" y="839"/>
                  </a:lnTo>
                  <a:lnTo>
                    <a:pt x="87" y="783"/>
                  </a:lnTo>
                  <a:lnTo>
                    <a:pt x="77" y="726"/>
                  </a:lnTo>
                  <a:lnTo>
                    <a:pt x="69" y="671"/>
                  </a:lnTo>
                  <a:lnTo>
                    <a:pt x="62" y="617"/>
                  </a:lnTo>
                  <a:lnTo>
                    <a:pt x="56" y="567"/>
                  </a:lnTo>
                  <a:lnTo>
                    <a:pt x="53" y="522"/>
                  </a:lnTo>
                  <a:lnTo>
                    <a:pt x="51" y="480"/>
                  </a:lnTo>
                  <a:lnTo>
                    <a:pt x="50" y="447"/>
                  </a:lnTo>
                  <a:lnTo>
                    <a:pt x="51" y="419"/>
                  </a:lnTo>
                  <a:lnTo>
                    <a:pt x="44" y="418"/>
                  </a:lnTo>
                  <a:lnTo>
                    <a:pt x="38" y="415"/>
                  </a:lnTo>
                  <a:lnTo>
                    <a:pt x="33" y="410"/>
                  </a:lnTo>
                  <a:lnTo>
                    <a:pt x="28" y="403"/>
                  </a:lnTo>
                  <a:lnTo>
                    <a:pt x="24" y="394"/>
                  </a:lnTo>
                  <a:lnTo>
                    <a:pt x="19" y="384"/>
                  </a:lnTo>
                  <a:lnTo>
                    <a:pt x="16" y="371"/>
                  </a:lnTo>
                  <a:lnTo>
                    <a:pt x="13" y="359"/>
                  </a:lnTo>
                  <a:lnTo>
                    <a:pt x="8" y="329"/>
                  </a:lnTo>
                  <a:lnTo>
                    <a:pt x="3" y="295"/>
                  </a:lnTo>
                  <a:lnTo>
                    <a:pt x="1" y="259"/>
                  </a:lnTo>
                  <a:lnTo>
                    <a:pt x="0" y="222"/>
                  </a:lnTo>
                  <a:lnTo>
                    <a:pt x="0" y="184"/>
                  </a:lnTo>
                  <a:lnTo>
                    <a:pt x="0" y="147"/>
                  </a:lnTo>
                  <a:lnTo>
                    <a:pt x="1" y="111"/>
                  </a:lnTo>
                  <a:lnTo>
                    <a:pt x="3" y="80"/>
                  </a:lnTo>
                  <a:lnTo>
                    <a:pt x="5" y="51"/>
                  </a:lnTo>
                  <a:lnTo>
                    <a:pt x="7" y="28"/>
                  </a:lnTo>
                  <a:lnTo>
                    <a:pt x="9" y="10"/>
                  </a:lnTo>
                  <a:lnTo>
                    <a:pt x="11" y="0"/>
                  </a:lnTo>
                  <a:lnTo>
                    <a:pt x="17" y="21"/>
                  </a:lnTo>
                  <a:lnTo>
                    <a:pt x="24" y="41"/>
                  </a:lnTo>
                  <a:lnTo>
                    <a:pt x="31" y="61"/>
                  </a:lnTo>
                  <a:lnTo>
                    <a:pt x="38" y="84"/>
                  </a:lnTo>
                  <a:lnTo>
                    <a:pt x="46" y="111"/>
                  </a:lnTo>
                  <a:lnTo>
                    <a:pt x="53" y="144"/>
                  </a:lnTo>
                  <a:lnTo>
                    <a:pt x="61" y="184"/>
                  </a:lnTo>
                  <a:lnTo>
                    <a:pt x="67" y="234"/>
                  </a:lnTo>
                  <a:lnTo>
                    <a:pt x="70" y="235"/>
                  </a:lnTo>
                  <a:lnTo>
                    <a:pt x="74" y="236"/>
                  </a:lnTo>
                  <a:lnTo>
                    <a:pt x="77" y="238"/>
                  </a:lnTo>
                  <a:lnTo>
                    <a:pt x="80" y="240"/>
                  </a:lnTo>
                  <a:lnTo>
                    <a:pt x="86" y="248"/>
                  </a:lnTo>
                  <a:lnTo>
                    <a:pt x="90" y="258"/>
                  </a:lnTo>
                  <a:lnTo>
                    <a:pt x="94" y="271"/>
                  </a:lnTo>
                  <a:lnTo>
                    <a:pt x="98" y="285"/>
                  </a:lnTo>
                  <a:lnTo>
                    <a:pt x="101" y="302"/>
                  </a:lnTo>
                  <a:lnTo>
                    <a:pt x="103" y="319"/>
                  </a:lnTo>
                  <a:lnTo>
                    <a:pt x="107" y="357"/>
                  </a:lnTo>
                  <a:lnTo>
                    <a:pt x="110" y="398"/>
                  </a:lnTo>
                  <a:lnTo>
                    <a:pt x="112" y="438"/>
                  </a:lnTo>
                  <a:lnTo>
                    <a:pt x="115" y="476"/>
                  </a:lnTo>
                  <a:lnTo>
                    <a:pt x="122" y="479"/>
                  </a:lnTo>
                  <a:lnTo>
                    <a:pt x="128" y="484"/>
                  </a:lnTo>
                  <a:lnTo>
                    <a:pt x="137" y="488"/>
                  </a:lnTo>
                  <a:lnTo>
                    <a:pt x="144" y="493"/>
                  </a:lnTo>
                  <a:lnTo>
                    <a:pt x="152" y="498"/>
                  </a:lnTo>
                  <a:lnTo>
                    <a:pt x="162" y="505"/>
                  </a:lnTo>
                  <a:lnTo>
                    <a:pt x="170" y="510"/>
                  </a:lnTo>
                  <a:lnTo>
                    <a:pt x="180" y="516"/>
                  </a:lnTo>
                  <a:lnTo>
                    <a:pt x="180" y="543"/>
                  </a:lnTo>
                  <a:lnTo>
                    <a:pt x="181" y="569"/>
                  </a:lnTo>
                  <a:lnTo>
                    <a:pt x="182" y="596"/>
                  </a:lnTo>
                  <a:lnTo>
                    <a:pt x="185" y="623"/>
                  </a:lnTo>
                  <a:lnTo>
                    <a:pt x="190" y="678"/>
                  </a:lnTo>
                  <a:lnTo>
                    <a:pt x="199" y="735"/>
                  </a:lnTo>
                  <a:lnTo>
                    <a:pt x="207" y="793"/>
                  </a:lnTo>
                  <a:lnTo>
                    <a:pt x="218" y="851"/>
                  </a:lnTo>
                  <a:lnTo>
                    <a:pt x="228" y="912"/>
                  </a:lnTo>
                  <a:lnTo>
                    <a:pt x="240" y="972"/>
                  </a:lnTo>
                  <a:lnTo>
                    <a:pt x="252" y="1032"/>
                  </a:lnTo>
                  <a:lnTo>
                    <a:pt x="262" y="1093"/>
                  </a:lnTo>
                  <a:lnTo>
                    <a:pt x="272" y="1154"/>
                  </a:lnTo>
                  <a:lnTo>
                    <a:pt x="281" y="1215"/>
                  </a:lnTo>
                  <a:lnTo>
                    <a:pt x="289" y="1275"/>
                  </a:lnTo>
                  <a:lnTo>
                    <a:pt x="295" y="1334"/>
                  </a:lnTo>
                  <a:lnTo>
                    <a:pt x="297" y="1364"/>
                  </a:lnTo>
                  <a:lnTo>
                    <a:pt x="299" y="1394"/>
                  </a:lnTo>
                  <a:lnTo>
                    <a:pt x="300" y="1422"/>
                  </a:lnTo>
                  <a:lnTo>
                    <a:pt x="300" y="1452"/>
                  </a:lnTo>
                  <a:lnTo>
                    <a:pt x="295" y="1452"/>
                  </a:lnTo>
                  <a:lnTo>
                    <a:pt x="290" y="1452"/>
                  </a:lnTo>
                  <a:lnTo>
                    <a:pt x="286" y="1452"/>
                  </a:lnTo>
                  <a:lnTo>
                    <a:pt x="281" y="1452"/>
                  </a:lnTo>
                  <a:lnTo>
                    <a:pt x="278" y="1452"/>
                  </a:lnTo>
                  <a:lnTo>
                    <a:pt x="274" y="1452"/>
                  </a:lnTo>
                  <a:lnTo>
                    <a:pt x="271" y="1452"/>
                  </a:lnTo>
                  <a:lnTo>
                    <a:pt x="269" y="145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rot="5400000">
              <a:off x="7138800" y="5323320"/>
              <a:ext cx="2880" cy="47160"/>
            </a:xfrm>
            <a:custGeom>
              <a:avLst/>
              <a:gdLst/>
              <a:ahLst/>
              <a:rect l="l" t="t" r="r" b="b"/>
              <a:pathLst>
                <a:path w="29" h="129">
                  <a:moveTo>
                    <a:pt x="0" y="129"/>
                  </a:moveTo>
                  <a:lnTo>
                    <a:pt x="0" y="115"/>
                  </a:lnTo>
                  <a:lnTo>
                    <a:pt x="0" y="101"/>
                  </a:lnTo>
                  <a:lnTo>
                    <a:pt x="0" y="87"/>
                  </a:lnTo>
                  <a:lnTo>
                    <a:pt x="0" y="73"/>
                  </a:lnTo>
                  <a:lnTo>
                    <a:pt x="0" y="61"/>
                  </a:lnTo>
                  <a:lnTo>
                    <a:pt x="0" y="49"/>
                  </a:lnTo>
                  <a:lnTo>
                    <a:pt x="0" y="36"/>
                  </a:lnTo>
                  <a:lnTo>
                    <a:pt x="0" y="25"/>
                  </a:lnTo>
                  <a:lnTo>
                    <a:pt x="3" y="21"/>
                  </a:lnTo>
                  <a:lnTo>
                    <a:pt x="6" y="18"/>
                  </a:lnTo>
                  <a:lnTo>
                    <a:pt x="9" y="15"/>
                  </a:lnTo>
                  <a:lnTo>
                    <a:pt x="12" y="12"/>
                  </a:lnTo>
                  <a:lnTo>
                    <a:pt x="15" y="9"/>
                  </a:lnTo>
                  <a:lnTo>
                    <a:pt x="18" y="7"/>
                  </a:lnTo>
                  <a:lnTo>
                    <a:pt x="22" y="4"/>
                  </a:lnTo>
                  <a:lnTo>
                    <a:pt x="24" y="0"/>
                  </a:lnTo>
                  <a:lnTo>
                    <a:pt x="27" y="16"/>
                  </a:lnTo>
                  <a:lnTo>
                    <a:pt x="28" y="29"/>
                  </a:lnTo>
                  <a:lnTo>
                    <a:pt x="29" y="41"/>
                  </a:lnTo>
                  <a:lnTo>
                    <a:pt x="27" y="52"/>
                  </a:lnTo>
                  <a:lnTo>
                    <a:pt x="24" y="66"/>
                  </a:lnTo>
                  <a:lnTo>
                    <a:pt x="18" y="82"/>
                  </a:lnTo>
                  <a:lnTo>
                    <a:pt x="11" y="103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5400000">
              <a:off x="7412040" y="5096880"/>
              <a:ext cx="41400" cy="455040"/>
            </a:xfrm>
            <a:custGeom>
              <a:avLst/>
              <a:gdLst/>
              <a:ahLst/>
              <a:rect l="l" t="t" r="r" b="b"/>
              <a:pathLst>
                <a:path w="395" h="1224">
                  <a:moveTo>
                    <a:pt x="314" y="1209"/>
                  </a:moveTo>
                  <a:lnTo>
                    <a:pt x="308" y="1193"/>
                  </a:lnTo>
                  <a:lnTo>
                    <a:pt x="302" y="1178"/>
                  </a:lnTo>
                  <a:lnTo>
                    <a:pt x="299" y="1164"/>
                  </a:lnTo>
                  <a:lnTo>
                    <a:pt x="297" y="1152"/>
                  </a:lnTo>
                  <a:lnTo>
                    <a:pt x="296" y="1140"/>
                  </a:lnTo>
                  <a:lnTo>
                    <a:pt x="296" y="1130"/>
                  </a:lnTo>
                  <a:lnTo>
                    <a:pt x="297" y="1120"/>
                  </a:lnTo>
                  <a:lnTo>
                    <a:pt x="299" y="1112"/>
                  </a:lnTo>
                  <a:lnTo>
                    <a:pt x="304" y="1098"/>
                  </a:lnTo>
                  <a:lnTo>
                    <a:pt x="309" y="1088"/>
                  </a:lnTo>
                  <a:lnTo>
                    <a:pt x="313" y="1082"/>
                  </a:lnTo>
                  <a:lnTo>
                    <a:pt x="314" y="1080"/>
                  </a:lnTo>
                  <a:lnTo>
                    <a:pt x="306" y="1069"/>
                  </a:lnTo>
                  <a:lnTo>
                    <a:pt x="296" y="1054"/>
                  </a:lnTo>
                  <a:lnTo>
                    <a:pt x="286" y="1034"/>
                  </a:lnTo>
                  <a:lnTo>
                    <a:pt x="275" y="1010"/>
                  </a:lnTo>
                  <a:lnTo>
                    <a:pt x="264" y="983"/>
                  </a:lnTo>
                  <a:lnTo>
                    <a:pt x="253" y="951"/>
                  </a:lnTo>
                  <a:lnTo>
                    <a:pt x="240" y="917"/>
                  </a:lnTo>
                  <a:lnTo>
                    <a:pt x="227" y="880"/>
                  </a:lnTo>
                  <a:lnTo>
                    <a:pt x="202" y="799"/>
                  </a:lnTo>
                  <a:lnTo>
                    <a:pt x="176" y="710"/>
                  </a:lnTo>
                  <a:lnTo>
                    <a:pt x="149" y="617"/>
                  </a:lnTo>
                  <a:lnTo>
                    <a:pt x="124" y="522"/>
                  </a:lnTo>
                  <a:lnTo>
                    <a:pt x="100" y="428"/>
                  </a:lnTo>
                  <a:lnTo>
                    <a:pt x="76" y="336"/>
                  </a:lnTo>
                  <a:lnTo>
                    <a:pt x="55" y="251"/>
                  </a:lnTo>
                  <a:lnTo>
                    <a:pt x="36" y="173"/>
                  </a:lnTo>
                  <a:lnTo>
                    <a:pt x="22" y="107"/>
                  </a:lnTo>
                  <a:lnTo>
                    <a:pt x="10" y="55"/>
                  </a:lnTo>
                  <a:lnTo>
                    <a:pt x="3" y="18"/>
                  </a:lnTo>
                  <a:lnTo>
                    <a:pt x="0" y="0"/>
                  </a:lnTo>
                  <a:lnTo>
                    <a:pt x="18" y="14"/>
                  </a:lnTo>
                  <a:lnTo>
                    <a:pt x="35" y="31"/>
                  </a:lnTo>
                  <a:lnTo>
                    <a:pt x="52" y="52"/>
                  </a:lnTo>
                  <a:lnTo>
                    <a:pt x="67" y="77"/>
                  </a:lnTo>
                  <a:lnTo>
                    <a:pt x="82" y="103"/>
                  </a:lnTo>
                  <a:lnTo>
                    <a:pt x="95" y="133"/>
                  </a:lnTo>
                  <a:lnTo>
                    <a:pt x="108" y="164"/>
                  </a:lnTo>
                  <a:lnTo>
                    <a:pt x="121" y="199"/>
                  </a:lnTo>
                  <a:lnTo>
                    <a:pt x="132" y="235"/>
                  </a:lnTo>
                  <a:lnTo>
                    <a:pt x="144" y="273"/>
                  </a:lnTo>
                  <a:lnTo>
                    <a:pt x="155" y="314"/>
                  </a:lnTo>
                  <a:lnTo>
                    <a:pt x="165" y="355"/>
                  </a:lnTo>
                  <a:lnTo>
                    <a:pt x="184" y="440"/>
                  </a:lnTo>
                  <a:lnTo>
                    <a:pt x="203" y="529"/>
                  </a:lnTo>
                  <a:lnTo>
                    <a:pt x="222" y="619"/>
                  </a:lnTo>
                  <a:lnTo>
                    <a:pt x="241" y="709"/>
                  </a:lnTo>
                  <a:lnTo>
                    <a:pt x="252" y="752"/>
                  </a:lnTo>
                  <a:lnTo>
                    <a:pt x="261" y="796"/>
                  </a:lnTo>
                  <a:lnTo>
                    <a:pt x="272" y="838"/>
                  </a:lnTo>
                  <a:lnTo>
                    <a:pt x="283" y="879"/>
                  </a:lnTo>
                  <a:lnTo>
                    <a:pt x="295" y="918"/>
                  </a:lnTo>
                  <a:lnTo>
                    <a:pt x="307" y="956"/>
                  </a:lnTo>
                  <a:lnTo>
                    <a:pt x="319" y="992"/>
                  </a:lnTo>
                  <a:lnTo>
                    <a:pt x="333" y="1026"/>
                  </a:lnTo>
                  <a:lnTo>
                    <a:pt x="347" y="1058"/>
                  </a:lnTo>
                  <a:lnTo>
                    <a:pt x="362" y="1087"/>
                  </a:lnTo>
                  <a:lnTo>
                    <a:pt x="377" y="1114"/>
                  </a:lnTo>
                  <a:lnTo>
                    <a:pt x="395" y="1137"/>
                  </a:lnTo>
                  <a:lnTo>
                    <a:pt x="386" y="1137"/>
                  </a:lnTo>
                  <a:lnTo>
                    <a:pt x="379" y="1138"/>
                  </a:lnTo>
                  <a:lnTo>
                    <a:pt x="371" y="1140"/>
                  </a:lnTo>
                  <a:lnTo>
                    <a:pt x="364" y="1142"/>
                  </a:lnTo>
                  <a:lnTo>
                    <a:pt x="357" y="1144"/>
                  </a:lnTo>
                  <a:lnTo>
                    <a:pt x="351" y="1146"/>
                  </a:lnTo>
                  <a:lnTo>
                    <a:pt x="345" y="1150"/>
                  </a:lnTo>
                  <a:lnTo>
                    <a:pt x="338" y="1153"/>
                  </a:lnTo>
                  <a:lnTo>
                    <a:pt x="333" y="1179"/>
                  </a:lnTo>
                  <a:lnTo>
                    <a:pt x="329" y="1199"/>
                  </a:lnTo>
                  <a:lnTo>
                    <a:pt x="326" y="1213"/>
                  </a:lnTo>
                  <a:lnTo>
                    <a:pt x="324" y="1220"/>
                  </a:lnTo>
                  <a:lnTo>
                    <a:pt x="323" y="1223"/>
                  </a:lnTo>
                  <a:lnTo>
                    <a:pt x="322" y="1224"/>
                  </a:lnTo>
                  <a:lnTo>
                    <a:pt x="320" y="1224"/>
                  </a:lnTo>
                  <a:lnTo>
                    <a:pt x="319" y="1221"/>
                  </a:lnTo>
                  <a:lnTo>
                    <a:pt x="317" y="1217"/>
                  </a:lnTo>
                  <a:lnTo>
                    <a:pt x="314" y="1209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rot="5400000">
              <a:off x="7720200" y="5258520"/>
              <a:ext cx="5760" cy="72000"/>
            </a:xfrm>
            <a:custGeom>
              <a:avLst/>
              <a:gdLst/>
              <a:ahLst/>
              <a:rect l="l" t="t" r="r" b="b"/>
              <a:pathLst>
                <a:path w="52" h="187">
                  <a:moveTo>
                    <a:pt x="45" y="187"/>
                  </a:moveTo>
                  <a:lnTo>
                    <a:pt x="30" y="125"/>
                  </a:lnTo>
                  <a:lnTo>
                    <a:pt x="16" y="77"/>
                  </a:lnTo>
                  <a:lnTo>
                    <a:pt x="6" y="40"/>
                  </a:lnTo>
                  <a:lnTo>
                    <a:pt x="1" y="14"/>
                  </a:lnTo>
                  <a:lnTo>
                    <a:pt x="0" y="6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6" y="1"/>
                  </a:lnTo>
                  <a:lnTo>
                    <a:pt x="8" y="2"/>
                  </a:lnTo>
                  <a:lnTo>
                    <a:pt x="15" y="7"/>
                  </a:lnTo>
                  <a:lnTo>
                    <a:pt x="25" y="14"/>
                  </a:lnTo>
                  <a:lnTo>
                    <a:pt x="38" y="26"/>
                  </a:lnTo>
                  <a:lnTo>
                    <a:pt x="52" y="42"/>
                  </a:lnTo>
                  <a:lnTo>
                    <a:pt x="50" y="60"/>
                  </a:lnTo>
                  <a:lnTo>
                    <a:pt x="48" y="78"/>
                  </a:lnTo>
                  <a:lnTo>
                    <a:pt x="47" y="96"/>
                  </a:lnTo>
                  <a:lnTo>
                    <a:pt x="46" y="114"/>
                  </a:lnTo>
                  <a:lnTo>
                    <a:pt x="45" y="132"/>
                  </a:lnTo>
                  <a:lnTo>
                    <a:pt x="45" y="150"/>
                  </a:lnTo>
                  <a:lnTo>
                    <a:pt x="45" y="169"/>
                  </a:lnTo>
                  <a:lnTo>
                    <a:pt x="45" y="187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rot="5400000">
              <a:off x="7770600" y="5520960"/>
              <a:ext cx="9000" cy="31680"/>
            </a:xfrm>
            <a:custGeom>
              <a:avLst/>
              <a:gdLst/>
              <a:ahLst/>
              <a:rect l="l" t="t" r="r" b="b"/>
              <a:pathLst>
                <a:path w="81" h="80">
                  <a:moveTo>
                    <a:pt x="24" y="80"/>
                  </a:moveTo>
                  <a:lnTo>
                    <a:pt x="21" y="71"/>
                  </a:lnTo>
                  <a:lnTo>
                    <a:pt x="19" y="62"/>
                  </a:lnTo>
                  <a:lnTo>
                    <a:pt x="15" y="53"/>
                  </a:lnTo>
                  <a:lnTo>
                    <a:pt x="12" y="43"/>
                  </a:lnTo>
                  <a:lnTo>
                    <a:pt x="9" y="35"/>
                  </a:lnTo>
                  <a:lnTo>
                    <a:pt x="6" y="25"/>
                  </a:lnTo>
                  <a:lnTo>
                    <a:pt x="3" y="17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1"/>
                  </a:lnTo>
                  <a:lnTo>
                    <a:pt x="12" y="0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1" y="0"/>
                  </a:lnTo>
                  <a:lnTo>
                    <a:pt x="24" y="0"/>
                  </a:lnTo>
                  <a:lnTo>
                    <a:pt x="30" y="8"/>
                  </a:lnTo>
                  <a:lnTo>
                    <a:pt x="37" y="18"/>
                  </a:lnTo>
                  <a:lnTo>
                    <a:pt x="43" y="26"/>
                  </a:lnTo>
                  <a:lnTo>
                    <a:pt x="49" y="36"/>
                  </a:lnTo>
                  <a:lnTo>
                    <a:pt x="57" y="44"/>
                  </a:lnTo>
                  <a:lnTo>
                    <a:pt x="64" y="54"/>
                  </a:lnTo>
                  <a:lnTo>
                    <a:pt x="71" y="63"/>
                  </a:lnTo>
                  <a:lnTo>
                    <a:pt x="81" y="72"/>
                  </a:lnTo>
                  <a:lnTo>
                    <a:pt x="71" y="72"/>
                  </a:lnTo>
                  <a:lnTo>
                    <a:pt x="64" y="72"/>
                  </a:lnTo>
                  <a:lnTo>
                    <a:pt x="57" y="73"/>
                  </a:lnTo>
                  <a:lnTo>
                    <a:pt x="49" y="73"/>
                  </a:lnTo>
                  <a:lnTo>
                    <a:pt x="43" y="74"/>
                  </a:lnTo>
                  <a:lnTo>
                    <a:pt x="37" y="75"/>
                  </a:lnTo>
                  <a:lnTo>
                    <a:pt x="30" y="77"/>
                  </a:lnTo>
                  <a:lnTo>
                    <a:pt x="24" y="80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rot="5400000">
              <a:off x="8024040" y="5292360"/>
              <a:ext cx="61200" cy="392040"/>
            </a:xfrm>
            <a:custGeom>
              <a:avLst/>
              <a:gdLst/>
              <a:ahLst/>
              <a:rect l="l" t="t" r="r" b="b"/>
              <a:pathLst>
                <a:path w="582" h="1048">
                  <a:moveTo>
                    <a:pt x="580" y="1048"/>
                  </a:moveTo>
                  <a:lnTo>
                    <a:pt x="575" y="1027"/>
                  </a:lnTo>
                  <a:lnTo>
                    <a:pt x="566" y="1002"/>
                  </a:lnTo>
                  <a:lnTo>
                    <a:pt x="556" y="975"/>
                  </a:lnTo>
                  <a:lnTo>
                    <a:pt x="543" y="944"/>
                  </a:lnTo>
                  <a:lnTo>
                    <a:pt x="527" y="912"/>
                  </a:lnTo>
                  <a:lnTo>
                    <a:pt x="510" y="877"/>
                  </a:lnTo>
                  <a:lnTo>
                    <a:pt x="491" y="840"/>
                  </a:lnTo>
                  <a:lnTo>
                    <a:pt x="470" y="801"/>
                  </a:lnTo>
                  <a:lnTo>
                    <a:pt x="425" y="718"/>
                  </a:lnTo>
                  <a:lnTo>
                    <a:pt x="374" y="633"/>
                  </a:lnTo>
                  <a:lnTo>
                    <a:pt x="322" y="545"/>
                  </a:lnTo>
                  <a:lnTo>
                    <a:pt x="269" y="457"/>
                  </a:lnTo>
                  <a:lnTo>
                    <a:pt x="166" y="291"/>
                  </a:lnTo>
                  <a:lnTo>
                    <a:pt x="78" y="148"/>
                  </a:lnTo>
                  <a:lnTo>
                    <a:pt x="45" y="91"/>
                  </a:lnTo>
                  <a:lnTo>
                    <a:pt x="19" y="46"/>
                  </a:lnTo>
                  <a:lnTo>
                    <a:pt x="10" y="29"/>
                  </a:lnTo>
                  <a:lnTo>
                    <a:pt x="3" y="15"/>
                  </a:lnTo>
                  <a:lnTo>
                    <a:pt x="0" y="6"/>
                  </a:lnTo>
                  <a:lnTo>
                    <a:pt x="0" y="0"/>
                  </a:lnTo>
                  <a:lnTo>
                    <a:pt x="11" y="7"/>
                  </a:lnTo>
                  <a:lnTo>
                    <a:pt x="24" y="17"/>
                  </a:lnTo>
                  <a:lnTo>
                    <a:pt x="38" y="32"/>
                  </a:lnTo>
                  <a:lnTo>
                    <a:pt x="54" y="50"/>
                  </a:lnTo>
                  <a:lnTo>
                    <a:pt x="73" y="71"/>
                  </a:lnTo>
                  <a:lnTo>
                    <a:pt x="93" y="97"/>
                  </a:lnTo>
                  <a:lnTo>
                    <a:pt x="114" y="124"/>
                  </a:lnTo>
                  <a:lnTo>
                    <a:pt x="138" y="154"/>
                  </a:lnTo>
                  <a:lnTo>
                    <a:pt x="185" y="221"/>
                  </a:lnTo>
                  <a:lnTo>
                    <a:pt x="237" y="295"/>
                  </a:lnTo>
                  <a:lnTo>
                    <a:pt x="263" y="336"/>
                  </a:lnTo>
                  <a:lnTo>
                    <a:pt x="290" y="376"/>
                  </a:lnTo>
                  <a:lnTo>
                    <a:pt x="315" y="418"/>
                  </a:lnTo>
                  <a:lnTo>
                    <a:pt x="341" y="460"/>
                  </a:lnTo>
                  <a:lnTo>
                    <a:pt x="367" y="504"/>
                  </a:lnTo>
                  <a:lnTo>
                    <a:pt x="392" y="547"/>
                  </a:lnTo>
                  <a:lnTo>
                    <a:pt x="416" y="590"/>
                  </a:lnTo>
                  <a:lnTo>
                    <a:pt x="440" y="634"/>
                  </a:lnTo>
                  <a:lnTo>
                    <a:pt x="462" y="676"/>
                  </a:lnTo>
                  <a:lnTo>
                    <a:pt x="483" y="718"/>
                  </a:lnTo>
                  <a:lnTo>
                    <a:pt x="502" y="759"/>
                  </a:lnTo>
                  <a:lnTo>
                    <a:pt x="520" y="800"/>
                  </a:lnTo>
                  <a:lnTo>
                    <a:pt x="536" y="838"/>
                  </a:lnTo>
                  <a:lnTo>
                    <a:pt x="550" y="875"/>
                  </a:lnTo>
                  <a:lnTo>
                    <a:pt x="561" y="909"/>
                  </a:lnTo>
                  <a:lnTo>
                    <a:pt x="571" y="942"/>
                  </a:lnTo>
                  <a:lnTo>
                    <a:pt x="577" y="973"/>
                  </a:lnTo>
                  <a:lnTo>
                    <a:pt x="581" y="1001"/>
                  </a:lnTo>
                  <a:lnTo>
                    <a:pt x="582" y="1026"/>
                  </a:lnTo>
                  <a:lnTo>
                    <a:pt x="580" y="1048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rot="5400000">
              <a:off x="7899120" y="5246640"/>
              <a:ext cx="2880" cy="41400"/>
            </a:xfrm>
            <a:custGeom>
              <a:avLst/>
              <a:gdLst/>
              <a:ahLst/>
              <a:rect l="l" t="t" r="r" b="b"/>
              <a:pathLst>
                <a:path w="32" h="105">
                  <a:moveTo>
                    <a:pt x="21" y="105"/>
                  </a:moveTo>
                  <a:lnTo>
                    <a:pt x="13" y="89"/>
                  </a:lnTo>
                  <a:lnTo>
                    <a:pt x="7" y="75"/>
                  </a:lnTo>
                  <a:lnTo>
                    <a:pt x="3" y="65"/>
                  </a:lnTo>
                  <a:lnTo>
                    <a:pt x="1" y="55"/>
                  </a:lnTo>
                  <a:lnTo>
                    <a:pt x="0" y="45"/>
                  </a:lnTo>
                  <a:lnTo>
                    <a:pt x="1" y="33"/>
                  </a:lnTo>
                  <a:lnTo>
                    <a:pt x="2" y="18"/>
                  </a:lnTo>
                  <a:lnTo>
                    <a:pt x="5" y="0"/>
                  </a:lnTo>
                  <a:lnTo>
                    <a:pt x="7" y="8"/>
                  </a:lnTo>
                  <a:lnTo>
                    <a:pt x="12" y="18"/>
                  </a:lnTo>
                  <a:lnTo>
                    <a:pt x="19" y="32"/>
                  </a:lnTo>
                  <a:lnTo>
                    <a:pt x="25" y="46"/>
                  </a:lnTo>
                  <a:lnTo>
                    <a:pt x="28" y="54"/>
                  </a:lnTo>
                  <a:lnTo>
                    <a:pt x="30" y="62"/>
                  </a:lnTo>
                  <a:lnTo>
                    <a:pt x="31" y="69"/>
                  </a:lnTo>
                  <a:lnTo>
                    <a:pt x="32" y="77"/>
                  </a:lnTo>
                  <a:lnTo>
                    <a:pt x="31" y="85"/>
                  </a:lnTo>
                  <a:lnTo>
                    <a:pt x="29" y="91"/>
                  </a:lnTo>
                  <a:lnTo>
                    <a:pt x="26" y="99"/>
                  </a:lnTo>
                  <a:lnTo>
                    <a:pt x="21" y="105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5400000">
              <a:off x="8304120" y="5414400"/>
              <a:ext cx="13320" cy="57960"/>
            </a:xfrm>
            <a:custGeom>
              <a:avLst/>
              <a:gdLst/>
              <a:ahLst/>
              <a:rect l="l" t="t" r="r" b="b"/>
              <a:pathLst>
                <a:path w="129" h="154">
                  <a:moveTo>
                    <a:pt x="96" y="154"/>
                  </a:moveTo>
                  <a:lnTo>
                    <a:pt x="84" y="133"/>
                  </a:lnTo>
                  <a:lnTo>
                    <a:pt x="73" y="112"/>
                  </a:lnTo>
                  <a:lnTo>
                    <a:pt x="60" y="93"/>
                  </a:lnTo>
                  <a:lnTo>
                    <a:pt x="49" y="73"/>
                  </a:lnTo>
                  <a:lnTo>
                    <a:pt x="36" y="55"/>
                  </a:lnTo>
                  <a:lnTo>
                    <a:pt x="24" y="36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3" y="0"/>
                  </a:lnTo>
                  <a:lnTo>
                    <a:pt x="7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2" y="0"/>
                  </a:lnTo>
                  <a:lnTo>
                    <a:pt x="28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50" y="18"/>
                  </a:lnTo>
                  <a:lnTo>
                    <a:pt x="59" y="36"/>
                  </a:lnTo>
                  <a:lnTo>
                    <a:pt x="71" y="55"/>
                  </a:lnTo>
                  <a:lnTo>
                    <a:pt x="81" y="73"/>
                  </a:lnTo>
                  <a:lnTo>
                    <a:pt x="93" y="93"/>
                  </a:lnTo>
                  <a:lnTo>
                    <a:pt x="105" y="112"/>
                  </a:lnTo>
                  <a:lnTo>
                    <a:pt x="116" y="133"/>
                  </a:lnTo>
                  <a:lnTo>
                    <a:pt x="129" y="154"/>
                  </a:lnTo>
                  <a:lnTo>
                    <a:pt x="124" y="154"/>
                  </a:lnTo>
                  <a:lnTo>
                    <a:pt x="118" y="154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6" y="154"/>
                  </a:lnTo>
                  <a:lnTo>
                    <a:pt x="102" y="154"/>
                  </a:lnTo>
                  <a:lnTo>
                    <a:pt x="99" y="154"/>
                  </a:lnTo>
                  <a:lnTo>
                    <a:pt x="96" y="154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rot="5400000">
              <a:off x="8522640" y="5219640"/>
              <a:ext cx="68760" cy="338760"/>
            </a:xfrm>
            <a:custGeom>
              <a:avLst/>
              <a:gdLst/>
              <a:ahLst/>
              <a:rect l="l" t="t" r="r" b="b"/>
              <a:pathLst>
                <a:path w="646" h="902">
                  <a:moveTo>
                    <a:pt x="644" y="902"/>
                  </a:moveTo>
                  <a:lnTo>
                    <a:pt x="632" y="871"/>
                  </a:lnTo>
                  <a:lnTo>
                    <a:pt x="620" y="839"/>
                  </a:lnTo>
                  <a:lnTo>
                    <a:pt x="605" y="807"/>
                  </a:lnTo>
                  <a:lnTo>
                    <a:pt x="589" y="777"/>
                  </a:lnTo>
                  <a:lnTo>
                    <a:pt x="571" y="745"/>
                  </a:lnTo>
                  <a:lnTo>
                    <a:pt x="553" y="714"/>
                  </a:lnTo>
                  <a:lnTo>
                    <a:pt x="533" y="684"/>
                  </a:lnTo>
                  <a:lnTo>
                    <a:pt x="513" y="652"/>
                  </a:lnTo>
                  <a:lnTo>
                    <a:pt x="491" y="622"/>
                  </a:lnTo>
                  <a:lnTo>
                    <a:pt x="469" y="592"/>
                  </a:lnTo>
                  <a:lnTo>
                    <a:pt x="446" y="561"/>
                  </a:lnTo>
                  <a:lnTo>
                    <a:pt x="422" y="531"/>
                  </a:lnTo>
                  <a:lnTo>
                    <a:pt x="374" y="472"/>
                  </a:lnTo>
                  <a:lnTo>
                    <a:pt x="325" y="414"/>
                  </a:lnTo>
                  <a:lnTo>
                    <a:pt x="227" y="302"/>
                  </a:lnTo>
                  <a:lnTo>
                    <a:pt x="135" y="195"/>
                  </a:lnTo>
                  <a:lnTo>
                    <a:pt x="114" y="169"/>
                  </a:lnTo>
                  <a:lnTo>
                    <a:pt x="94" y="144"/>
                  </a:lnTo>
                  <a:lnTo>
                    <a:pt x="75" y="118"/>
                  </a:lnTo>
                  <a:lnTo>
                    <a:pt x="57" y="94"/>
                  </a:lnTo>
                  <a:lnTo>
                    <a:pt x="41" y="70"/>
                  </a:lnTo>
                  <a:lnTo>
                    <a:pt x="25" y="46"/>
                  </a:lnTo>
                  <a:lnTo>
                    <a:pt x="11" y="22"/>
                  </a:lnTo>
                  <a:lnTo>
                    <a:pt x="0" y="0"/>
                  </a:lnTo>
                  <a:lnTo>
                    <a:pt x="8" y="1"/>
                  </a:lnTo>
                  <a:lnTo>
                    <a:pt x="21" y="6"/>
                  </a:lnTo>
                  <a:lnTo>
                    <a:pt x="35" y="15"/>
                  </a:lnTo>
                  <a:lnTo>
                    <a:pt x="51" y="27"/>
                  </a:lnTo>
                  <a:lnTo>
                    <a:pt x="72" y="42"/>
                  </a:lnTo>
                  <a:lnTo>
                    <a:pt x="93" y="60"/>
                  </a:lnTo>
                  <a:lnTo>
                    <a:pt x="115" y="82"/>
                  </a:lnTo>
                  <a:lnTo>
                    <a:pt x="140" y="105"/>
                  </a:lnTo>
                  <a:lnTo>
                    <a:pt x="166" y="132"/>
                  </a:lnTo>
                  <a:lnTo>
                    <a:pt x="193" y="159"/>
                  </a:lnTo>
                  <a:lnTo>
                    <a:pt x="221" y="190"/>
                  </a:lnTo>
                  <a:lnTo>
                    <a:pt x="249" y="222"/>
                  </a:lnTo>
                  <a:lnTo>
                    <a:pt x="279" y="256"/>
                  </a:lnTo>
                  <a:lnTo>
                    <a:pt x="308" y="290"/>
                  </a:lnTo>
                  <a:lnTo>
                    <a:pt x="338" y="326"/>
                  </a:lnTo>
                  <a:lnTo>
                    <a:pt x="367" y="363"/>
                  </a:lnTo>
                  <a:lnTo>
                    <a:pt x="396" y="400"/>
                  </a:lnTo>
                  <a:lnTo>
                    <a:pt x="424" y="438"/>
                  </a:lnTo>
                  <a:lnTo>
                    <a:pt x="452" y="478"/>
                  </a:lnTo>
                  <a:lnTo>
                    <a:pt x="479" y="516"/>
                  </a:lnTo>
                  <a:lnTo>
                    <a:pt x="505" y="554"/>
                  </a:lnTo>
                  <a:lnTo>
                    <a:pt x="529" y="592"/>
                  </a:lnTo>
                  <a:lnTo>
                    <a:pt x="551" y="629"/>
                  </a:lnTo>
                  <a:lnTo>
                    <a:pt x="571" y="665"/>
                  </a:lnTo>
                  <a:lnTo>
                    <a:pt x="590" y="701"/>
                  </a:lnTo>
                  <a:lnTo>
                    <a:pt x="606" y="734"/>
                  </a:lnTo>
                  <a:lnTo>
                    <a:pt x="620" y="767"/>
                  </a:lnTo>
                  <a:lnTo>
                    <a:pt x="631" y="799"/>
                  </a:lnTo>
                  <a:lnTo>
                    <a:pt x="639" y="827"/>
                  </a:lnTo>
                  <a:lnTo>
                    <a:pt x="644" y="855"/>
                  </a:lnTo>
                  <a:lnTo>
                    <a:pt x="646" y="880"/>
                  </a:lnTo>
                  <a:lnTo>
                    <a:pt x="644" y="902"/>
                  </a:lnTo>
                  <a:close/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pSp>
        <p:nvGrpSpPr>
          <p:cNvPr id="293" name=""/>
          <p:cNvGrpSpPr/>
          <p:nvPr/>
        </p:nvGrpSpPr>
        <p:grpSpPr>
          <a:xfrm>
            <a:off x="819000" y="1766880"/>
            <a:ext cx="4724280" cy="432720"/>
            <a:chOff x="819000" y="1766880"/>
            <a:chExt cx="4724280" cy="432720"/>
          </a:xfrm>
        </p:grpSpPr>
        <p:sp>
          <p:nvSpPr>
            <p:cNvPr id="294" name=""/>
            <p:cNvSpPr/>
            <p:nvPr/>
          </p:nvSpPr>
          <p:spPr>
            <a:xfrm rot="16200000">
              <a:off x="5388480" y="2044800"/>
              <a:ext cx="90360" cy="2192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9"/>
                  </a:moveTo>
                  <a:cubicBezTo>
                    <a:pt x="2" y="7"/>
                    <a:pt x="3" y="5"/>
                    <a:pt x="4" y="3"/>
                  </a:cubicBezTo>
                  <a:cubicBezTo>
                    <a:pt x="5" y="3"/>
                    <a:pt x="5" y="3"/>
                    <a:pt x="6" y="3"/>
                  </a:cubicBezTo>
                  <a:cubicBezTo>
                    <a:pt x="7" y="2"/>
                    <a:pt x="7" y="0"/>
                    <a:pt x="8" y="0"/>
                  </a:cubicBezTo>
                  <a:cubicBezTo>
                    <a:pt x="9" y="3"/>
                    <a:pt x="2" y="7"/>
                    <a:pt x="1" y="9"/>
                  </a:cubicBezTo>
                  <a:cubicBezTo>
                    <a:pt x="1" y="9"/>
                    <a:pt x="0" y="9"/>
                    <a:pt x="0" y="9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000" y="1766880"/>
              <a:ext cx="3823200" cy="423720"/>
            </a:xfrm>
            <a:custGeom>
              <a:avLst/>
              <a:gdLst/>
              <a:ahLst/>
              <a:rect l="l" t="t" r="r" b="b"/>
              <a:pathLst>
                <a:path w="2681" h="220">
                  <a:moveTo>
                    <a:pt x="188" y="141"/>
                  </a:moveTo>
                  <a:cubicBezTo>
                    <a:pt x="256" y="126"/>
                    <a:pt x="529" y="63"/>
                    <a:pt x="615" y="63"/>
                  </a:cubicBezTo>
                  <a:cubicBezTo>
                    <a:pt x="666" y="42"/>
                    <a:pt x="1076" y="21"/>
                    <a:pt x="1093" y="16"/>
                  </a:cubicBezTo>
                  <a:cubicBezTo>
                    <a:pt x="1093" y="16"/>
                    <a:pt x="1229" y="16"/>
                    <a:pt x="1246" y="5"/>
                  </a:cubicBezTo>
                  <a:cubicBezTo>
                    <a:pt x="1332" y="0"/>
                    <a:pt x="1417" y="5"/>
                    <a:pt x="1502" y="5"/>
                  </a:cubicBezTo>
                  <a:cubicBezTo>
                    <a:pt x="1502" y="0"/>
                    <a:pt x="1827" y="5"/>
                    <a:pt x="1895" y="5"/>
                  </a:cubicBezTo>
                  <a:cubicBezTo>
                    <a:pt x="1895" y="5"/>
                    <a:pt x="1895" y="5"/>
                    <a:pt x="1895" y="5"/>
                  </a:cubicBezTo>
                  <a:cubicBezTo>
                    <a:pt x="1912" y="5"/>
                    <a:pt x="1912" y="5"/>
                    <a:pt x="1929" y="5"/>
                  </a:cubicBezTo>
                  <a:cubicBezTo>
                    <a:pt x="1929" y="10"/>
                    <a:pt x="1998" y="10"/>
                    <a:pt x="2032" y="10"/>
                  </a:cubicBezTo>
                  <a:cubicBezTo>
                    <a:pt x="2049" y="16"/>
                    <a:pt x="2083" y="16"/>
                    <a:pt x="2100" y="21"/>
                  </a:cubicBezTo>
                  <a:cubicBezTo>
                    <a:pt x="2100" y="26"/>
                    <a:pt x="2083" y="26"/>
                    <a:pt x="2083" y="31"/>
                  </a:cubicBezTo>
                  <a:cubicBezTo>
                    <a:pt x="2083" y="31"/>
                    <a:pt x="2083" y="31"/>
                    <a:pt x="2066" y="31"/>
                  </a:cubicBezTo>
                  <a:cubicBezTo>
                    <a:pt x="2049" y="21"/>
                    <a:pt x="2032" y="26"/>
                    <a:pt x="2015" y="21"/>
                  </a:cubicBezTo>
                  <a:cubicBezTo>
                    <a:pt x="1998" y="26"/>
                    <a:pt x="1998" y="26"/>
                    <a:pt x="1981" y="26"/>
                  </a:cubicBezTo>
                  <a:cubicBezTo>
                    <a:pt x="1981" y="26"/>
                    <a:pt x="1981" y="31"/>
                    <a:pt x="1981" y="31"/>
                  </a:cubicBezTo>
                  <a:cubicBezTo>
                    <a:pt x="2083" y="37"/>
                    <a:pt x="2168" y="42"/>
                    <a:pt x="2254" y="52"/>
                  </a:cubicBezTo>
                  <a:cubicBezTo>
                    <a:pt x="2271" y="52"/>
                    <a:pt x="2271" y="52"/>
                    <a:pt x="2271" y="52"/>
                  </a:cubicBezTo>
                  <a:cubicBezTo>
                    <a:pt x="2271" y="52"/>
                    <a:pt x="2305" y="58"/>
                    <a:pt x="2322" y="58"/>
                  </a:cubicBezTo>
                  <a:cubicBezTo>
                    <a:pt x="2322" y="63"/>
                    <a:pt x="2322" y="63"/>
                    <a:pt x="2322" y="63"/>
                  </a:cubicBezTo>
                  <a:cubicBezTo>
                    <a:pt x="2322" y="68"/>
                    <a:pt x="2322" y="68"/>
                    <a:pt x="2322" y="68"/>
                  </a:cubicBezTo>
                  <a:cubicBezTo>
                    <a:pt x="2305" y="68"/>
                    <a:pt x="2305" y="63"/>
                    <a:pt x="2305" y="63"/>
                  </a:cubicBezTo>
                  <a:cubicBezTo>
                    <a:pt x="2305" y="63"/>
                    <a:pt x="2305" y="63"/>
                    <a:pt x="2305" y="63"/>
                  </a:cubicBezTo>
                  <a:cubicBezTo>
                    <a:pt x="2271" y="63"/>
                    <a:pt x="2254" y="58"/>
                    <a:pt x="2220" y="58"/>
                  </a:cubicBezTo>
                  <a:cubicBezTo>
                    <a:pt x="2220" y="58"/>
                    <a:pt x="2220" y="58"/>
                    <a:pt x="2220" y="58"/>
                  </a:cubicBezTo>
                  <a:cubicBezTo>
                    <a:pt x="2185" y="52"/>
                    <a:pt x="2185" y="58"/>
                    <a:pt x="2168" y="58"/>
                  </a:cubicBezTo>
                  <a:cubicBezTo>
                    <a:pt x="2151" y="58"/>
                    <a:pt x="2134" y="58"/>
                    <a:pt x="2117" y="52"/>
                  </a:cubicBezTo>
                  <a:cubicBezTo>
                    <a:pt x="2117" y="58"/>
                    <a:pt x="2117" y="58"/>
                    <a:pt x="2117" y="58"/>
                  </a:cubicBezTo>
                  <a:cubicBezTo>
                    <a:pt x="2151" y="58"/>
                    <a:pt x="2237" y="68"/>
                    <a:pt x="2271" y="73"/>
                  </a:cubicBezTo>
                  <a:cubicBezTo>
                    <a:pt x="2305" y="68"/>
                    <a:pt x="2459" y="89"/>
                    <a:pt x="2527" y="94"/>
                  </a:cubicBezTo>
                  <a:cubicBezTo>
                    <a:pt x="2527" y="94"/>
                    <a:pt x="2527" y="94"/>
                    <a:pt x="2527" y="94"/>
                  </a:cubicBezTo>
                  <a:cubicBezTo>
                    <a:pt x="2544" y="94"/>
                    <a:pt x="2663" y="105"/>
                    <a:pt x="2681" y="110"/>
                  </a:cubicBezTo>
                  <a:cubicBezTo>
                    <a:pt x="2681" y="115"/>
                    <a:pt x="2681" y="115"/>
                    <a:pt x="2681" y="115"/>
                  </a:cubicBezTo>
                  <a:cubicBezTo>
                    <a:pt x="2646" y="115"/>
                    <a:pt x="2612" y="110"/>
                    <a:pt x="2595" y="110"/>
                  </a:cubicBezTo>
                  <a:cubicBezTo>
                    <a:pt x="2595" y="110"/>
                    <a:pt x="2595" y="110"/>
                    <a:pt x="2595" y="110"/>
                  </a:cubicBezTo>
                  <a:cubicBezTo>
                    <a:pt x="2595" y="110"/>
                    <a:pt x="2612" y="110"/>
                    <a:pt x="2612" y="115"/>
                  </a:cubicBezTo>
                  <a:cubicBezTo>
                    <a:pt x="2612" y="115"/>
                    <a:pt x="2612" y="115"/>
                    <a:pt x="2629" y="115"/>
                  </a:cubicBezTo>
                  <a:cubicBezTo>
                    <a:pt x="2646" y="120"/>
                    <a:pt x="2663" y="120"/>
                    <a:pt x="2681" y="126"/>
                  </a:cubicBezTo>
                  <a:cubicBezTo>
                    <a:pt x="2681" y="131"/>
                    <a:pt x="2681" y="131"/>
                    <a:pt x="2681" y="131"/>
                  </a:cubicBezTo>
                  <a:cubicBezTo>
                    <a:pt x="2646" y="131"/>
                    <a:pt x="2561" y="120"/>
                    <a:pt x="2561" y="110"/>
                  </a:cubicBezTo>
                  <a:cubicBezTo>
                    <a:pt x="2510" y="110"/>
                    <a:pt x="2493" y="105"/>
                    <a:pt x="2459" y="105"/>
                  </a:cubicBezTo>
                  <a:cubicBezTo>
                    <a:pt x="2441" y="94"/>
                    <a:pt x="2390" y="89"/>
                    <a:pt x="2373" y="89"/>
                  </a:cubicBezTo>
                  <a:cubicBezTo>
                    <a:pt x="2373" y="84"/>
                    <a:pt x="2356" y="84"/>
                    <a:pt x="2339" y="84"/>
                  </a:cubicBezTo>
                  <a:cubicBezTo>
                    <a:pt x="2339" y="84"/>
                    <a:pt x="2339" y="84"/>
                    <a:pt x="2339" y="78"/>
                  </a:cubicBezTo>
                  <a:cubicBezTo>
                    <a:pt x="2305" y="78"/>
                    <a:pt x="2271" y="78"/>
                    <a:pt x="2254" y="78"/>
                  </a:cubicBezTo>
                  <a:cubicBezTo>
                    <a:pt x="2254" y="78"/>
                    <a:pt x="2237" y="78"/>
                    <a:pt x="2237" y="78"/>
                  </a:cubicBezTo>
                  <a:cubicBezTo>
                    <a:pt x="2237" y="78"/>
                    <a:pt x="2237" y="73"/>
                    <a:pt x="2237" y="73"/>
                  </a:cubicBezTo>
                  <a:cubicBezTo>
                    <a:pt x="2220" y="73"/>
                    <a:pt x="2202" y="73"/>
                    <a:pt x="2202" y="73"/>
                  </a:cubicBezTo>
                  <a:cubicBezTo>
                    <a:pt x="2185" y="68"/>
                    <a:pt x="2100" y="63"/>
                    <a:pt x="2083" y="63"/>
                  </a:cubicBezTo>
                  <a:cubicBezTo>
                    <a:pt x="2083" y="58"/>
                    <a:pt x="2083" y="52"/>
                    <a:pt x="2083" y="52"/>
                  </a:cubicBezTo>
                  <a:cubicBezTo>
                    <a:pt x="2083" y="52"/>
                    <a:pt x="2066" y="52"/>
                    <a:pt x="2066" y="52"/>
                  </a:cubicBezTo>
                  <a:cubicBezTo>
                    <a:pt x="2066" y="52"/>
                    <a:pt x="2066" y="47"/>
                    <a:pt x="2066" y="47"/>
                  </a:cubicBezTo>
                  <a:cubicBezTo>
                    <a:pt x="1929" y="42"/>
                    <a:pt x="1468" y="21"/>
                    <a:pt x="1383" y="42"/>
                  </a:cubicBezTo>
                  <a:cubicBezTo>
                    <a:pt x="1417" y="42"/>
                    <a:pt x="1451" y="42"/>
                    <a:pt x="1485" y="42"/>
                  </a:cubicBezTo>
                  <a:cubicBezTo>
                    <a:pt x="1485" y="47"/>
                    <a:pt x="1485" y="47"/>
                    <a:pt x="1485" y="47"/>
                  </a:cubicBezTo>
                  <a:cubicBezTo>
                    <a:pt x="1537" y="47"/>
                    <a:pt x="1588" y="42"/>
                    <a:pt x="1656" y="42"/>
                  </a:cubicBezTo>
                  <a:cubicBezTo>
                    <a:pt x="1673" y="47"/>
                    <a:pt x="1673" y="52"/>
                    <a:pt x="1690" y="52"/>
                  </a:cubicBezTo>
                  <a:cubicBezTo>
                    <a:pt x="1690" y="52"/>
                    <a:pt x="1690" y="52"/>
                    <a:pt x="1690" y="52"/>
                  </a:cubicBezTo>
                  <a:cubicBezTo>
                    <a:pt x="1707" y="52"/>
                    <a:pt x="1707" y="47"/>
                    <a:pt x="1707" y="47"/>
                  </a:cubicBezTo>
                  <a:cubicBezTo>
                    <a:pt x="1724" y="47"/>
                    <a:pt x="1963" y="42"/>
                    <a:pt x="1946" y="58"/>
                  </a:cubicBezTo>
                  <a:cubicBezTo>
                    <a:pt x="1895" y="58"/>
                    <a:pt x="1861" y="58"/>
                    <a:pt x="1827" y="58"/>
                  </a:cubicBezTo>
                  <a:cubicBezTo>
                    <a:pt x="1776" y="58"/>
                    <a:pt x="1724" y="63"/>
                    <a:pt x="1673" y="63"/>
                  </a:cubicBezTo>
                  <a:cubicBezTo>
                    <a:pt x="1673" y="63"/>
                    <a:pt x="1622" y="63"/>
                    <a:pt x="1588" y="63"/>
                  </a:cubicBezTo>
                  <a:cubicBezTo>
                    <a:pt x="1588" y="58"/>
                    <a:pt x="1537" y="63"/>
                    <a:pt x="1537" y="63"/>
                  </a:cubicBezTo>
                  <a:cubicBezTo>
                    <a:pt x="1537" y="58"/>
                    <a:pt x="1537" y="58"/>
                    <a:pt x="1537" y="58"/>
                  </a:cubicBezTo>
                  <a:cubicBezTo>
                    <a:pt x="1502" y="63"/>
                    <a:pt x="1451" y="63"/>
                    <a:pt x="1434" y="63"/>
                  </a:cubicBezTo>
                  <a:cubicBezTo>
                    <a:pt x="1434" y="63"/>
                    <a:pt x="1417" y="63"/>
                    <a:pt x="1417" y="63"/>
                  </a:cubicBezTo>
                  <a:cubicBezTo>
                    <a:pt x="1417" y="63"/>
                    <a:pt x="1417" y="63"/>
                    <a:pt x="1400" y="63"/>
                  </a:cubicBezTo>
                  <a:cubicBezTo>
                    <a:pt x="1400" y="68"/>
                    <a:pt x="1400" y="68"/>
                    <a:pt x="1400" y="73"/>
                  </a:cubicBezTo>
                  <a:cubicBezTo>
                    <a:pt x="1400" y="68"/>
                    <a:pt x="1400" y="68"/>
                    <a:pt x="1383" y="68"/>
                  </a:cubicBezTo>
                  <a:cubicBezTo>
                    <a:pt x="1349" y="68"/>
                    <a:pt x="1298" y="58"/>
                    <a:pt x="1280" y="68"/>
                  </a:cubicBezTo>
                  <a:cubicBezTo>
                    <a:pt x="1263" y="68"/>
                    <a:pt x="1246" y="63"/>
                    <a:pt x="1229" y="68"/>
                  </a:cubicBezTo>
                  <a:cubicBezTo>
                    <a:pt x="1195" y="73"/>
                    <a:pt x="1144" y="73"/>
                    <a:pt x="1093" y="78"/>
                  </a:cubicBezTo>
                  <a:cubicBezTo>
                    <a:pt x="1041" y="84"/>
                    <a:pt x="922" y="84"/>
                    <a:pt x="888" y="89"/>
                  </a:cubicBezTo>
                  <a:cubicBezTo>
                    <a:pt x="837" y="105"/>
                    <a:pt x="410" y="126"/>
                    <a:pt x="427" y="157"/>
                  </a:cubicBezTo>
                  <a:cubicBezTo>
                    <a:pt x="444" y="157"/>
                    <a:pt x="461" y="157"/>
                    <a:pt x="478" y="157"/>
                  </a:cubicBezTo>
                  <a:cubicBezTo>
                    <a:pt x="444" y="162"/>
                    <a:pt x="427" y="162"/>
                    <a:pt x="393" y="162"/>
                  </a:cubicBezTo>
                  <a:cubicBezTo>
                    <a:pt x="393" y="162"/>
                    <a:pt x="393" y="162"/>
                    <a:pt x="393" y="157"/>
                  </a:cubicBezTo>
                  <a:cubicBezTo>
                    <a:pt x="393" y="157"/>
                    <a:pt x="393" y="157"/>
                    <a:pt x="393" y="157"/>
                  </a:cubicBezTo>
                  <a:cubicBezTo>
                    <a:pt x="359" y="162"/>
                    <a:pt x="359" y="173"/>
                    <a:pt x="341" y="178"/>
                  </a:cubicBezTo>
                  <a:cubicBezTo>
                    <a:pt x="307" y="152"/>
                    <a:pt x="154" y="204"/>
                    <a:pt x="102" y="199"/>
                  </a:cubicBezTo>
                  <a:cubicBezTo>
                    <a:pt x="68" y="194"/>
                    <a:pt x="51" y="215"/>
                    <a:pt x="51" y="220"/>
                  </a:cubicBezTo>
                  <a:cubicBezTo>
                    <a:pt x="51" y="220"/>
                    <a:pt x="34" y="220"/>
                    <a:pt x="17" y="220"/>
                  </a:cubicBezTo>
                  <a:cubicBezTo>
                    <a:pt x="17" y="215"/>
                    <a:pt x="17" y="210"/>
                    <a:pt x="17" y="199"/>
                  </a:cubicBezTo>
                  <a:cubicBezTo>
                    <a:pt x="17" y="199"/>
                    <a:pt x="0" y="199"/>
                    <a:pt x="0" y="199"/>
                  </a:cubicBezTo>
                  <a:cubicBezTo>
                    <a:pt x="17" y="194"/>
                    <a:pt x="17" y="194"/>
                    <a:pt x="34" y="189"/>
                  </a:cubicBezTo>
                  <a:cubicBezTo>
                    <a:pt x="34" y="189"/>
                    <a:pt x="34" y="189"/>
                    <a:pt x="34" y="189"/>
                  </a:cubicBezTo>
                  <a:cubicBezTo>
                    <a:pt x="51" y="178"/>
                    <a:pt x="120" y="152"/>
                    <a:pt x="171" y="14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rot="16200000">
              <a:off x="5380200" y="2070720"/>
              <a:ext cx="9360" cy="252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1"/>
                    <a:pt x="0" y="1"/>
                    <a:pt x="0" y="1"/>
                  </a:cubicBezTo>
                  <a:cubicBezTo>
                    <a:pt x="0" y="1"/>
                    <a:pt x="0" y="1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rot="16200000">
              <a:off x="5167800" y="2040480"/>
              <a:ext cx="21240" cy="96840"/>
            </a:xfrm>
            <a:custGeom>
              <a:avLst/>
              <a:gdLst/>
              <a:ahLst/>
              <a:rect l="l" t="t" r="r" b="b"/>
              <a:pathLst>
                <a:path w="2" h="4">
                  <a:moveTo>
                    <a:pt x="0" y="4"/>
                  </a:moveTo>
                  <a:cubicBezTo>
                    <a:pt x="0" y="3"/>
                    <a:pt x="1" y="1"/>
                    <a:pt x="2" y="0"/>
                  </a:cubicBezTo>
                  <a:cubicBezTo>
                    <a:pt x="2" y="0"/>
                    <a:pt x="2" y="1"/>
                    <a:pt x="2" y="1"/>
                  </a:cubicBezTo>
                  <a:cubicBezTo>
                    <a:pt x="1" y="2"/>
                    <a:pt x="1" y="4"/>
                    <a:pt x="0" y="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rot="16200000">
              <a:off x="4971960" y="2023920"/>
              <a:ext cx="2124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1" y="1"/>
                    <a:pt x="1" y="0"/>
                  </a:cubicBezTo>
                  <a:cubicBezTo>
                    <a:pt x="1" y="0"/>
                    <a:pt x="1" y="0"/>
                    <a:pt x="2" y="1"/>
                  </a:cubicBezTo>
                  <a:cubicBezTo>
                    <a:pt x="1" y="1"/>
                    <a:pt x="1" y="1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rot="16200000">
              <a:off x="4876200" y="2005920"/>
              <a:ext cx="19080" cy="48240"/>
            </a:xfrm>
            <a:custGeom>
              <a:avLst/>
              <a:gdLst/>
              <a:ahLst/>
              <a:rect l="l" t="t" r="r" b="b"/>
              <a:pathLst>
                <a:path w="2" h="2">
                  <a:moveTo>
                    <a:pt x="0" y="2"/>
                  </a:moveTo>
                  <a:cubicBezTo>
                    <a:pt x="0" y="1"/>
                    <a:pt x="0" y="1"/>
                    <a:pt x="0" y="1"/>
                  </a:cubicBezTo>
                  <a:cubicBezTo>
                    <a:pt x="1" y="1"/>
                    <a:pt x="1" y="0"/>
                    <a:pt x="2" y="0"/>
                  </a:cubicBezTo>
                  <a:cubicBezTo>
                    <a:pt x="1" y="1"/>
                    <a:pt x="0" y="2"/>
                    <a:pt x="0" y="2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6200000">
              <a:off x="4547520" y="1888560"/>
              <a:ext cx="19080" cy="12096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0" y="3"/>
                    <a:pt x="1" y="2"/>
                    <a:pt x="1" y="1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2" y="1"/>
                    <a:pt x="2" y="3"/>
                    <a:pt x="1" y="5"/>
                  </a:cubicBezTo>
                  <a:cubicBezTo>
                    <a:pt x="0" y="5"/>
                    <a:pt x="0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rot="16200000">
              <a:off x="4400640" y="1866240"/>
              <a:ext cx="20880" cy="122400"/>
            </a:xfrm>
            <a:custGeom>
              <a:avLst/>
              <a:gdLst/>
              <a:ahLst/>
              <a:rect l="l" t="t" r="r" b="b"/>
              <a:pathLst>
                <a:path w="2" h="5">
                  <a:moveTo>
                    <a:pt x="0" y="5"/>
                  </a:moveTo>
                  <a:cubicBezTo>
                    <a:pt x="1" y="4"/>
                    <a:pt x="2" y="1"/>
                    <a:pt x="2" y="0"/>
                  </a:cubicBezTo>
                  <a:cubicBezTo>
                    <a:pt x="2" y="1"/>
                    <a:pt x="2" y="3"/>
                    <a:pt x="2" y="4"/>
                  </a:cubicBezTo>
                  <a:cubicBezTo>
                    <a:pt x="1" y="5"/>
                    <a:pt x="1" y="5"/>
                    <a:pt x="0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rot="16200000">
              <a:off x="4273560" y="1823400"/>
              <a:ext cx="30960" cy="120960"/>
            </a:xfrm>
            <a:custGeom>
              <a:avLst/>
              <a:gdLst/>
              <a:ahLst/>
              <a:rect l="l" t="t" r="r" b="b"/>
              <a:pathLst>
                <a:path w="3" h="5">
                  <a:moveTo>
                    <a:pt x="1" y="5"/>
                  </a:moveTo>
                  <a:cubicBezTo>
                    <a:pt x="1" y="4"/>
                    <a:pt x="2" y="0"/>
                    <a:pt x="3" y="1"/>
                  </a:cubicBezTo>
                  <a:cubicBezTo>
                    <a:pt x="2" y="2"/>
                    <a:pt x="2" y="3"/>
                    <a:pt x="2" y="4"/>
                  </a:cubicBezTo>
                  <a:cubicBezTo>
                    <a:pt x="0" y="4"/>
                    <a:pt x="1" y="5"/>
                    <a:pt x="1" y="5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rot="16200000">
              <a:off x="4211280" y="1855800"/>
              <a:ext cx="9720" cy="7272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1" y="0"/>
                  </a:cubicBezTo>
                  <a:cubicBezTo>
                    <a:pt x="1" y="1"/>
                    <a:pt x="0" y="2"/>
                    <a:pt x="0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rot="16200000">
              <a:off x="4061880" y="1724400"/>
              <a:ext cx="40320" cy="243720"/>
            </a:xfrm>
            <a:custGeom>
              <a:avLst/>
              <a:gdLst/>
              <a:ahLst/>
              <a:rect l="l" t="t" r="r" b="b"/>
              <a:pathLst>
                <a:path w="4" h="10">
                  <a:moveTo>
                    <a:pt x="2" y="10"/>
                  </a:moveTo>
                  <a:cubicBezTo>
                    <a:pt x="1" y="8"/>
                    <a:pt x="1" y="7"/>
                    <a:pt x="1" y="6"/>
                  </a:cubicBezTo>
                  <a:cubicBezTo>
                    <a:pt x="2" y="6"/>
                    <a:pt x="0" y="0"/>
                    <a:pt x="4" y="0"/>
                  </a:cubicBezTo>
                  <a:cubicBezTo>
                    <a:pt x="4" y="3"/>
                    <a:pt x="3" y="6"/>
                    <a:pt x="2" y="9"/>
                  </a:cubicBezTo>
                  <a:cubicBezTo>
                    <a:pt x="2" y="9"/>
                    <a:pt x="2" y="10"/>
                    <a:pt x="2" y="10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rot="16200000">
              <a:off x="2345760" y="1741680"/>
              <a:ext cx="40320" cy="413280"/>
            </a:xfrm>
            <a:custGeom>
              <a:avLst/>
              <a:gdLst/>
              <a:ahLst/>
              <a:rect l="l" t="t" r="r" b="b"/>
              <a:pathLst>
                <a:path w="4" h="17">
                  <a:moveTo>
                    <a:pt x="3" y="17"/>
                  </a:moveTo>
                  <a:cubicBezTo>
                    <a:pt x="3" y="16"/>
                    <a:pt x="3" y="16"/>
                    <a:pt x="3" y="15"/>
                  </a:cubicBezTo>
                  <a:cubicBezTo>
                    <a:pt x="2" y="15"/>
                    <a:pt x="3" y="14"/>
                    <a:pt x="3" y="13"/>
                  </a:cubicBezTo>
                  <a:cubicBezTo>
                    <a:pt x="1" y="12"/>
                    <a:pt x="0" y="6"/>
                    <a:pt x="1" y="5"/>
                  </a:cubicBezTo>
                  <a:cubicBezTo>
                    <a:pt x="0" y="5"/>
                    <a:pt x="0" y="0"/>
                    <a:pt x="0" y="0"/>
                  </a:cubicBezTo>
                  <a:cubicBezTo>
                    <a:pt x="0" y="0"/>
                    <a:pt x="1" y="1"/>
                    <a:pt x="1" y="3"/>
                  </a:cubicBezTo>
                  <a:cubicBezTo>
                    <a:pt x="1" y="3"/>
                    <a:pt x="1" y="4"/>
                    <a:pt x="1" y="5"/>
                  </a:cubicBezTo>
                  <a:cubicBezTo>
                    <a:pt x="2" y="5"/>
                    <a:pt x="2" y="6"/>
                    <a:pt x="2" y="6"/>
                  </a:cubicBezTo>
                  <a:cubicBezTo>
                    <a:pt x="2" y="9"/>
                    <a:pt x="4" y="13"/>
                    <a:pt x="4" y="17"/>
                  </a:cubicBezTo>
                  <a:cubicBezTo>
                    <a:pt x="3" y="17"/>
                    <a:pt x="3" y="17"/>
                    <a:pt x="3" y="17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rot="16200000">
              <a:off x="2118240" y="196128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1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0" y="0"/>
                    <a:pt x="1" y="0"/>
                    <a:pt x="1" y="0"/>
                  </a:cubicBezTo>
                  <a:cubicBezTo>
                    <a:pt x="1" y="0"/>
                    <a:pt x="1" y="0"/>
                    <a:pt x="0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rot="16200000">
              <a:off x="1884240" y="1815480"/>
              <a:ext cx="39960" cy="365040"/>
            </a:xfrm>
            <a:custGeom>
              <a:avLst/>
              <a:gdLst/>
              <a:ahLst/>
              <a:rect l="l" t="t" r="r" b="b"/>
              <a:pathLst>
                <a:path w="4" h="15">
                  <a:moveTo>
                    <a:pt x="3" y="14"/>
                  </a:moveTo>
                  <a:cubicBezTo>
                    <a:pt x="3" y="13"/>
                    <a:pt x="3" y="13"/>
                    <a:pt x="3" y="13"/>
                  </a:cubicBezTo>
                  <a:cubicBezTo>
                    <a:pt x="2" y="12"/>
                    <a:pt x="0" y="0"/>
                    <a:pt x="0" y="0"/>
                  </a:cubicBezTo>
                  <a:cubicBezTo>
                    <a:pt x="2" y="1"/>
                    <a:pt x="2" y="11"/>
                    <a:pt x="4" y="13"/>
                  </a:cubicBezTo>
                  <a:cubicBezTo>
                    <a:pt x="4" y="13"/>
                    <a:pt x="4" y="14"/>
                    <a:pt x="4" y="14"/>
                  </a:cubicBezTo>
                  <a:cubicBezTo>
                    <a:pt x="3" y="15"/>
                    <a:pt x="3" y="15"/>
                    <a:pt x="3" y="14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rot="16200000">
              <a:off x="1655640" y="1995840"/>
              <a:ext cx="9360" cy="74160"/>
            </a:xfrm>
            <a:custGeom>
              <a:avLst/>
              <a:gdLst/>
              <a:ahLst/>
              <a:rect l="l" t="t" r="r" b="b"/>
              <a:pathLst>
                <a:path w="1" h="3">
                  <a:moveTo>
                    <a:pt x="1" y="3"/>
                  </a:moveTo>
                  <a:cubicBezTo>
                    <a:pt x="0" y="1"/>
                    <a:pt x="0" y="0"/>
                    <a:pt x="1" y="1"/>
                  </a:cubicBezTo>
                  <a:cubicBezTo>
                    <a:pt x="1" y="2"/>
                    <a:pt x="1" y="2"/>
                    <a:pt x="1" y="3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 rot="16200000">
              <a:off x="1533600" y="2052000"/>
              <a:ext cx="9360" cy="2412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1" y="1"/>
                  </a:moveTo>
                  <a:cubicBezTo>
                    <a:pt x="0" y="0"/>
                    <a:pt x="0" y="0"/>
                    <a:pt x="1" y="0"/>
                  </a:cubicBezTo>
                  <a:cubicBezTo>
                    <a:pt x="1" y="0"/>
                    <a:pt x="1" y="1"/>
                    <a:pt x="1" y="1"/>
                  </a:cubicBezTo>
                </a:path>
              </a:pathLst>
            </a:custGeom>
            <a:solidFill>
              <a:srgbClr val="00a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324496"/>
                </a:solidFill>
                <a:latin typeface="Arial"/>
              </a:endParaRPr>
            </a:p>
          </p:txBody>
        </p:sp>
      </p:grpSp>
      <p:graphicFrame>
        <p:nvGraphicFramePr>
          <p:cNvPr id="310" name=""/>
          <p:cNvGraphicFramePr/>
          <p:nvPr/>
        </p:nvGraphicFramePr>
        <p:xfrm>
          <a:off x="1697040" y="2732040"/>
          <a:ext cx="6540480" cy="1654200"/>
        </p:xfrm>
        <a:graphic>
          <a:graphicData uri="http://schemas.openxmlformats.org/drawingml/2006/table">
            <a:tbl>
              <a:tblPr/>
              <a:tblGrid>
                <a:gridCol w="1727280"/>
                <a:gridCol w="4813200"/>
              </a:tblGrid>
              <a:tr h="506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1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Electrabel w skróc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Część 2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a8ec"/>
                          </a:solidFill>
                          <a:latin typeface="Arial Black"/>
                        </a:rPr>
                        <a:t>Współpraca odbiorcy ze sprzedawcą i dystrybutorem w Polsc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05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Część 3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324496"/>
                          </a:solidFill>
                          <a:latin typeface="Arial Black"/>
                        </a:rPr>
                        <a:t>Podsumowanie</a:t>
                      </a:r>
                      <a:endParaRPr b="0" lang="en-US" sz="1800" spc="-1" strike="noStrike">
                        <a:solidFill>
                          <a:srgbClr val="32449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34A3-3DDA-4F0E-B865-FF323B5235F0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Uczestnicy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0" name=""/>
          <p:cNvCxnSpPr>
            <a:stCxn id="351" idx="4"/>
            <a:endCxn id="349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2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57840" y="1325520"/>
            <a:ext cx="332280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P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Przesyłow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4" name=""/>
          <p:cNvCxnSpPr>
            <a:stCxn id="353" idx="1"/>
            <a:endCxn id="352" idx="0"/>
          </p:cNvCxnSpPr>
          <p:nvPr/>
        </p:nvCxnSpPr>
        <p:spPr>
          <a:xfrm flipV="1" rot="10800000">
            <a:off x="4307760" y="1596600"/>
            <a:ext cx="1450080" cy="140400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5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58" name=""/>
          <p:cNvCxnSpPr>
            <a:stCxn id="355" idx="2"/>
            <a:endCxn id="357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9" name=""/>
          <p:cNvSpPr/>
          <p:nvPr/>
        </p:nvSpPr>
        <p:spPr>
          <a:xfrm>
            <a:off x="5757840" y="639720"/>
            <a:ext cx="3462480" cy="5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OSD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Operator Systemu Dystrybucyj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360" name=""/>
          <p:cNvCxnSpPr>
            <a:stCxn id="359" idx="1"/>
            <a:endCxn id="356" idx="0"/>
          </p:cNvCxnSpPr>
          <p:nvPr/>
        </p:nvCxnSpPr>
        <p:spPr>
          <a:xfrm flipV="1" rot="10800000">
            <a:off x="2393280" y="910800"/>
            <a:ext cx="3364560" cy="305352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351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85AC-EA5F-4B41-9054-9A65C1B7FAA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0080" y="99720"/>
            <a:ext cx="9043920" cy="7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Współpraca odbiorcy ze sprzedawcą i dystrybutorem w Polsce</a:t>
            </a:r>
            <a:br>
              <a:rPr sz="2000"/>
            </a:br>
            <a:r>
              <a:rPr b="1" lang="pl-PL" sz="2000" spc="-1" strike="noStrike" u="sng">
                <a:solidFill>
                  <a:srgbClr val="324496"/>
                </a:solidFill>
                <a:uFillTx/>
                <a:latin typeface="Arial"/>
              </a:rPr>
              <a:t>Odbiorca - Sprzedawca</a:t>
            </a:r>
            <a:endParaRPr b="1" lang="en-US" sz="2000" spc="-1" strike="noStrike" u="sng">
              <a:solidFill>
                <a:srgbClr val="324496"/>
              </a:solidFill>
              <a:uFillTx/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565280" y="1241280"/>
            <a:ext cx="799920" cy="1062360"/>
          </a:xfrm>
          <a:custGeom>
            <a:avLst/>
            <a:gdLst/>
            <a:ahLst/>
            <a:rect l="l" t="t" r="r" b="b"/>
            <a:pathLst>
              <a:path w="928" h="1259">
                <a:moveTo>
                  <a:pt x="15" y="345"/>
                </a:moveTo>
                <a:lnTo>
                  <a:pt x="0" y="360"/>
                </a:lnTo>
                <a:lnTo>
                  <a:pt x="0" y="390"/>
                </a:lnTo>
                <a:lnTo>
                  <a:pt x="30" y="390"/>
                </a:lnTo>
                <a:lnTo>
                  <a:pt x="45" y="449"/>
                </a:lnTo>
                <a:lnTo>
                  <a:pt x="15" y="464"/>
                </a:lnTo>
                <a:lnTo>
                  <a:pt x="15" y="494"/>
                </a:lnTo>
                <a:lnTo>
                  <a:pt x="45" y="509"/>
                </a:lnTo>
                <a:lnTo>
                  <a:pt x="15" y="554"/>
                </a:lnTo>
                <a:lnTo>
                  <a:pt x="45" y="554"/>
                </a:lnTo>
                <a:lnTo>
                  <a:pt x="60" y="584"/>
                </a:lnTo>
                <a:lnTo>
                  <a:pt x="60" y="599"/>
                </a:lnTo>
                <a:lnTo>
                  <a:pt x="105" y="644"/>
                </a:lnTo>
                <a:lnTo>
                  <a:pt x="105" y="659"/>
                </a:lnTo>
                <a:lnTo>
                  <a:pt x="105" y="704"/>
                </a:lnTo>
                <a:lnTo>
                  <a:pt x="135" y="734"/>
                </a:lnTo>
                <a:lnTo>
                  <a:pt x="165" y="749"/>
                </a:lnTo>
                <a:lnTo>
                  <a:pt x="165" y="794"/>
                </a:lnTo>
                <a:lnTo>
                  <a:pt x="240" y="854"/>
                </a:lnTo>
                <a:lnTo>
                  <a:pt x="195" y="884"/>
                </a:lnTo>
                <a:lnTo>
                  <a:pt x="180" y="929"/>
                </a:lnTo>
                <a:lnTo>
                  <a:pt x="165" y="989"/>
                </a:lnTo>
                <a:lnTo>
                  <a:pt x="150" y="1019"/>
                </a:lnTo>
                <a:lnTo>
                  <a:pt x="120" y="1064"/>
                </a:lnTo>
                <a:lnTo>
                  <a:pt x="105" y="1109"/>
                </a:lnTo>
                <a:lnTo>
                  <a:pt x="90" y="1139"/>
                </a:lnTo>
                <a:lnTo>
                  <a:pt x="30" y="1139"/>
                </a:lnTo>
                <a:lnTo>
                  <a:pt x="30" y="1169"/>
                </a:lnTo>
                <a:lnTo>
                  <a:pt x="90" y="1154"/>
                </a:lnTo>
                <a:lnTo>
                  <a:pt x="135" y="1154"/>
                </a:lnTo>
                <a:lnTo>
                  <a:pt x="195" y="1169"/>
                </a:lnTo>
                <a:lnTo>
                  <a:pt x="225" y="1214"/>
                </a:lnTo>
                <a:lnTo>
                  <a:pt x="240" y="1244"/>
                </a:lnTo>
                <a:lnTo>
                  <a:pt x="270" y="1244"/>
                </a:lnTo>
                <a:lnTo>
                  <a:pt x="270" y="1259"/>
                </a:lnTo>
                <a:lnTo>
                  <a:pt x="344" y="1229"/>
                </a:lnTo>
                <a:lnTo>
                  <a:pt x="359" y="1184"/>
                </a:lnTo>
                <a:lnTo>
                  <a:pt x="359" y="1154"/>
                </a:lnTo>
                <a:lnTo>
                  <a:pt x="344" y="1124"/>
                </a:lnTo>
                <a:lnTo>
                  <a:pt x="344" y="1079"/>
                </a:lnTo>
                <a:lnTo>
                  <a:pt x="374" y="1094"/>
                </a:lnTo>
                <a:lnTo>
                  <a:pt x="389" y="1124"/>
                </a:lnTo>
                <a:lnTo>
                  <a:pt x="434" y="1109"/>
                </a:lnTo>
                <a:lnTo>
                  <a:pt x="479" y="1094"/>
                </a:lnTo>
                <a:lnTo>
                  <a:pt x="509" y="1094"/>
                </a:lnTo>
                <a:lnTo>
                  <a:pt x="569" y="1064"/>
                </a:lnTo>
                <a:lnTo>
                  <a:pt x="569" y="1049"/>
                </a:lnTo>
                <a:lnTo>
                  <a:pt x="599" y="1049"/>
                </a:lnTo>
                <a:lnTo>
                  <a:pt x="629" y="1004"/>
                </a:lnTo>
                <a:lnTo>
                  <a:pt x="659" y="1004"/>
                </a:lnTo>
                <a:lnTo>
                  <a:pt x="748" y="1004"/>
                </a:lnTo>
                <a:lnTo>
                  <a:pt x="763" y="974"/>
                </a:lnTo>
                <a:lnTo>
                  <a:pt x="778" y="929"/>
                </a:lnTo>
                <a:lnTo>
                  <a:pt x="793" y="899"/>
                </a:lnTo>
                <a:lnTo>
                  <a:pt x="808" y="869"/>
                </a:lnTo>
                <a:lnTo>
                  <a:pt x="853" y="854"/>
                </a:lnTo>
                <a:lnTo>
                  <a:pt x="883" y="839"/>
                </a:lnTo>
                <a:lnTo>
                  <a:pt x="883" y="809"/>
                </a:lnTo>
                <a:lnTo>
                  <a:pt x="883" y="749"/>
                </a:lnTo>
                <a:lnTo>
                  <a:pt x="883" y="719"/>
                </a:lnTo>
                <a:lnTo>
                  <a:pt x="928" y="704"/>
                </a:lnTo>
                <a:lnTo>
                  <a:pt x="898" y="674"/>
                </a:lnTo>
                <a:lnTo>
                  <a:pt x="898" y="659"/>
                </a:lnTo>
                <a:lnTo>
                  <a:pt x="883" y="629"/>
                </a:lnTo>
                <a:lnTo>
                  <a:pt x="928" y="629"/>
                </a:lnTo>
                <a:lnTo>
                  <a:pt x="913" y="599"/>
                </a:lnTo>
                <a:lnTo>
                  <a:pt x="883" y="569"/>
                </a:lnTo>
                <a:lnTo>
                  <a:pt x="868" y="524"/>
                </a:lnTo>
                <a:lnTo>
                  <a:pt x="868" y="494"/>
                </a:lnTo>
                <a:lnTo>
                  <a:pt x="838" y="524"/>
                </a:lnTo>
                <a:lnTo>
                  <a:pt x="823" y="494"/>
                </a:lnTo>
                <a:lnTo>
                  <a:pt x="823" y="464"/>
                </a:lnTo>
                <a:lnTo>
                  <a:pt x="838" y="404"/>
                </a:lnTo>
                <a:lnTo>
                  <a:pt x="823" y="360"/>
                </a:lnTo>
                <a:lnTo>
                  <a:pt x="808" y="300"/>
                </a:lnTo>
                <a:lnTo>
                  <a:pt x="793" y="270"/>
                </a:lnTo>
                <a:lnTo>
                  <a:pt x="793" y="180"/>
                </a:lnTo>
                <a:lnTo>
                  <a:pt x="748" y="180"/>
                </a:lnTo>
                <a:lnTo>
                  <a:pt x="718" y="165"/>
                </a:lnTo>
                <a:lnTo>
                  <a:pt x="703" y="120"/>
                </a:lnTo>
                <a:lnTo>
                  <a:pt x="703" y="90"/>
                </a:lnTo>
                <a:lnTo>
                  <a:pt x="718" y="60"/>
                </a:lnTo>
                <a:lnTo>
                  <a:pt x="674" y="0"/>
                </a:lnTo>
                <a:lnTo>
                  <a:pt x="584" y="90"/>
                </a:lnTo>
                <a:lnTo>
                  <a:pt x="494" y="210"/>
                </a:lnTo>
                <a:lnTo>
                  <a:pt x="329" y="255"/>
                </a:lnTo>
                <a:lnTo>
                  <a:pt x="210" y="270"/>
                </a:lnTo>
                <a:lnTo>
                  <a:pt x="75" y="330"/>
                </a:lnTo>
                <a:lnTo>
                  <a:pt x="15" y="3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84160" y="1536840"/>
            <a:ext cx="889200" cy="1170000"/>
          </a:xfrm>
          <a:custGeom>
            <a:avLst/>
            <a:gdLst/>
            <a:ahLst/>
            <a:rect l="l" t="t" r="r" b="b"/>
            <a:pathLst>
              <a:path w="1033" h="1393">
                <a:moveTo>
                  <a:pt x="808" y="0"/>
                </a:moveTo>
                <a:lnTo>
                  <a:pt x="793" y="15"/>
                </a:lnTo>
                <a:lnTo>
                  <a:pt x="793" y="45"/>
                </a:lnTo>
                <a:lnTo>
                  <a:pt x="823" y="45"/>
                </a:lnTo>
                <a:lnTo>
                  <a:pt x="823" y="104"/>
                </a:lnTo>
                <a:lnTo>
                  <a:pt x="808" y="119"/>
                </a:lnTo>
                <a:lnTo>
                  <a:pt x="808" y="149"/>
                </a:lnTo>
                <a:lnTo>
                  <a:pt x="838" y="164"/>
                </a:lnTo>
                <a:lnTo>
                  <a:pt x="823" y="194"/>
                </a:lnTo>
                <a:lnTo>
                  <a:pt x="838" y="209"/>
                </a:lnTo>
                <a:lnTo>
                  <a:pt x="853" y="239"/>
                </a:lnTo>
                <a:lnTo>
                  <a:pt x="868" y="254"/>
                </a:lnTo>
                <a:lnTo>
                  <a:pt x="898" y="299"/>
                </a:lnTo>
                <a:lnTo>
                  <a:pt x="898" y="314"/>
                </a:lnTo>
                <a:lnTo>
                  <a:pt x="898" y="359"/>
                </a:lnTo>
                <a:lnTo>
                  <a:pt x="928" y="389"/>
                </a:lnTo>
                <a:lnTo>
                  <a:pt x="958" y="404"/>
                </a:lnTo>
                <a:lnTo>
                  <a:pt x="958" y="434"/>
                </a:lnTo>
                <a:lnTo>
                  <a:pt x="1033" y="509"/>
                </a:lnTo>
                <a:lnTo>
                  <a:pt x="988" y="539"/>
                </a:lnTo>
                <a:lnTo>
                  <a:pt x="973" y="584"/>
                </a:lnTo>
                <a:lnTo>
                  <a:pt x="973" y="644"/>
                </a:lnTo>
                <a:lnTo>
                  <a:pt x="943" y="689"/>
                </a:lnTo>
                <a:lnTo>
                  <a:pt x="913" y="719"/>
                </a:lnTo>
                <a:lnTo>
                  <a:pt x="898" y="764"/>
                </a:lnTo>
                <a:lnTo>
                  <a:pt x="883" y="794"/>
                </a:lnTo>
                <a:lnTo>
                  <a:pt x="823" y="794"/>
                </a:lnTo>
                <a:lnTo>
                  <a:pt x="823" y="839"/>
                </a:lnTo>
                <a:lnTo>
                  <a:pt x="823" y="884"/>
                </a:lnTo>
                <a:lnTo>
                  <a:pt x="808" y="884"/>
                </a:lnTo>
                <a:lnTo>
                  <a:pt x="733" y="869"/>
                </a:lnTo>
                <a:lnTo>
                  <a:pt x="703" y="854"/>
                </a:lnTo>
                <a:lnTo>
                  <a:pt x="703" y="899"/>
                </a:lnTo>
                <a:lnTo>
                  <a:pt x="733" y="914"/>
                </a:lnTo>
                <a:lnTo>
                  <a:pt x="748" y="958"/>
                </a:lnTo>
                <a:lnTo>
                  <a:pt x="718" y="958"/>
                </a:lnTo>
                <a:lnTo>
                  <a:pt x="688" y="988"/>
                </a:lnTo>
                <a:lnTo>
                  <a:pt x="688" y="1003"/>
                </a:lnTo>
                <a:lnTo>
                  <a:pt x="643" y="1003"/>
                </a:lnTo>
                <a:lnTo>
                  <a:pt x="629" y="1033"/>
                </a:lnTo>
                <a:lnTo>
                  <a:pt x="614" y="1063"/>
                </a:lnTo>
                <a:lnTo>
                  <a:pt x="569" y="1033"/>
                </a:lnTo>
                <a:lnTo>
                  <a:pt x="554" y="1063"/>
                </a:lnTo>
                <a:lnTo>
                  <a:pt x="554" y="1108"/>
                </a:lnTo>
                <a:lnTo>
                  <a:pt x="524" y="1108"/>
                </a:lnTo>
                <a:lnTo>
                  <a:pt x="494" y="1093"/>
                </a:lnTo>
                <a:lnTo>
                  <a:pt x="479" y="1078"/>
                </a:lnTo>
                <a:lnTo>
                  <a:pt x="494" y="1063"/>
                </a:lnTo>
                <a:lnTo>
                  <a:pt x="479" y="1033"/>
                </a:lnTo>
                <a:lnTo>
                  <a:pt x="449" y="1048"/>
                </a:lnTo>
                <a:lnTo>
                  <a:pt x="434" y="1063"/>
                </a:lnTo>
                <a:lnTo>
                  <a:pt x="404" y="1063"/>
                </a:lnTo>
                <a:lnTo>
                  <a:pt x="359" y="1063"/>
                </a:lnTo>
                <a:lnTo>
                  <a:pt x="359" y="1093"/>
                </a:lnTo>
                <a:lnTo>
                  <a:pt x="374" y="1138"/>
                </a:lnTo>
                <a:lnTo>
                  <a:pt x="344" y="1168"/>
                </a:lnTo>
                <a:lnTo>
                  <a:pt x="314" y="1228"/>
                </a:lnTo>
                <a:lnTo>
                  <a:pt x="284" y="1288"/>
                </a:lnTo>
                <a:lnTo>
                  <a:pt x="269" y="1318"/>
                </a:lnTo>
                <a:lnTo>
                  <a:pt x="195" y="1363"/>
                </a:lnTo>
                <a:lnTo>
                  <a:pt x="150" y="1393"/>
                </a:lnTo>
                <a:lnTo>
                  <a:pt x="75" y="1318"/>
                </a:lnTo>
                <a:lnTo>
                  <a:pt x="15" y="1258"/>
                </a:lnTo>
                <a:lnTo>
                  <a:pt x="0" y="1198"/>
                </a:lnTo>
                <a:lnTo>
                  <a:pt x="15" y="1138"/>
                </a:lnTo>
                <a:lnTo>
                  <a:pt x="105" y="1033"/>
                </a:lnTo>
                <a:lnTo>
                  <a:pt x="195" y="779"/>
                </a:lnTo>
                <a:lnTo>
                  <a:pt x="150" y="539"/>
                </a:lnTo>
                <a:lnTo>
                  <a:pt x="120" y="389"/>
                </a:lnTo>
                <a:lnTo>
                  <a:pt x="105" y="164"/>
                </a:lnTo>
                <a:lnTo>
                  <a:pt x="165" y="179"/>
                </a:lnTo>
                <a:lnTo>
                  <a:pt x="224" y="194"/>
                </a:lnTo>
                <a:lnTo>
                  <a:pt x="509" y="74"/>
                </a:lnTo>
                <a:lnTo>
                  <a:pt x="68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029040" y="4021200"/>
            <a:ext cx="952560" cy="566640"/>
          </a:xfrm>
          <a:custGeom>
            <a:avLst/>
            <a:gdLst/>
            <a:ahLst/>
            <a:rect l="l" t="t" r="r" b="b"/>
            <a:pathLst>
              <a:path w="1108" h="674">
                <a:moveTo>
                  <a:pt x="539" y="629"/>
                </a:moveTo>
                <a:lnTo>
                  <a:pt x="509" y="644"/>
                </a:lnTo>
                <a:lnTo>
                  <a:pt x="464" y="674"/>
                </a:lnTo>
                <a:lnTo>
                  <a:pt x="434" y="629"/>
                </a:lnTo>
                <a:lnTo>
                  <a:pt x="389" y="629"/>
                </a:lnTo>
                <a:lnTo>
                  <a:pt x="359" y="629"/>
                </a:lnTo>
                <a:lnTo>
                  <a:pt x="329" y="644"/>
                </a:lnTo>
                <a:lnTo>
                  <a:pt x="314" y="629"/>
                </a:lnTo>
                <a:lnTo>
                  <a:pt x="329" y="599"/>
                </a:lnTo>
                <a:lnTo>
                  <a:pt x="284" y="584"/>
                </a:lnTo>
                <a:lnTo>
                  <a:pt x="270" y="584"/>
                </a:lnTo>
                <a:lnTo>
                  <a:pt x="240" y="584"/>
                </a:lnTo>
                <a:lnTo>
                  <a:pt x="180" y="584"/>
                </a:lnTo>
                <a:lnTo>
                  <a:pt x="165" y="569"/>
                </a:lnTo>
                <a:lnTo>
                  <a:pt x="105" y="569"/>
                </a:lnTo>
                <a:lnTo>
                  <a:pt x="75" y="540"/>
                </a:lnTo>
                <a:lnTo>
                  <a:pt x="75" y="510"/>
                </a:lnTo>
                <a:lnTo>
                  <a:pt x="15" y="480"/>
                </a:lnTo>
                <a:lnTo>
                  <a:pt x="0" y="450"/>
                </a:lnTo>
                <a:lnTo>
                  <a:pt x="45" y="405"/>
                </a:lnTo>
                <a:lnTo>
                  <a:pt x="75" y="375"/>
                </a:lnTo>
                <a:lnTo>
                  <a:pt x="30" y="360"/>
                </a:lnTo>
                <a:lnTo>
                  <a:pt x="15" y="330"/>
                </a:lnTo>
                <a:lnTo>
                  <a:pt x="15" y="300"/>
                </a:lnTo>
                <a:lnTo>
                  <a:pt x="30" y="270"/>
                </a:lnTo>
                <a:lnTo>
                  <a:pt x="15" y="270"/>
                </a:lnTo>
                <a:lnTo>
                  <a:pt x="15" y="225"/>
                </a:lnTo>
                <a:lnTo>
                  <a:pt x="45" y="225"/>
                </a:lnTo>
                <a:lnTo>
                  <a:pt x="30" y="210"/>
                </a:lnTo>
                <a:lnTo>
                  <a:pt x="0" y="165"/>
                </a:lnTo>
                <a:lnTo>
                  <a:pt x="0" y="135"/>
                </a:lnTo>
                <a:lnTo>
                  <a:pt x="30" y="105"/>
                </a:lnTo>
                <a:lnTo>
                  <a:pt x="0" y="75"/>
                </a:lnTo>
                <a:lnTo>
                  <a:pt x="15" y="45"/>
                </a:lnTo>
                <a:lnTo>
                  <a:pt x="45" y="75"/>
                </a:lnTo>
                <a:lnTo>
                  <a:pt x="75" y="60"/>
                </a:lnTo>
                <a:lnTo>
                  <a:pt x="120" y="90"/>
                </a:lnTo>
                <a:lnTo>
                  <a:pt x="135" y="45"/>
                </a:lnTo>
                <a:lnTo>
                  <a:pt x="165" y="90"/>
                </a:lnTo>
                <a:lnTo>
                  <a:pt x="210" y="120"/>
                </a:lnTo>
                <a:lnTo>
                  <a:pt x="270" y="120"/>
                </a:lnTo>
                <a:lnTo>
                  <a:pt x="299" y="120"/>
                </a:lnTo>
                <a:lnTo>
                  <a:pt x="329" y="105"/>
                </a:lnTo>
                <a:lnTo>
                  <a:pt x="359" y="105"/>
                </a:lnTo>
                <a:lnTo>
                  <a:pt x="389" y="75"/>
                </a:lnTo>
                <a:lnTo>
                  <a:pt x="389" y="45"/>
                </a:lnTo>
                <a:lnTo>
                  <a:pt x="389" y="0"/>
                </a:lnTo>
                <a:lnTo>
                  <a:pt x="419" y="0"/>
                </a:lnTo>
                <a:lnTo>
                  <a:pt x="449" y="15"/>
                </a:lnTo>
                <a:lnTo>
                  <a:pt x="479" y="15"/>
                </a:lnTo>
                <a:lnTo>
                  <a:pt x="554" y="15"/>
                </a:lnTo>
                <a:lnTo>
                  <a:pt x="584" y="30"/>
                </a:lnTo>
                <a:lnTo>
                  <a:pt x="599" y="60"/>
                </a:lnTo>
                <a:lnTo>
                  <a:pt x="569" y="90"/>
                </a:lnTo>
                <a:lnTo>
                  <a:pt x="569" y="165"/>
                </a:lnTo>
                <a:lnTo>
                  <a:pt x="644" y="165"/>
                </a:lnTo>
                <a:lnTo>
                  <a:pt x="674" y="180"/>
                </a:lnTo>
                <a:lnTo>
                  <a:pt x="733" y="180"/>
                </a:lnTo>
                <a:lnTo>
                  <a:pt x="748" y="195"/>
                </a:lnTo>
                <a:lnTo>
                  <a:pt x="808" y="180"/>
                </a:lnTo>
                <a:lnTo>
                  <a:pt x="838" y="195"/>
                </a:lnTo>
                <a:lnTo>
                  <a:pt x="868" y="195"/>
                </a:lnTo>
                <a:lnTo>
                  <a:pt x="883" y="225"/>
                </a:lnTo>
                <a:lnTo>
                  <a:pt x="943" y="225"/>
                </a:lnTo>
                <a:lnTo>
                  <a:pt x="943" y="255"/>
                </a:lnTo>
                <a:lnTo>
                  <a:pt x="898" y="315"/>
                </a:lnTo>
                <a:lnTo>
                  <a:pt x="973" y="315"/>
                </a:lnTo>
                <a:lnTo>
                  <a:pt x="988" y="330"/>
                </a:lnTo>
                <a:lnTo>
                  <a:pt x="1003" y="375"/>
                </a:lnTo>
                <a:lnTo>
                  <a:pt x="1033" y="375"/>
                </a:lnTo>
                <a:lnTo>
                  <a:pt x="1018" y="405"/>
                </a:lnTo>
                <a:lnTo>
                  <a:pt x="1078" y="405"/>
                </a:lnTo>
                <a:lnTo>
                  <a:pt x="1108" y="435"/>
                </a:lnTo>
                <a:lnTo>
                  <a:pt x="1108" y="450"/>
                </a:lnTo>
                <a:lnTo>
                  <a:pt x="1093" y="480"/>
                </a:lnTo>
                <a:lnTo>
                  <a:pt x="1078" y="525"/>
                </a:lnTo>
                <a:lnTo>
                  <a:pt x="1048" y="525"/>
                </a:lnTo>
                <a:lnTo>
                  <a:pt x="1003" y="540"/>
                </a:lnTo>
                <a:lnTo>
                  <a:pt x="943" y="555"/>
                </a:lnTo>
                <a:lnTo>
                  <a:pt x="928" y="569"/>
                </a:lnTo>
                <a:lnTo>
                  <a:pt x="928" y="614"/>
                </a:lnTo>
                <a:lnTo>
                  <a:pt x="898" y="599"/>
                </a:lnTo>
                <a:lnTo>
                  <a:pt x="793" y="659"/>
                </a:lnTo>
                <a:lnTo>
                  <a:pt x="748" y="614"/>
                </a:lnTo>
                <a:lnTo>
                  <a:pt x="718" y="644"/>
                </a:lnTo>
                <a:lnTo>
                  <a:pt x="674" y="644"/>
                </a:lnTo>
                <a:lnTo>
                  <a:pt x="644" y="644"/>
                </a:lnTo>
                <a:lnTo>
                  <a:pt x="599" y="614"/>
                </a:lnTo>
                <a:lnTo>
                  <a:pt x="569" y="629"/>
                </a:lnTo>
                <a:lnTo>
                  <a:pt x="539" y="6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029040" y="2998800"/>
            <a:ext cx="1288800" cy="1249200"/>
          </a:xfrm>
          <a:custGeom>
            <a:avLst/>
            <a:gdLst/>
            <a:ahLst/>
            <a:rect l="l" t="t" r="r" b="b"/>
            <a:pathLst>
              <a:path w="1497" h="1483">
                <a:moveTo>
                  <a:pt x="958" y="1468"/>
                </a:moveTo>
                <a:lnTo>
                  <a:pt x="928" y="1423"/>
                </a:lnTo>
                <a:lnTo>
                  <a:pt x="883" y="1438"/>
                </a:lnTo>
                <a:lnTo>
                  <a:pt x="853" y="1408"/>
                </a:lnTo>
                <a:lnTo>
                  <a:pt x="823" y="1408"/>
                </a:lnTo>
                <a:lnTo>
                  <a:pt x="793" y="1393"/>
                </a:lnTo>
                <a:lnTo>
                  <a:pt x="763" y="1408"/>
                </a:lnTo>
                <a:lnTo>
                  <a:pt x="733" y="1393"/>
                </a:lnTo>
                <a:lnTo>
                  <a:pt x="659" y="1393"/>
                </a:lnTo>
                <a:lnTo>
                  <a:pt x="644" y="1378"/>
                </a:lnTo>
                <a:lnTo>
                  <a:pt x="599" y="1378"/>
                </a:lnTo>
                <a:lnTo>
                  <a:pt x="569" y="1378"/>
                </a:lnTo>
                <a:lnTo>
                  <a:pt x="569" y="1303"/>
                </a:lnTo>
                <a:lnTo>
                  <a:pt x="599" y="1273"/>
                </a:lnTo>
                <a:lnTo>
                  <a:pt x="584" y="1243"/>
                </a:lnTo>
                <a:lnTo>
                  <a:pt x="524" y="1228"/>
                </a:lnTo>
                <a:lnTo>
                  <a:pt x="449" y="1228"/>
                </a:lnTo>
                <a:lnTo>
                  <a:pt x="389" y="1213"/>
                </a:lnTo>
                <a:lnTo>
                  <a:pt x="389" y="1288"/>
                </a:lnTo>
                <a:lnTo>
                  <a:pt x="374" y="1318"/>
                </a:lnTo>
                <a:lnTo>
                  <a:pt x="314" y="1318"/>
                </a:lnTo>
                <a:lnTo>
                  <a:pt x="299" y="1333"/>
                </a:lnTo>
                <a:lnTo>
                  <a:pt x="255" y="1333"/>
                </a:lnTo>
                <a:lnTo>
                  <a:pt x="210" y="1333"/>
                </a:lnTo>
                <a:lnTo>
                  <a:pt x="150" y="1303"/>
                </a:lnTo>
                <a:lnTo>
                  <a:pt x="135" y="1258"/>
                </a:lnTo>
                <a:lnTo>
                  <a:pt x="120" y="1303"/>
                </a:lnTo>
                <a:lnTo>
                  <a:pt x="90" y="1273"/>
                </a:lnTo>
                <a:lnTo>
                  <a:pt x="45" y="1288"/>
                </a:lnTo>
                <a:lnTo>
                  <a:pt x="15" y="1258"/>
                </a:lnTo>
                <a:lnTo>
                  <a:pt x="30" y="1153"/>
                </a:lnTo>
                <a:lnTo>
                  <a:pt x="60" y="1123"/>
                </a:lnTo>
                <a:lnTo>
                  <a:pt x="60" y="1078"/>
                </a:lnTo>
                <a:lnTo>
                  <a:pt x="75" y="1063"/>
                </a:lnTo>
                <a:lnTo>
                  <a:pt x="30" y="1003"/>
                </a:lnTo>
                <a:lnTo>
                  <a:pt x="0" y="988"/>
                </a:lnTo>
                <a:lnTo>
                  <a:pt x="30" y="928"/>
                </a:lnTo>
                <a:lnTo>
                  <a:pt x="45" y="899"/>
                </a:lnTo>
                <a:lnTo>
                  <a:pt x="30" y="869"/>
                </a:lnTo>
                <a:lnTo>
                  <a:pt x="30" y="719"/>
                </a:lnTo>
                <a:lnTo>
                  <a:pt x="45" y="689"/>
                </a:lnTo>
                <a:lnTo>
                  <a:pt x="60" y="659"/>
                </a:lnTo>
                <a:lnTo>
                  <a:pt x="60" y="614"/>
                </a:lnTo>
                <a:lnTo>
                  <a:pt x="105" y="569"/>
                </a:lnTo>
                <a:lnTo>
                  <a:pt x="165" y="569"/>
                </a:lnTo>
                <a:lnTo>
                  <a:pt x="240" y="569"/>
                </a:lnTo>
                <a:lnTo>
                  <a:pt x="284" y="479"/>
                </a:lnTo>
                <a:lnTo>
                  <a:pt x="314" y="479"/>
                </a:lnTo>
                <a:lnTo>
                  <a:pt x="329" y="404"/>
                </a:lnTo>
                <a:lnTo>
                  <a:pt x="359" y="404"/>
                </a:lnTo>
                <a:lnTo>
                  <a:pt x="389" y="389"/>
                </a:lnTo>
                <a:lnTo>
                  <a:pt x="449" y="389"/>
                </a:lnTo>
                <a:lnTo>
                  <a:pt x="464" y="419"/>
                </a:lnTo>
                <a:lnTo>
                  <a:pt x="524" y="419"/>
                </a:lnTo>
                <a:lnTo>
                  <a:pt x="539" y="419"/>
                </a:lnTo>
                <a:lnTo>
                  <a:pt x="569" y="389"/>
                </a:lnTo>
                <a:lnTo>
                  <a:pt x="629" y="374"/>
                </a:lnTo>
                <a:lnTo>
                  <a:pt x="644" y="404"/>
                </a:lnTo>
                <a:lnTo>
                  <a:pt x="704" y="419"/>
                </a:lnTo>
                <a:lnTo>
                  <a:pt x="778" y="374"/>
                </a:lnTo>
                <a:lnTo>
                  <a:pt x="733" y="314"/>
                </a:lnTo>
                <a:lnTo>
                  <a:pt x="748" y="284"/>
                </a:lnTo>
                <a:lnTo>
                  <a:pt x="838" y="284"/>
                </a:lnTo>
                <a:lnTo>
                  <a:pt x="838" y="254"/>
                </a:lnTo>
                <a:lnTo>
                  <a:pt x="883" y="179"/>
                </a:lnTo>
                <a:lnTo>
                  <a:pt x="928" y="179"/>
                </a:lnTo>
                <a:lnTo>
                  <a:pt x="973" y="179"/>
                </a:lnTo>
                <a:lnTo>
                  <a:pt x="1003" y="149"/>
                </a:lnTo>
                <a:lnTo>
                  <a:pt x="1033" y="149"/>
                </a:lnTo>
                <a:lnTo>
                  <a:pt x="1033" y="119"/>
                </a:lnTo>
                <a:lnTo>
                  <a:pt x="1093" y="119"/>
                </a:lnTo>
                <a:lnTo>
                  <a:pt x="1123" y="89"/>
                </a:lnTo>
                <a:lnTo>
                  <a:pt x="1123" y="59"/>
                </a:lnTo>
                <a:lnTo>
                  <a:pt x="1093" y="30"/>
                </a:lnTo>
                <a:lnTo>
                  <a:pt x="1123" y="30"/>
                </a:lnTo>
                <a:lnTo>
                  <a:pt x="1182" y="0"/>
                </a:lnTo>
                <a:lnTo>
                  <a:pt x="1197" y="44"/>
                </a:lnTo>
                <a:lnTo>
                  <a:pt x="1197" y="89"/>
                </a:lnTo>
                <a:lnTo>
                  <a:pt x="1302" y="149"/>
                </a:lnTo>
                <a:lnTo>
                  <a:pt x="1332" y="209"/>
                </a:lnTo>
                <a:lnTo>
                  <a:pt x="1377" y="209"/>
                </a:lnTo>
                <a:lnTo>
                  <a:pt x="1332" y="254"/>
                </a:lnTo>
                <a:lnTo>
                  <a:pt x="1377" y="269"/>
                </a:lnTo>
                <a:lnTo>
                  <a:pt x="1377" y="314"/>
                </a:lnTo>
                <a:lnTo>
                  <a:pt x="1407" y="329"/>
                </a:lnTo>
                <a:lnTo>
                  <a:pt x="1467" y="329"/>
                </a:lnTo>
                <a:lnTo>
                  <a:pt x="1497" y="344"/>
                </a:lnTo>
                <a:lnTo>
                  <a:pt x="1497" y="374"/>
                </a:lnTo>
                <a:lnTo>
                  <a:pt x="1437" y="434"/>
                </a:lnTo>
                <a:lnTo>
                  <a:pt x="1437" y="479"/>
                </a:lnTo>
                <a:lnTo>
                  <a:pt x="1422" y="509"/>
                </a:lnTo>
                <a:lnTo>
                  <a:pt x="1422" y="539"/>
                </a:lnTo>
                <a:lnTo>
                  <a:pt x="1407" y="569"/>
                </a:lnTo>
                <a:lnTo>
                  <a:pt x="1437" y="614"/>
                </a:lnTo>
                <a:lnTo>
                  <a:pt x="1452" y="659"/>
                </a:lnTo>
                <a:lnTo>
                  <a:pt x="1452" y="719"/>
                </a:lnTo>
                <a:lnTo>
                  <a:pt x="1377" y="719"/>
                </a:lnTo>
                <a:lnTo>
                  <a:pt x="1332" y="689"/>
                </a:lnTo>
                <a:lnTo>
                  <a:pt x="1302" y="704"/>
                </a:lnTo>
                <a:lnTo>
                  <a:pt x="1287" y="719"/>
                </a:lnTo>
                <a:lnTo>
                  <a:pt x="1272" y="749"/>
                </a:lnTo>
                <a:lnTo>
                  <a:pt x="1302" y="779"/>
                </a:lnTo>
                <a:lnTo>
                  <a:pt x="1317" y="824"/>
                </a:lnTo>
                <a:lnTo>
                  <a:pt x="1287" y="884"/>
                </a:lnTo>
                <a:lnTo>
                  <a:pt x="1242" y="884"/>
                </a:lnTo>
                <a:lnTo>
                  <a:pt x="1242" y="913"/>
                </a:lnTo>
                <a:lnTo>
                  <a:pt x="1242" y="943"/>
                </a:lnTo>
                <a:lnTo>
                  <a:pt x="1272" y="958"/>
                </a:lnTo>
                <a:lnTo>
                  <a:pt x="1287" y="988"/>
                </a:lnTo>
                <a:lnTo>
                  <a:pt x="1287" y="1033"/>
                </a:lnTo>
                <a:lnTo>
                  <a:pt x="1287" y="1063"/>
                </a:lnTo>
                <a:lnTo>
                  <a:pt x="1302" y="1093"/>
                </a:lnTo>
                <a:lnTo>
                  <a:pt x="1272" y="1138"/>
                </a:lnTo>
                <a:lnTo>
                  <a:pt x="1257" y="1138"/>
                </a:lnTo>
                <a:lnTo>
                  <a:pt x="1212" y="1138"/>
                </a:lnTo>
                <a:lnTo>
                  <a:pt x="1182" y="1123"/>
                </a:lnTo>
                <a:lnTo>
                  <a:pt x="1182" y="1168"/>
                </a:lnTo>
                <a:lnTo>
                  <a:pt x="1152" y="1198"/>
                </a:lnTo>
                <a:lnTo>
                  <a:pt x="1108" y="1198"/>
                </a:lnTo>
                <a:lnTo>
                  <a:pt x="1138" y="1243"/>
                </a:lnTo>
                <a:lnTo>
                  <a:pt x="1108" y="1288"/>
                </a:lnTo>
                <a:lnTo>
                  <a:pt x="1063" y="1333"/>
                </a:lnTo>
                <a:lnTo>
                  <a:pt x="1078" y="1423"/>
                </a:lnTo>
                <a:lnTo>
                  <a:pt x="1033" y="1483"/>
                </a:lnTo>
                <a:lnTo>
                  <a:pt x="1003" y="1483"/>
                </a:lnTo>
                <a:lnTo>
                  <a:pt x="95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2959200"/>
            <a:ext cx="873000" cy="896760"/>
          </a:xfrm>
          <a:custGeom>
            <a:avLst/>
            <a:gdLst/>
            <a:ahLst/>
            <a:rect l="l" t="t" r="r" b="b"/>
            <a:pathLst>
              <a:path w="1018" h="1063">
                <a:moveTo>
                  <a:pt x="165" y="1063"/>
                </a:moveTo>
                <a:lnTo>
                  <a:pt x="210" y="1018"/>
                </a:lnTo>
                <a:lnTo>
                  <a:pt x="240" y="1003"/>
                </a:lnTo>
                <a:lnTo>
                  <a:pt x="255" y="973"/>
                </a:lnTo>
                <a:lnTo>
                  <a:pt x="300" y="944"/>
                </a:lnTo>
                <a:lnTo>
                  <a:pt x="330" y="929"/>
                </a:lnTo>
                <a:lnTo>
                  <a:pt x="330" y="958"/>
                </a:lnTo>
                <a:lnTo>
                  <a:pt x="360" y="958"/>
                </a:lnTo>
                <a:lnTo>
                  <a:pt x="389" y="988"/>
                </a:lnTo>
                <a:lnTo>
                  <a:pt x="404" y="973"/>
                </a:lnTo>
                <a:lnTo>
                  <a:pt x="404" y="929"/>
                </a:lnTo>
                <a:lnTo>
                  <a:pt x="434" y="914"/>
                </a:lnTo>
                <a:lnTo>
                  <a:pt x="449" y="869"/>
                </a:lnTo>
                <a:lnTo>
                  <a:pt x="509" y="884"/>
                </a:lnTo>
                <a:lnTo>
                  <a:pt x="554" y="914"/>
                </a:lnTo>
                <a:lnTo>
                  <a:pt x="569" y="944"/>
                </a:lnTo>
                <a:lnTo>
                  <a:pt x="554" y="973"/>
                </a:lnTo>
                <a:lnTo>
                  <a:pt x="599" y="973"/>
                </a:lnTo>
                <a:lnTo>
                  <a:pt x="599" y="914"/>
                </a:lnTo>
                <a:lnTo>
                  <a:pt x="614" y="884"/>
                </a:lnTo>
                <a:lnTo>
                  <a:pt x="644" y="854"/>
                </a:lnTo>
                <a:lnTo>
                  <a:pt x="689" y="854"/>
                </a:lnTo>
                <a:lnTo>
                  <a:pt x="704" y="824"/>
                </a:lnTo>
                <a:lnTo>
                  <a:pt x="704" y="779"/>
                </a:lnTo>
                <a:lnTo>
                  <a:pt x="734" y="734"/>
                </a:lnTo>
                <a:lnTo>
                  <a:pt x="734" y="704"/>
                </a:lnTo>
                <a:lnTo>
                  <a:pt x="749" y="674"/>
                </a:lnTo>
                <a:lnTo>
                  <a:pt x="808" y="674"/>
                </a:lnTo>
                <a:lnTo>
                  <a:pt x="808" y="644"/>
                </a:lnTo>
                <a:lnTo>
                  <a:pt x="808" y="629"/>
                </a:lnTo>
                <a:lnTo>
                  <a:pt x="823" y="614"/>
                </a:lnTo>
                <a:lnTo>
                  <a:pt x="868" y="644"/>
                </a:lnTo>
                <a:lnTo>
                  <a:pt x="913" y="659"/>
                </a:lnTo>
                <a:lnTo>
                  <a:pt x="913" y="614"/>
                </a:lnTo>
                <a:lnTo>
                  <a:pt x="928" y="569"/>
                </a:lnTo>
                <a:lnTo>
                  <a:pt x="943" y="539"/>
                </a:lnTo>
                <a:lnTo>
                  <a:pt x="943" y="524"/>
                </a:lnTo>
                <a:lnTo>
                  <a:pt x="913" y="539"/>
                </a:lnTo>
                <a:lnTo>
                  <a:pt x="883" y="509"/>
                </a:lnTo>
                <a:lnTo>
                  <a:pt x="898" y="479"/>
                </a:lnTo>
                <a:lnTo>
                  <a:pt x="913" y="419"/>
                </a:lnTo>
                <a:lnTo>
                  <a:pt x="898" y="404"/>
                </a:lnTo>
                <a:lnTo>
                  <a:pt x="928" y="389"/>
                </a:lnTo>
                <a:lnTo>
                  <a:pt x="988" y="389"/>
                </a:lnTo>
                <a:lnTo>
                  <a:pt x="1018" y="344"/>
                </a:lnTo>
                <a:lnTo>
                  <a:pt x="988" y="314"/>
                </a:lnTo>
                <a:lnTo>
                  <a:pt x="958" y="299"/>
                </a:lnTo>
                <a:lnTo>
                  <a:pt x="943" y="269"/>
                </a:lnTo>
                <a:lnTo>
                  <a:pt x="928" y="239"/>
                </a:lnTo>
                <a:lnTo>
                  <a:pt x="913" y="254"/>
                </a:lnTo>
                <a:lnTo>
                  <a:pt x="883" y="269"/>
                </a:lnTo>
                <a:lnTo>
                  <a:pt x="883" y="239"/>
                </a:lnTo>
                <a:lnTo>
                  <a:pt x="883" y="209"/>
                </a:lnTo>
                <a:lnTo>
                  <a:pt x="868" y="179"/>
                </a:lnTo>
                <a:lnTo>
                  <a:pt x="868" y="149"/>
                </a:lnTo>
                <a:lnTo>
                  <a:pt x="883" y="134"/>
                </a:lnTo>
                <a:lnTo>
                  <a:pt x="868" y="119"/>
                </a:lnTo>
                <a:lnTo>
                  <a:pt x="868" y="104"/>
                </a:lnTo>
                <a:lnTo>
                  <a:pt x="868" y="75"/>
                </a:lnTo>
                <a:lnTo>
                  <a:pt x="823" y="75"/>
                </a:lnTo>
                <a:lnTo>
                  <a:pt x="779" y="104"/>
                </a:lnTo>
                <a:lnTo>
                  <a:pt x="764" y="134"/>
                </a:lnTo>
                <a:lnTo>
                  <a:pt x="749" y="104"/>
                </a:lnTo>
                <a:lnTo>
                  <a:pt x="704" y="119"/>
                </a:lnTo>
                <a:lnTo>
                  <a:pt x="644" y="89"/>
                </a:lnTo>
                <a:lnTo>
                  <a:pt x="614" y="60"/>
                </a:lnTo>
                <a:lnTo>
                  <a:pt x="554" y="60"/>
                </a:lnTo>
                <a:lnTo>
                  <a:pt x="509" y="30"/>
                </a:lnTo>
                <a:lnTo>
                  <a:pt x="449" y="30"/>
                </a:lnTo>
                <a:lnTo>
                  <a:pt x="389" y="30"/>
                </a:lnTo>
                <a:lnTo>
                  <a:pt x="360" y="45"/>
                </a:lnTo>
                <a:lnTo>
                  <a:pt x="345" y="45"/>
                </a:lnTo>
                <a:lnTo>
                  <a:pt x="300" y="45"/>
                </a:lnTo>
                <a:lnTo>
                  <a:pt x="315" y="0"/>
                </a:lnTo>
                <a:lnTo>
                  <a:pt x="270" y="30"/>
                </a:lnTo>
                <a:lnTo>
                  <a:pt x="255" y="15"/>
                </a:lnTo>
                <a:lnTo>
                  <a:pt x="195" y="0"/>
                </a:lnTo>
                <a:lnTo>
                  <a:pt x="180" y="30"/>
                </a:lnTo>
                <a:lnTo>
                  <a:pt x="165" y="60"/>
                </a:lnTo>
                <a:lnTo>
                  <a:pt x="165" y="75"/>
                </a:lnTo>
                <a:lnTo>
                  <a:pt x="120" y="75"/>
                </a:lnTo>
                <a:lnTo>
                  <a:pt x="90" y="104"/>
                </a:lnTo>
                <a:lnTo>
                  <a:pt x="60" y="104"/>
                </a:lnTo>
                <a:lnTo>
                  <a:pt x="30" y="119"/>
                </a:lnTo>
                <a:lnTo>
                  <a:pt x="0" y="149"/>
                </a:lnTo>
                <a:lnTo>
                  <a:pt x="30" y="254"/>
                </a:lnTo>
                <a:lnTo>
                  <a:pt x="60" y="344"/>
                </a:lnTo>
                <a:lnTo>
                  <a:pt x="60" y="434"/>
                </a:lnTo>
                <a:lnTo>
                  <a:pt x="45" y="509"/>
                </a:lnTo>
                <a:lnTo>
                  <a:pt x="15" y="584"/>
                </a:lnTo>
                <a:lnTo>
                  <a:pt x="0" y="599"/>
                </a:lnTo>
                <a:lnTo>
                  <a:pt x="60" y="689"/>
                </a:lnTo>
                <a:lnTo>
                  <a:pt x="75" y="794"/>
                </a:lnTo>
                <a:lnTo>
                  <a:pt x="45" y="869"/>
                </a:lnTo>
                <a:lnTo>
                  <a:pt x="105" y="929"/>
                </a:lnTo>
                <a:lnTo>
                  <a:pt x="135" y="958"/>
                </a:lnTo>
                <a:lnTo>
                  <a:pt x="165" y="1063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1800360" y="1920960"/>
            <a:ext cx="947520" cy="1833480"/>
          </a:xfrm>
          <a:custGeom>
            <a:avLst/>
            <a:gdLst/>
            <a:ahLst/>
            <a:rect l="l" t="t" r="r" b="b"/>
            <a:pathLst>
              <a:path w="1107" h="2173">
                <a:moveTo>
                  <a:pt x="897" y="180"/>
                </a:moveTo>
                <a:lnTo>
                  <a:pt x="867" y="240"/>
                </a:lnTo>
                <a:lnTo>
                  <a:pt x="823" y="270"/>
                </a:lnTo>
                <a:lnTo>
                  <a:pt x="867" y="315"/>
                </a:lnTo>
                <a:lnTo>
                  <a:pt x="882" y="345"/>
                </a:lnTo>
                <a:lnTo>
                  <a:pt x="912" y="405"/>
                </a:lnTo>
                <a:lnTo>
                  <a:pt x="912" y="435"/>
                </a:lnTo>
                <a:lnTo>
                  <a:pt x="853" y="435"/>
                </a:lnTo>
                <a:lnTo>
                  <a:pt x="853" y="524"/>
                </a:lnTo>
                <a:lnTo>
                  <a:pt x="897" y="554"/>
                </a:lnTo>
                <a:lnTo>
                  <a:pt x="867" y="599"/>
                </a:lnTo>
                <a:lnTo>
                  <a:pt x="853" y="674"/>
                </a:lnTo>
                <a:lnTo>
                  <a:pt x="882" y="689"/>
                </a:lnTo>
                <a:lnTo>
                  <a:pt x="957" y="704"/>
                </a:lnTo>
                <a:lnTo>
                  <a:pt x="972" y="749"/>
                </a:lnTo>
                <a:lnTo>
                  <a:pt x="972" y="809"/>
                </a:lnTo>
                <a:lnTo>
                  <a:pt x="972" y="869"/>
                </a:lnTo>
                <a:lnTo>
                  <a:pt x="897" y="884"/>
                </a:lnTo>
                <a:lnTo>
                  <a:pt x="927" y="929"/>
                </a:lnTo>
                <a:lnTo>
                  <a:pt x="957" y="959"/>
                </a:lnTo>
                <a:lnTo>
                  <a:pt x="957" y="989"/>
                </a:lnTo>
                <a:lnTo>
                  <a:pt x="987" y="989"/>
                </a:lnTo>
                <a:lnTo>
                  <a:pt x="1047" y="974"/>
                </a:lnTo>
                <a:lnTo>
                  <a:pt x="1047" y="1019"/>
                </a:lnTo>
                <a:lnTo>
                  <a:pt x="1062" y="1034"/>
                </a:lnTo>
                <a:lnTo>
                  <a:pt x="1062" y="1064"/>
                </a:lnTo>
                <a:lnTo>
                  <a:pt x="1092" y="1079"/>
                </a:lnTo>
                <a:lnTo>
                  <a:pt x="1107" y="1124"/>
                </a:lnTo>
                <a:lnTo>
                  <a:pt x="1092" y="1154"/>
                </a:lnTo>
                <a:lnTo>
                  <a:pt x="1107" y="1229"/>
                </a:lnTo>
                <a:lnTo>
                  <a:pt x="1077" y="1244"/>
                </a:lnTo>
                <a:lnTo>
                  <a:pt x="1047" y="1289"/>
                </a:lnTo>
                <a:lnTo>
                  <a:pt x="1077" y="1363"/>
                </a:lnTo>
                <a:lnTo>
                  <a:pt x="1062" y="1393"/>
                </a:lnTo>
                <a:lnTo>
                  <a:pt x="1107" y="1438"/>
                </a:lnTo>
                <a:lnTo>
                  <a:pt x="1062" y="1468"/>
                </a:lnTo>
                <a:lnTo>
                  <a:pt x="1017" y="1528"/>
                </a:lnTo>
                <a:lnTo>
                  <a:pt x="957" y="1588"/>
                </a:lnTo>
                <a:lnTo>
                  <a:pt x="912" y="1618"/>
                </a:lnTo>
                <a:lnTo>
                  <a:pt x="912" y="1663"/>
                </a:lnTo>
                <a:lnTo>
                  <a:pt x="853" y="1663"/>
                </a:lnTo>
                <a:lnTo>
                  <a:pt x="778" y="1693"/>
                </a:lnTo>
                <a:lnTo>
                  <a:pt x="838" y="1768"/>
                </a:lnTo>
                <a:lnTo>
                  <a:pt x="838" y="1798"/>
                </a:lnTo>
                <a:lnTo>
                  <a:pt x="853" y="1843"/>
                </a:lnTo>
                <a:lnTo>
                  <a:pt x="853" y="1888"/>
                </a:lnTo>
                <a:lnTo>
                  <a:pt x="838" y="1918"/>
                </a:lnTo>
                <a:lnTo>
                  <a:pt x="853" y="1948"/>
                </a:lnTo>
                <a:lnTo>
                  <a:pt x="823" y="1978"/>
                </a:lnTo>
                <a:lnTo>
                  <a:pt x="778" y="1978"/>
                </a:lnTo>
                <a:lnTo>
                  <a:pt x="778" y="2038"/>
                </a:lnTo>
                <a:lnTo>
                  <a:pt x="748" y="2083"/>
                </a:lnTo>
                <a:lnTo>
                  <a:pt x="688" y="2083"/>
                </a:lnTo>
                <a:lnTo>
                  <a:pt x="658" y="2113"/>
                </a:lnTo>
                <a:lnTo>
                  <a:pt x="613" y="2113"/>
                </a:lnTo>
                <a:lnTo>
                  <a:pt x="568" y="2098"/>
                </a:lnTo>
                <a:lnTo>
                  <a:pt x="523" y="2083"/>
                </a:lnTo>
                <a:lnTo>
                  <a:pt x="508" y="2098"/>
                </a:lnTo>
                <a:lnTo>
                  <a:pt x="493" y="2143"/>
                </a:lnTo>
                <a:lnTo>
                  <a:pt x="448" y="2158"/>
                </a:lnTo>
                <a:lnTo>
                  <a:pt x="404" y="2173"/>
                </a:lnTo>
                <a:lnTo>
                  <a:pt x="389" y="2143"/>
                </a:lnTo>
                <a:lnTo>
                  <a:pt x="344" y="2158"/>
                </a:lnTo>
                <a:lnTo>
                  <a:pt x="284" y="2158"/>
                </a:lnTo>
                <a:lnTo>
                  <a:pt x="299" y="2113"/>
                </a:lnTo>
                <a:lnTo>
                  <a:pt x="239" y="2053"/>
                </a:lnTo>
                <a:lnTo>
                  <a:pt x="179" y="1978"/>
                </a:lnTo>
                <a:lnTo>
                  <a:pt x="164" y="1933"/>
                </a:lnTo>
                <a:lnTo>
                  <a:pt x="119" y="1933"/>
                </a:lnTo>
                <a:lnTo>
                  <a:pt x="104" y="1873"/>
                </a:lnTo>
                <a:lnTo>
                  <a:pt x="149" y="1768"/>
                </a:lnTo>
                <a:lnTo>
                  <a:pt x="119" y="1753"/>
                </a:lnTo>
                <a:lnTo>
                  <a:pt x="89" y="1738"/>
                </a:lnTo>
                <a:lnTo>
                  <a:pt x="104" y="1678"/>
                </a:lnTo>
                <a:lnTo>
                  <a:pt x="104" y="1633"/>
                </a:lnTo>
                <a:lnTo>
                  <a:pt x="134" y="1603"/>
                </a:lnTo>
                <a:lnTo>
                  <a:pt x="194" y="1603"/>
                </a:lnTo>
                <a:lnTo>
                  <a:pt x="209" y="1573"/>
                </a:lnTo>
                <a:lnTo>
                  <a:pt x="224" y="1573"/>
                </a:lnTo>
                <a:lnTo>
                  <a:pt x="164" y="1528"/>
                </a:lnTo>
                <a:lnTo>
                  <a:pt x="149" y="1483"/>
                </a:lnTo>
                <a:lnTo>
                  <a:pt x="89" y="1498"/>
                </a:lnTo>
                <a:lnTo>
                  <a:pt x="89" y="1423"/>
                </a:lnTo>
                <a:lnTo>
                  <a:pt x="74" y="1393"/>
                </a:lnTo>
                <a:lnTo>
                  <a:pt x="74" y="1363"/>
                </a:lnTo>
                <a:lnTo>
                  <a:pt x="74" y="1304"/>
                </a:lnTo>
                <a:lnTo>
                  <a:pt x="119" y="1289"/>
                </a:lnTo>
                <a:lnTo>
                  <a:pt x="134" y="1244"/>
                </a:lnTo>
                <a:lnTo>
                  <a:pt x="59" y="1184"/>
                </a:lnTo>
                <a:lnTo>
                  <a:pt x="59" y="1124"/>
                </a:lnTo>
                <a:lnTo>
                  <a:pt x="44" y="1034"/>
                </a:lnTo>
                <a:lnTo>
                  <a:pt x="29" y="959"/>
                </a:lnTo>
                <a:lnTo>
                  <a:pt x="14" y="929"/>
                </a:lnTo>
                <a:lnTo>
                  <a:pt x="14" y="884"/>
                </a:lnTo>
                <a:lnTo>
                  <a:pt x="0" y="854"/>
                </a:lnTo>
                <a:lnTo>
                  <a:pt x="29" y="764"/>
                </a:lnTo>
                <a:lnTo>
                  <a:pt x="14" y="704"/>
                </a:lnTo>
                <a:lnTo>
                  <a:pt x="29" y="659"/>
                </a:lnTo>
                <a:lnTo>
                  <a:pt x="14" y="629"/>
                </a:lnTo>
                <a:lnTo>
                  <a:pt x="44" y="584"/>
                </a:lnTo>
                <a:lnTo>
                  <a:pt x="29" y="524"/>
                </a:lnTo>
                <a:lnTo>
                  <a:pt x="74" y="464"/>
                </a:lnTo>
                <a:lnTo>
                  <a:pt x="74" y="420"/>
                </a:lnTo>
                <a:lnTo>
                  <a:pt x="104" y="375"/>
                </a:lnTo>
                <a:lnTo>
                  <a:pt x="74" y="315"/>
                </a:lnTo>
                <a:lnTo>
                  <a:pt x="74" y="270"/>
                </a:lnTo>
                <a:lnTo>
                  <a:pt x="119" y="315"/>
                </a:lnTo>
                <a:lnTo>
                  <a:pt x="179" y="285"/>
                </a:lnTo>
                <a:lnTo>
                  <a:pt x="224" y="270"/>
                </a:lnTo>
                <a:lnTo>
                  <a:pt x="269" y="270"/>
                </a:lnTo>
                <a:lnTo>
                  <a:pt x="299" y="255"/>
                </a:lnTo>
                <a:lnTo>
                  <a:pt x="284" y="240"/>
                </a:lnTo>
                <a:lnTo>
                  <a:pt x="329" y="240"/>
                </a:lnTo>
                <a:lnTo>
                  <a:pt x="374" y="195"/>
                </a:lnTo>
                <a:lnTo>
                  <a:pt x="478" y="180"/>
                </a:lnTo>
                <a:lnTo>
                  <a:pt x="493" y="165"/>
                </a:lnTo>
                <a:lnTo>
                  <a:pt x="493" y="135"/>
                </a:lnTo>
                <a:lnTo>
                  <a:pt x="523" y="90"/>
                </a:lnTo>
                <a:lnTo>
                  <a:pt x="538" y="60"/>
                </a:lnTo>
                <a:lnTo>
                  <a:pt x="598" y="45"/>
                </a:lnTo>
                <a:lnTo>
                  <a:pt x="613" y="15"/>
                </a:lnTo>
                <a:lnTo>
                  <a:pt x="613" y="0"/>
                </a:lnTo>
                <a:lnTo>
                  <a:pt x="628" y="90"/>
                </a:lnTo>
                <a:lnTo>
                  <a:pt x="688" y="165"/>
                </a:lnTo>
                <a:lnTo>
                  <a:pt x="718" y="135"/>
                </a:lnTo>
                <a:lnTo>
                  <a:pt x="748" y="165"/>
                </a:lnTo>
                <a:lnTo>
                  <a:pt x="823" y="150"/>
                </a:lnTo>
                <a:lnTo>
                  <a:pt x="882" y="180"/>
                </a:lnTo>
                <a:lnTo>
                  <a:pt x="897" y="180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146320" y="1017720"/>
            <a:ext cx="681120" cy="1058760"/>
          </a:xfrm>
          <a:custGeom>
            <a:avLst/>
            <a:gdLst/>
            <a:ahLst/>
            <a:rect l="l" t="t" r="r" b="b"/>
            <a:pathLst>
              <a:path w="793" h="1259">
                <a:moveTo>
                  <a:pt x="0" y="270"/>
                </a:moveTo>
                <a:lnTo>
                  <a:pt x="44" y="225"/>
                </a:lnTo>
                <a:lnTo>
                  <a:pt x="104" y="240"/>
                </a:lnTo>
                <a:lnTo>
                  <a:pt x="164" y="225"/>
                </a:lnTo>
                <a:lnTo>
                  <a:pt x="239" y="210"/>
                </a:lnTo>
                <a:lnTo>
                  <a:pt x="314" y="135"/>
                </a:lnTo>
                <a:lnTo>
                  <a:pt x="419" y="60"/>
                </a:lnTo>
                <a:lnTo>
                  <a:pt x="568" y="30"/>
                </a:lnTo>
                <a:lnTo>
                  <a:pt x="658" y="0"/>
                </a:lnTo>
                <a:lnTo>
                  <a:pt x="688" y="0"/>
                </a:lnTo>
                <a:lnTo>
                  <a:pt x="733" y="30"/>
                </a:lnTo>
                <a:lnTo>
                  <a:pt x="733" y="75"/>
                </a:lnTo>
                <a:lnTo>
                  <a:pt x="763" y="120"/>
                </a:lnTo>
                <a:lnTo>
                  <a:pt x="763" y="150"/>
                </a:lnTo>
                <a:lnTo>
                  <a:pt x="748" y="180"/>
                </a:lnTo>
                <a:lnTo>
                  <a:pt x="763" y="225"/>
                </a:lnTo>
                <a:lnTo>
                  <a:pt x="778" y="255"/>
                </a:lnTo>
                <a:lnTo>
                  <a:pt x="793" y="285"/>
                </a:lnTo>
                <a:lnTo>
                  <a:pt x="793" y="300"/>
                </a:lnTo>
                <a:lnTo>
                  <a:pt x="793" y="330"/>
                </a:lnTo>
                <a:lnTo>
                  <a:pt x="778" y="360"/>
                </a:lnTo>
                <a:lnTo>
                  <a:pt x="763" y="375"/>
                </a:lnTo>
                <a:lnTo>
                  <a:pt x="733" y="375"/>
                </a:lnTo>
                <a:lnTo>
                  <a:pt x="733" y="405"/>
                </a:lnTo>
                <a:lnTo>
                  <a:pt x="703" y="435"/>
                </a:lnTo>
                <a:lnTo>
                  <a:pt x="703" y="465"/>
                </a:lnTo>
                <a:lnTo>
                  <a:pt x="688" y="480"/>
                </a:lnTo>
                <a:lnTo>
                  <a:pt x="688" y="555"/>
                </a:lnTo>
                <a:lnTo>
                  <a:pt x="673" y="585"/>
                </a:lnTo>
                <a:lnTo>
                  <a:pt x="733" y="600"/>
                </a:lnTo>
                <a:lnTo>
                  <a:pt x="733" y="630"/>
                </a:lnTo>
                <a:lnTo>
                  <a:pt x="703" y="645"/>
                </a:lnTo>
                <a:lnTo>
                  <a:pt x="703" y="704"/>
                </a:lnTo>
                <a:lnTo>
                  <a:pt x="673" y="660"/>
                </a:lnTo>
                <a:lnTo>
                  <a:pt x="658" y="764"/>
                </a:lnTo>
                <a:lnTo>
                  <a:pt x="643" y="749"/>
                </a:lnTo>
                <a:lnTo>
                  <a:pt x="598" y="779"/>
                </a:lnTo>
                <a:lnTo>
                  <a:pt x="568" y="824"/>
                </a:lnTo>
                <a:lnTo>
                  <a:pt x="553" y="899"/>
                </a:lnTo>
                <a:lnTo>
                  <a:pt x="538" y="974"/>
                </a:lnTo>
                <a:lnTo>
                  <a:pt x="538" y="1019"/>
                </a:lnTo>
                <a:lnTo>
                  <a:pt x="553" y="1064"/>
                </a:lnTo>
                <a:lnTo>
                  <a:pt x="583" y="1079"/>
                </a:lnTo>
                <a:lnTo>
                  <a:pt x="553" y="1154"/>
                </a:lnTo>
                <a:lnTo>
                  <a:pt x="538" y="1214"/>
                </a:lnTo>
                <a:lnTo>
                  <a:pt x="493" y="1259"/>
                </a:lnTo>
                <a:lnTo>
                  <a:pt x="463" y="1259"/>
                </a:lnTo>
                <a:lnTo>
                  <a:pt x="419" y="1229"/>
                </a:lnTo>
                <a:lnTo>
                  <a:pt x="344" y="1244"/>
                </a:lnTo>
                <a:lnTo>
                  <a:pt x="314" y="1229"/>
                </a:lnTo>
                <a:lnTo>
                  <a:pt x="284" y="1244"/>
                </a:lnTo>
                <a:lnTo>
                  <a:pt x="224" y="1169"/>
                </a:lnTo>
                <a:lnTo>
                  <a:pt x="209" y="1109"/>
                </a:lnTo>
                <a:lnTo>
                  <a:pt x="194" y="1034"/>
                </a:lnTo>
                <a:lnTo>
                  <a:pt x="209" y="1004"/>
                </a:lnTo>
                <a:lnTo>
                  <a:pt x="224" y="989"/>
                </a:lnTo>
                <a:lnTo>
                  <a:pt x="239" y="989"/>
                </a:lnTo>
                <a:lnTo>
                  <a:pt x="209" y="944"/>
                </a:lnTo>
                <a:lnTo>
                  <a:pt x="209" y="914"/>
                </a:lnTo>
                <a:lnTo>
                  <a:pt x="254" y="899"/>
                </a:lnTo>
                <a:lnTo>
                  <a:pt x="224" y="854"/>
                </a:lnTo>
                <a:lnTo>
                  <a:pt x="209" y="839"/>
                </a:lnTo>
                <a:lnTo>
                  <a:pt x="194" y="809"/>
                </a:lnTo>
                <a:lnTo>
                  <a:pt x="194" y="764"/>
                </a:lnTo>
                <a:lnTo>
                  <a:pt x="164" y="809"/>
                </a:lnTo>
                <a:lnTo>
                  <a:pt x="149" y="779"/>
                </a:lnTo>
                <a:lnTo>
                  <a:pt x="149" y="749"/>
                </a:lnTo>
                <a:lnTo>
                  <a:pt x="149" y="719"/>
                </a:lnTo>
                <a:lnTo>
                  <a:pt x="164" y="689"/>
                </a:lnTo>
                <a:lnTo>
                  <a:pt x="134" y="600"/>
                </a:lnTo>
                <a:lnTo>
                  <a:pt x="119" y="540"/>
                </a:lnTo>
                <a:lnTo>
                  <a:pt x="119" y="450"/>
                </a:lnTo>
                <a:lnTo>
                  <a:pt x="74" y="450"/>
                </a:lnTo>
                <a:lnTo>
                  <a:pt x="44" y="450"/>
                </a:lnTo>
                <a:lnTo>
                  <a:pt x="29" y="405"/>
                </a:lnTo>
                <a:lnTo>
                  <a:pt x="29" y="390"/>
                </a:lnTo>
                <a:lnTo>
                  <a:pt x="44" y="330"/>
                </a:lnTo>
                <a:lnTo>
                  <a:pt x="0" y="27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9720" y="977760"/>
            <a:ext cx="627120" cy="962280"/>
          </a:xfrm>
          <a:custGeom>
            <a:avLst/>
            <a:gdLst/>
            <a:ahLst/>
            <a:rect l="l" t="t" r="r" b="b"/>
            <a:pathLst>
              <a:path w="733" h="1139">
                <a:moveTo>
                  <a:pt x="30" y="30"/>
                </a:moveTo>
                <a:lnTo>
                  <a:pt x="120" y="0"/>
                </a:lnTo>
                <a:lnTo>
                  <a:pt x="195" y="15"/>
                </a:lnTo>
                <a:lnTo>
                  <a:pt x="239" y="15"/>
                </a:lnTo>
                <a:lnTo>
                  <a:pt x="344" y="0"/>
                </a:lnTo>
                <a:lnTo>
                  <a:pt x="374" y="0"/>
                </a:lnTo>
                <a:lnTo>
                  <a:pt x="494" y="30"/>
                </a:lnTo>
                <a:lnTo>
                  <a:pt x="419" y="60"/>
                </a:lnTo>
                <a:lnTo>
                  <a:pt x="404" y="90"/>
                </a:lnTo>
                <a:lnTo>
                  <a:pt x="479" y="195"/>
                </a:lnTo>
                <a:lnTo>
                  <a:pt x="494" y="225"/>
                </a:lnTo>
                <a:lnTo>
                  <a:pt x="524" y="315"/>
                </a:lnTo>
                <a:lnTo>
                  <a:pt x="524" y="375"/>
                </a:lnTo>
                <a:lnTo>
                  <a:pt x="554" y="435"/>
                </a:lnTo>
                <a:lnTo>
                  <a:pt x="644" y="465"/>
                </a:lnTo>
                <a:lnTo>
                  <a:pt x="733" y="495"/>
                </a:lnTo>
                <a:lnTo>
                  <a:pt x="733" y="585"/>
                </a:lnTo>
                <a:lnTo>
                  <a:pt x="703" y="630"/>
                </a:lnTo>
                <a:lnTo>
                  <a:pt x="658" y="660"/>
                </a:lnTo>
                <a:lnTo>
                  <a:pt x="644" y="705"/>
                </a:lnTo>
                <a:lnTo>
                  <a:pt x="644" y="749"/>
                </a:lnTo>
                <a:lnTo>
                  <a:pt x="658" y="809"/>
                </a:lnTo>
                <a:lnTo>
                  <a:pt x="703" y="869"/>
                </a:lnTo>
                <a:lnTo>
                  <a:pt x="703" y="959"/>
                </a:lnTo>
                <a:lnTo>
                  <a:pt x="688" y="989"/>
                </a:lnTo>
                <a:lnTo>
                  <a:pt x="688" y="1079"/>
                </a:lnTo>
                <a:lnTo>
                  <a:pt x="658" y="1109"/>
                </a:lnTo>
                <a:lnTo>
                  <a:pt x="629" y="1109"/>
                </a:lnTo>
                <a:lnTo>
                  <a:pt x="599" y="1109"/>
                </a:lnTo>
                <a:lnTo>
                  <a:pt x="539" y="1139"/>
                </a:lnTo>
                <a:lnTo>
                  <a:pt x="524" y="1124"/>
                </a:lnTo>
                <a:lnTo>
                  <a:pt x="479" y="1094"/>
                </a:lnTo>
                <a:lnTo>
                  <a:pt x="449" y="1124"/>
                </a:lnTo>
                <a:lnTo>
                  <a:pt x="419" y="1109"/>
                </a:lnTo>
                <a:lnTo>
                  <a:pt x="374" y="1094"/>
                </a:lnTo>
                <a:lnTo>
                  <a:pt x="329" y="1064"/>
                </a:lnTo>
                <a:lnTo>
                  <a:pt x="299" y="1064"/>
                </a:lnTo>
                <a:lnTo>
                  <a:pt x="269" y="1034"/>
                </a:lnTo>
                <a:lnTo>
                  <a:pt x="254" y="1034"/>
                </a:lnTo>
                <a:lnTo>
                  <a:pt x="254" y="974"/>
                </a:lnTo>
                <a:lnTo>
                  <a:pt x="254" y="929"/>
                </a:lnTo>
                <a:lnTo>
                  <a:pt x="254" y="914"/>
                </a:lnTo>
                <a:lnTo>
                  <a:pt x="225" y="899"/>
                </a:lnTo>
                <a:lnTo>
                  <a:pt x="180" y="914"/>
                </a:lnTo>
                <a:lnTo>
                  <a:pt x="150" y="974"/>
                </a:lnTo>
                <a:lnTo>
                  <a:pt x="120" y="974"/>
                </a:lnTo>
                <a:lnTo>
                  <a:pt x="120" y="944"/>
                </a:lnTo>
                <a:lnTo>
                  <a:pt x="90" y="899"/>
                </a:lnTo>
                <a:lnTo>
                  <a:pt x="90" y="854"/>
                </a:lnTo>
                <a:lnTo>
                  <a:pt x="60" y="839"/>
                </a:lnTo>
                <a:lnTo>
                  <a:pt x="30" y="824"/>
                </a:lnTo>
                <a:lnTo>
                  <a:pt x="0" y="794"/>
                </a:lnTo>
                <a:lnTo>
                  <a:pt x="15" y="705"/>
                </a:lnTo>
                <a:lnTo>
                  <a:pt x="45" y="749"/>
                </a:lnTo>
                <a:lnTo>
                  <a:pt x="45" y="675"/>
                </a:lnTo>
                <a:lnTo>
                  <a:pt x="75" y="675"/>
                </a:lnTo>
                <a:lnTo>
                  <a:pt x="75" y="630"/>
                </a:lnTo>
                <a:lnTo>
                  <a:pt x="15" y="615"/>
                </a:lnTo>
                <a:lnTo>
                  <a:pt x="45" y="600"/>
                </a:lnTo>
                <a:lnTo>
                  <a:pt x="30" y="510"/>
                </a:lnTo>
                <a:lnTo>
                  <a:pt x="45" y="495"/>
                </a:lnTo>
                <a:lnTo>
                  <a:pt x="60" y="465"/>
                </a:lnTo>
                <a:lnTo>
                  <a:pt x="75" y="435"/>
                </a:lnTo>
                <a:lnTo>
                  <a:pt x="90" y="420"/>
                </a:lnTo>
                <a:lnTo>
                  <a:pt x="105" y="405"/>
                </a:lnTo>
                <a:lnTo>
                  <a:pt x="135" y="390"/>
                </a:lnTo>
                <a:lnTo>
                  <a:pt x="135" y="360"/>
                </a:lnTo>
                <a:lnTo>
                  <a:pt x="135" y="315"/>
                </a:lnTo>
                <a:lnTo>
                  <a:pt x="105" y="270"/>
                </a:lnTo>
                <a:lnTo>
                  <a:pt x="90" y="210"/>
                </a:lnTo>
                <a:lnTo>
                  <a:pt x="105" y="195"/>
                </a:lnTo>
                <a:lnTo>
                  <a:pt x="105" y="150"/>
                </a:lnTo>
                <a:lnTo>
                  <a:pt x="75" y="105"/>
                </a:lnTo>
                <a:lnTo>
                  <a:pt x="75" y="60"/>
                </a:lnTo>
                <a:lnTo>
                  <a:pt x="30" y="3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244680" y="1270080"/>
            <a:ext cx="824040" cy="792000"/>
          </a:xfrm>
          <a:custGeom>
            <a:avLst/>
            <a:gdLst/>
            <a:ahLst/>
            <a:rect l="l" t="t" r="r" b="b"/>
            <a:pathLst>
              <a:path w="957" h="944">
                <a:moveTo>
                  <a:pt x="104" y="150"/>
                </a:moveTo>
                <a:lnTo>
                  <a:pt x="164" y="150"/>
                </a:lnTo>
                <a:lnTo>
                  <a:pt x="209" y="135"/>
                </a:lnTo>
                <a:lnTo>
                  <a:pt x="284" y="135"/>
                </a:lnTo>
                <a:lnTo>
                  <a:pt x="389" y="105"/>
                </a:lnTo>
                <a:lnTo>
                  <a:pt x="493" y="45"/>
                </a:lnTo>
                <a:lnTo>
                  <a:pt x="538" y="0"/>
                </a:lnTo>
                <a:lnTo>
                  <a:pt x="568" y="30"/>
                </a:lnTo>
                <a:lnTo>
                  <a:pt x="703" y="45"/>
                </a:lnTo>
                <a:lnTo>
                  <a:pt x="823" y="60"/>
                </a:lnTo>
                <a:lnTo>
                  <a:pt x="942" y="90"/>
                </a:lnTo>
                <a:lnTo>
                  <a:pt x="942" y="120"/>
                </a:lnTo>
                <a:lnTo>
                  <a:pt x="912" y="150"/>
                </a:lnTo>
                <a:lnTo>
                  <a:pt x="897" y="180"/>
                </a:lnTo>
                <a:lnTo>
                  <a:pt x="897" y="210"/>
                </a:lnTo>
                <a:lnTo>
                  <a:pt x="942" y="210"/>
                </a:lnTo>
                <a:lnTo>
                  <a:pt x="957" y="240"/>
                </a:lnTo>
                <a:lnTo>
                  <a:pt x="942" y="255"/>
                </a:lnTo>
                <a:lnTo>
                  <a:pt x="942" y="330"/>
                </a:lnTo>
                <a:lnTo>
                  <a:pt x="927" y="360"/>
                </a:lnTo>
                <a:lnTo>
                  <a:pt x="897" y="389"/>
                </a:lnTo>
                <a:lnTo>
                  <a:pt x="853" y="389"/>
                </a:lnTo>
                <a:lnTo>
                  <a:pt x="823" y="419"/>
                </a:lnTo>
                <a:lnTo>
                  <a:pt x="778" y="389"/>
                </a:lnTo>
                <a:lnTo>
                  <a:pt x="763" y="404"/>
                </a:lnTo>
                <a:lnTo>
                  <a:pt x="748" y="419"/>
                </a:lnTo>
                <a:lnTo>
                  <a:pt x="763" y="449"/>
                </a:lnTo>
                <a:lnTo>
                  <a:pt x="733" y="449"/>
                </a:lnTo>
                <a:lnTo>
                  <a:pt x="703" y="464"/>
                </a:lnTo>
                <a:lnTo>
                  <a:pt x="673" y="449"/>
                </a:lnTo>
                <a:lnTo>
                  <a:pt x="658" y="464"/>
                </a:lnTo>
                <a:lnTo>
                  <a:pt x="613" y="479"/>
                </a:lnTo>
                <a:lnTo>
                  <a:pt x="643" y="509"/>
                </a:lnTo>
                <a:lnTo>
                  <a:pt x="628" y="509"/>
                </a:lnTo>
                <a:lnTo>
                  <a:pt x="583" y="509"/>
                </a:lnTo>
                <a:lnTo>
                  <a:pt x="568" y="539"/>
                </a:lnTo>
                <a:lnTo>
                  <a:pt x="553" y="554"/>
                </a:lnTo>
                <a:lnTo>
                  <a:pt x="508" y="554"/>
                </a:lnTo>
                <a:lnTo>
                  <a:pt x="478" y="569"/>
                </a:lnTo>
                <a:lnTo>
                  <a:pt x="463" y="614"/>
                </a:lnTo>
                <a:lnTo>
                  <a:pt x="434" y="689"/>
                </a:lnTo>
                <a:lnTo>
                  <a:pt x="449" y="764"/>
                </a:lnTo>
                <a:lnTo>
                  <a:pt x="463" y="794"/>
                </a:lnTo>
                <a:lnTo>
                  <a:pt x="434" y="809"/>
                </a:lnTo>
                <a:lnTo>
                  <a:pt x="404" y="839"/>
                </a:lnTo>
                <a:lnTo>
                  <a:pt x="374" y="884"/>
                </a:lnTo>
                <a:lnTo>
                  <a:pt x="374" y="914"/>
                </a:lnTo>
                <a:lnTo>
                  <a:pt x="389" y="944"/>
                </a:lnTo>
                <a:lnTo>
                  <a:pt x="344" y="929"/>
                </a:lnTo>
                <a:lnTo>
                  <a:pt x="314" y="944"/>
                </a:lnTo>
                <a:lnTo>
                  <a:pt x="284" y="929"/>
                </a:lnTo>
                <a:lnTo>
                  <a:pt x="224" y="869"/>
                </a:lnTo>
                <a:lnTo>
                  <a:pt x="149" y="869"/>
                </a:lnTo>
                <a:lnTo>
                  <a:pt x="134" y="884"/>
                </a:lnTo>
                <a:lnTo>
                  <a:pt x="104" y="884"/>
                </a:lnTo>
                <a:lnTo>
                  <a:pt x="74" y="854"/>
                </a:lnTo>
                <a:lnTo>
                  <a:pt x="29" y="869"/>
                </a:lnTo>
                <a:lnTo>
                  <a:pt x="0" y="884"/>
                </a:lnTo>
                <a:lnTo>
                  <a:pt x="0" y="809"/>
                </a:lnTo>
                <a:lnTo>
                  <a:pt x="15" y="764"/>
                </a:lnTo>
                <a:lnTo>
                  <a:pt x="29" y="764"/>
                </a:lnTo>
                <a:lnTo>
                  <a:pt x="59" y="734"/>
                </a:lnTo>
                <a:lnTo>
                  <a:pt x="59" y="644"/>
                </a:lnTo>
                <a:lnTo>
                  <a:pt x="74" y="614"/>
                </a:lnTo>
                <a:lnTo>
                  <a:pt x="74" y="524"/>
                </a:lnTo>
                <a:lnTo>
                  <a:pt x="44" y="479"/>
                </a:lnTo>
                <a:lnTo>
                  <a:pt x="29" y="434"/>
                </a:lnTo>
                <a:lnTo>
                  <a:pt x="15" y="404"/>
                </a:lnTo>
                <a:lnTo>
                  <a:pt x="15" y="360"/>
                </a:lnTo>
                <a:lnTo>
                  <a:pt x="29" y="315"/>
                </a:lnTo>
                <a:lnTo>
                  <a:pt x="74" y="285"/>
                </a:lnTo>
                <a:lnTo>
                  <a:pt x="104" y="240"/>
                </a:lnTo>
                <a:lnTo>
                  <a:pt x="104" y="15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3571920" y="1344600"/>
            <a:ext cx="1103400" cy="959040"/>
          </a:xfrm>
          <a:custGeom>
            <a:avLst/>
            <a:gdLst/>
            <a:ahLst/>
            <a:rect l="l" t="t" r="r" b="b"/>
            <a:pathLst>
              <a:path w="1287" h="1139">
                <a:moveTo>
                  <a:pt x="568" y="0"/>
                </a:moveTo>
                <a:lnTo>
                  <a:pt x="718" y="0"/>
                </a:lnTo>
                <a:lnTo>
                  <a:pt x="972" y="30"/>
                </a:lnTo>
                <a:lnTo>
                  <a:pt x="1257" y="45"/>
                </a:lnTo>
                <a:lnTo>
                  <a:pt x="1257" y="75"/>
                </a:lnTo>
                <a:lnTo>
                  <a:pt x="1242" y="105"/>
                </a:lnTo>
                <a:lnTo>
                  <a:pt x="1287" y="105"/>
                </a:lnTo>
                <a:lnTo>
                  <a:pt x="1287" y="120"/>
                </a:lnTo>
                <a:lnTo>
                  <a:pt x="1257" y="165"/>
                </a:lnTo>
                <a:lnTo>
                  <a:pt x="1227" y="195"/>
                </a:lnTo>
                <a:lnTo>
                  <a:pt x="1242" y="240"/>
                </a:lnTo>
                <a:lnTo>
                  <a:pt x="1257" y="255"/>
                </a:lnTo>
                <a:lnTo>
                  <a:pt x="1257" y="359"/>
                </a:lnTo>
                <a:lnTo>
                  <a:pt x="1257" y="389"/>
                </a:lnTo>
                <a:lnTo>
                  <a:pt x="1227" y="389"/>
                </a:lnTo>
                <a:lnTo>
                  <a:pt x="1212" y="419"/>
                </a:lnTo>
                <a:lnTo>
                  <a:pt x="1212" y="449"/>
                </a:lnTo>
                <a:lnTo>
                  <a:pt x="1227" y="464"/>
                </a:lnTo>
                <a:lnTo>
                  <a:pt x="1227" y="494"/>
                </a:lnTo>
                <a:lnTo>
                  <a:pt x="1212" y="554"/>
                </a:lnTo>
                <a:lnTo>
                  <a:pt x="1242" y="584"/>
                </a:lnTo>
                <a:lnTo>
                  <a:pt x="1257" y="614"/>
                </a:lnTo>
                <a:lnTo>
                  <a:pt x="1257" y="629"/>
                </a:lnTo>
                <a:lnTo>
                  <a:pt x="1242" y="644"/>
                </a:lnTo>
                <a:lnTo>
                  <a:pt x="1227" y="674"/>
                </a:lnTo>
                <a:lnTo>
                  <a:pt x="1242" y="734"/>
                </a:lnTo>
                <a:lnTo>
                  <a:pt x="1212" y="734"/>
                </a:lnTo>
                <a:lnTo>
                  <a:pt x="1212" y="764"/>
                </a:lnTo>
                <a:lnTo>
                  <a:pt x="1212" y="779"/>
                </a:lnTo>
                <a:lnTo>
                  <a:pt x="1212" y="824"/>
                </a:lnTo>
                <a:lnTo>
                  <a:pt x="1182" y="824"/>
                </a:lnTo>
                <a:lnTo>
                  <a:pt x="1152" y="824"/>
                </a:lnTo>
                <a:lnTo>
                  <a:pt x="1122" y="839"/>
                </a:lnTo>
                <a:lnTo>
                  <a:pt x="1107" y="884"/>
                </a:lnTo>
                <a:lnTo>
                  <a:pt x="1092" y="884"/>
                </a:lnTo>
                <a:lnTo>
                  <a:pt x="1077" y="929"/>
                </a:lnTo>
                <a:lnTo>
                  <a:pt x="1047" y="929"/>
                </a:lnTo>
                <a:lnTo>
                  <a:pt x="1062" y="974"/>
                </a:lnTo>
                <a:lnTo>
                  <a:pt x="1047" y="989"/>
                </a:lnTo>
                <a:lnTo>
                  <a:pt x="1032" y="1004"/>
                </a:lnTo>
                <a:lnTo>
                  <a:pt x="1002" y="1019"/>
                </a:lnTo>
                <a:lnTo>
                  <a:pt x="987" y="1004"/>
                </a:lnTo>
                <a:lnTo>
                  <a:pt x="957" y="989"/>
                </a:lnTo>
                <a:lnTo>
                  <a:pt x="928" y="989"/>
                </a:lnTo>
                <a:lnTo>
                  <a:pt x="913" y="1019"/>
                </a:lnTo>
                <a:lnTo>
                  <a:pt x="913" y="1049"/>
                </a:lnTo>
                <a:lnTo>
                  <a:pt x="883" y="1079"/>
                </a:lnTo>
                <a:lnTo>
                  <a:pt x="838" y="1064"/>
                </a:lnTo>
                <a:lnTo>
                  <a:pt x="793" y="1064"/>
                </a:lnTo>
                <a:lnTo>
                  <a:pt x="778" y="1094"/>
                </a:lnTo>
                <a:lnTo>
                  <a:pt x="763" y="1124"/>
                </a:lnTo>
                <a:lnTo>
                  <a:pt x="733" y="1124"/>
                </a:lnTo>
                <a:lnTo>
                  <a:pt x="703" y="1139"/>
                </a:lnTo>
                <a:lnTo>
                  <a:pt x="643" y="1139"/>
                </a:lnTo>
                <a:lnTo>
                  <a:pt x="583" y="1139"/>
                </a:lnTo>
                <a:lnTo>
                  <a:pt x="553" y="1124"/>
                </a:lnTo>
                <a:lnTo>
                  <a:pt x="523" y="1124"/>
                </a:lnTo>
                <a:lnTo>
                  <a:pt x="509" y="1079"/>
                </a:lnTo>
                <a:lnTo>
                  <a:pt x="479" y="1049"/>
                </a:lnTo>
                <a:lnTo>
                  <a:pt x="479" y="1004"/>
                </a:lnTo>
                <a:lnTo>
                  <a:pt x="479" y="974"/>
                </a:lnTo>
                <a:lnTo>
                  <a:pt x="449" y="959"/>
                </a:lnTo>
                <a:lnTo>
                  <a:pt x="449" y="989"/>
                </a:lnTo>
                <a:lnTo>
                  <a:pt x="434" y="1004"/>
                </a:lnTo>
                <a:lnTo>
                  <a:pt x="404" y="1004"/>
                </a:lnTo>
                <a:lnTo>
                  <a:pt x="389" y="989"/>
                </a:lnTo>
                <a:lnTo>
                  <a:pt x="359" y="974"/>
                </a:lnTo>
                <a:lnTo>
                  <a:pt x="359" y="959"/>
                </a:lnTo>
                <a:lnTo>
                  <a:pt x="344" y="944"/>
                </a:lnTo>
                <a:lnTo>
                  <a:pt x="314" y="944"/>
                </a:lnTo>
                <a:lnTo>
                  <a:pt x="299" y="914"/>
                </a:lnTo>
                <a:lnTo>
                  <a:pt x="254" y="914"/>
                </a:lnTo>
                <a:lnTo>
                  <a:pt x="194" y="914"/>
                </a:lnTo>
                <a:lnTo>
                  <a:pt x="149" y="914"/>
                </a:lnTo>
                <a:lnTo>
                  <a:pt x="134" y="869"/>
                </a:lnTo>
                <a:lnTo>
                  <a:pt x="104" y="854"/>
                </a:lnTo>
                <a:lnTo>
                  <a:pt x="89" y="839"/>
                </a:lnTo>
                <a:lnTo>
                  <a:pt x="75" y="809"/>
                </a:lnTo>
                <a:lnTo>
                  <a:pt x="30" y="809"/>
                </a:lnTo>
                <a:lnTo>
                  <a:pt x="0" y="794"/>
                </a:lnTo>
                <a:lnTo>
                  <a:pt x="15" y="779"/>
                </a:lnTo>
                <a:lnTo>
                  <a:pt x="45" y="734"/>
                </a:lnTo>
                <a:lnTo>
                  <a:pt x="89" y="704"/>
                </a:lnTo>
                <a:lnTo>
                  <a:pt x="75" y="659"/>
                </a:lnTo>
                <a:lnTo>
                  <a:pt x="60" y="599"/>
                </a:lnTo>
                <a:lnTo>
                  <a:pt x="75" y="539"/>
                </a:lnTo>
                <a:lnTo>
                  <a:pt x="89" y="494"/>
                </a:lnTo>
                <a:lnTo>
                  <a:pt x="119" y="464"/>
                </a:lnTo>
                <a:lnTo>
                  <a:pt x="134" y="464"/>
                </a:lnTo>
                <a:lnTo>
                  <a:pt x="179" y="464"/>
                </a:lnTo>
                <a:lnTo>
                  <a:pt x="179" y="449"/>
                </a:lnTo>
                <a:lnTo>
                  <a:pt x="209" y="419"/>
                </a:lnTo>
                <a:lnTo>
                  <a:pt x="269" y="419"/>
                </a:lnTo>
                <a:lnTo>
                  <a:pt x="239" y="389"/>
                </a:lnTo>
                <a:lnTo>
                  <a:pt x="284" y="374"/>
                </a:lnTo>
                <a:lnTo>
                  <a:pt x="299" y="359"/>
                </a:lnTo>
                <a:lnTo>
                  <a:pt x="329" y="374"/>
                </a:lnTo>
                <a:lnTo>
                  <a:pt x="359" y="359"/>
                </a:lnTo>
                <a:lnTo>
                  <a:pt x="389" y="359"/>
                </a:lnTo>
                <a:lnTo>
                  <a:pt x="374" y="329"/>
                </a:lnTo>
                <a:lnTo>
                  <a:pt x="389" y="299"/>
                </a:lnTo>
                <a:lnTo>
                  <a:pt x="404" y="299"/>
                </a:lnTo>
                <a:lnTo>
                  <a:pt x="449" y="329"/>
                </a:lnTo>
                <a:lnTo>
                  <a:pt x="479" y="299"/>
                </a:lnTo>
                <a:lnTo>
                  <a:pt x="523" y="299"/>
                </a:lnTo>
                <a:lnTo>
                  <a:pt x="553" y="270"/>
                </a:lnTo>
                <a:lnTo>
                  <a:pt x="568" y="240"/>
                </a:lnTo>
                <a:lnTo>
                  <a:pt x="568" y="180"/>
                </a:lnTo>
                <a:lnTo>
                  <a:pt x="583" y="150"/>
                </a:lnTo>
                <a:lnTo>
                  <a:pt x="568" y="120"/>
                </a:lnTo>
                <a:lnTo>
                  <a:pt x="523" y="120"/>
                </a:lnTo>
                <a:lnTo>
                  <a:pt x="523" y="90"/>
                </a:lnTo>
                <a:lnTo>
                  <a:pt x="538" y="60"/>
                </a:lnTo>
                <a:lnTo>
                  <a:pt x="568" y="45"/>
                </a:lnTo>
                <a:lnTo>
                  <a:pt x="568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967120" y="1986120"/>
            <a:ext cx="860400" cy="1083960"/>
          </a:xfrm>
          <a:custGeom>
            <a:avLst/>
            <a:gdLst/>
            <a:ahLst/>
            <a:rect l="l" t="t" r="r" b="b"/>
            <a:pathLst>
              <a:path w="1003" h="1288">
                <a:moveTo>
                  <a:pt x="345" y="15"/>
                </a:moveTo>
                <a:lnTo>
                  <a:pt x="359" y="0"/>
                </a:lnTo>
                <a:lnTo>
                  <a:pt x="389" y="0"/>
                </a:lnTo>
                <a:lnTo>
                  <a:pt x="434" y="30"/>
                </a:lnTo>
                <a:lnTo>
                  <a:pt x="479" y="30"/>
                </a:lnTo>
                <a:lnTo>
                  <a:pt x="539" y="15"/>
                </a:lnTo>
                <a:lnTo>
                  <a:pt x="599" y="75"/>
                </a:lnTo>
                <a:lnTo>
                  <a:pt x="644" y="75"/>
                </a:lnTo>
                <a:lnTo>
                  <a:pt x="674" y="75"/>
                </a:lnTo>
                <a:lnTo>
                  <a:pt x="719" y="90"/>
                </a:lnTo>
                <a:lnTo>
                  <a:pt x="704" y="30"/>
                </a:lnTo>
                <a:lnTo>
                  <a:pt x="749" y="45"/>
                </a:lnTo>
                <a:lnTo>
                  <a:pt x="764" y="45"/>
                </a:lnTo>
                <a:lnTo>
                  <a:pt x="793" y="90"/>
                </a:lnTo>
                <a:lnTo>
                  <a:pt x="838" y="105"/>
                </a:lnTo>
                <a:lnTo>
                  <a:pt x="853" y="150"/>
                </a:lnTo>
                <a:lnTo>
                  <a:pt x="913" y="150"/>
                </a:lnTo>
                <a:lnTo>
                  <a:pt x="973" y="150"/>
                </a:lnTo>
                <a:lnTo>
                  <a:pt x="1003" y="165"/>
                </a:lnTo>
                <a:lnTo>
                  <a:pt x="958" y="240"/>
                </a:lnTo>
                <a:lnTo>
                  <a:pt x="973" y="270"/>
                </a:lnTo>
                <a:lnTo>
                  <a:pt x="943" y="300"/>
                </a:lnTo>
                <a:lnTo>
                  <a:pt x="928" y="315"/>
                </a:lnTo>
                <a:lnTo>
                  <a:pt x="913" y="375"/>
                </a:lnTo>
                <a:lnTo>
                  <a:pt x="943" y="419"/>
                </a:lnTo>
                <a:lnTo>
                  <a:pt x="928" y="464"/>
                </a:lnTo>
                <a:lnTo>
                  <a:pt x="913" y="494"/>
                </a:lnTo>
                <a:lnTo>
                  <a:pt x="883" y="494"/>
                </a:lnTo>
                <a:lnTo>
                  <a:pt x="898" y="539"/>
                </a:lnTo>
                <a:lnTo>
                  <a:pt x="913" y="614"/>
                </a:lnTo>
                <a:lnTo>
                  <a:pt x="913" y="644"/>
                </a:lnTo>
                <a:lnTo>
                  <a:pt x="868" y="614"/>
                </a:lnTo>
                <a:lnTo>
                  <a:pt x="853" y="629"/>
                </a:lnTo>
                <a:lnTo>
                  <a:pt x="838" y="659"/>
                </a:lnTo>
                <a:lnTo>
                  <a:pt x="808" y="674"/>
                </a:lnTo>
                <a:lnTo>
                  <a:pt x="779" y="659"/>
                </a:lnTo>
                <a:lnTo>
                  <a:pt x="779" y="704"/>
                </a:lnTo>
                <a:lnTo>
                  <a:pt x="808" y="719"/>
                </a:lnTo>
                <a:lnTo>
                  <a:pt x="793" y="749"/>
                </a:lnTo>
                <a:lnTo>
                  <a:pt x="779" y="764"/>
                </a:lnTo>
                <a:lnTo>
                  <a:pt x="779" y="794"/>
                </a:lnTo>
                <a:lnTo>
                  <a:pt x="808" y="824"/>
                </a:lnTo>
                <a:lnTo>
                  <a:pt x="808" y="869"/>
                </a:lnTo>
                <a:lnTo>
                  <a:pt x="793" y="884"/>
                </a:lnTo>
                <a:lnTo>
                  <a:pt x="764" y="914"/>
                </a:lnTo>
                <a:lnTo>
                  <a:pt x="734" y="929"/>
                </a:lnTo>
                <a:lnTo>
                  <a:pt x="749" y="974"/>
                </a:lnTo>
                <a:lnTo>
                  <a:pt x="749" y="1019"/>
                </a:lnTo>
                <a:lnTo>
                  <a:pt x="719" y="1034"/>
                </a:lnTo>
                <a:lnTo>
                  <a:pt x="719" y="1064"/>
                </a:lnTo>
                <a:lnTo>
                  <a:pt x="749" y="1094"/>
                </a:lnTo>
                <a:lnTo>
                  <a:pt x="719" y="1109"/>
                </a:lnTo>
                <a:lnTo>
                  <a:pt x="719" y="1154"/>
                </a:lnTo>
                <a:lnTo>
                  <a:pt x="674" y="1154"/>
                </a:lnTo>
                <a:lnTo>
                  <a:pt x="674" y="1199"/>
                </a:lnTo>
                <a:lnTo>
                  <a:pt x="674" y="1243"/>
                </a:lnTo>
                <a:lnTo>
                  <a:pt x="644" y="1243"/>
                </a:lnTo>
                <a:lnTo>
                  <a:pt x="629" y="1273"/>
                </a:lnTo>
                <a:lnTo>
                  <a:pt x="584" y="1273"/>
                </a:lnTo>
                <a:lnTo>
                  <a:pt x="539" y="1288"/>
                </a:lnTo>
                <a:lnTo>
                  <a:pt x="524" y="1288"/>
                </a:lnTo>
                <a:lnTo>
                  <a:pt x="494" y="1258"/>
                </a:lnTo>
                <a:lnTo>
                  <a:pt x="464" y="1229"/>
                </a:lnTo>
                <a:lnTo>
                  <a:pt x="434" y="1229"/>
                </a:lnTo>
                <a:lnTo>
                  <a:pt x="419" y="1273"/>
                </a:lnTo>
                <a:lnTo>
                  <a:pt x="345" y="1273"/>
                </a:lnTo>
                <a:lnTo>
                  <a:pt x="330" y="1229"/>
                </a:lnTo>
                <a:lnTo>
                  <a:pt x="300" y="1199"/>
                </a:lnTo>
                <a:lnTo>
                  <a:pt x="255" y="1154"/>
                </a:lnTo>
                <a:lnTo>
                  <a:pt x="225" y="1124"/>
                </a:lnTo>
                <a:lnTo>
                  <a:pt x="210" y="1139"/>
                </a:lnTo>
                <a:lnTo>
                  <a:pt x="195" y="1109"/>
                </a:lnTo>
                <a:lnTo>
                  <a:pt x="150" y="1139"/>
                </a:lnTo>
                <a:lnTo>
                  <a:pt x="135" y="1139"/>
                </a:lnTo>
                <a:lnTo>
                  <a:pt x="120" y="1064"/>
                </a:lnTo>
                <a:lnTo>
                  <a:pt x="165" y="1019"/>
                </a:lnTo>
                <a:lnTo>
                  <a:pt x="180" y="1004"/>
                </a:lnTo>
                <a:lnTo>
                  <a:pt x="165" y="959"/>
                </a:lnTo>
                <a:lnTo>
                  <a:pt x="165" y="914"/>
                </a:lnTo>
                <a:lnTo>
                  <a:pt x="195" y="884"/>
                </a:lnTo>
                <a:lnTo>
                  <a:pt x="255" y="869"/>
                </a:lnTo>
                <a:lnTo>
                  <a:pt x="240" y="809"/>
                </a:lnTo>
                <a:lnTo>
                  <a:pt x="225" y="779"/>
                </a:lnTo>
                <a:lnTo>
                  <a:pt x="240" y="749"/>
                </a:lnTo>
                <a:lnTo>
                  <a:pt x="240" y="734"/>
                </a:lnTo>
                <a:lnTo>
                  <a:pt x="225" y="704"/>
                </a:lnTo>
                <a:lnTo>
                  <a:pt x="195" y="704"/>
                </a:lnTo>
                <a:lnTo>
                  <a:pt x="195" y="659"/>
                </a:lnTo>
                <a:lnTo>
                  <a:pt x="150" y="659"/>
                </a:lnTo>
                <a:lnTo>
                  <a:pt x="120" y="644"/>
                </a:lnTo>
                <a:lnTo>
                  <a:pt x="135" y="614"/>
                </a:lnTo>
                <a:lnTo>
                  <a:pt x="135" y="584"/>
                </a:lnTo>
                <a:lnTo>
                  <a:pt x="105" y="554"/>
                </a:lnTo>
                <a:lnTo>
                  <a:pt x="45" y="524"/>
                </a:lnTo>
                <a:lnTo>
                  <a:pt x="0" y="509"/>
                </a:lnTo>
                <a:lnTo>
                  <a:pt x="15" y="479"/>
                </a:lnTo>
                <a:lnTo>
                  <a:pt x="45" y="479"/>
                </a:lnTo>
                <a:lnTo>
                  <a:pt x="75" y="464"/>
                </a:lnTo>
                <a:lnTo>
                  <a:pt x="90" y="434"/>
                </a:lnTo>
                <a:lnTo>
                  <a:pt x="75" y="404"/>
                </a:lnTo>
                <a:lnTo>
                  <a:pt x="60" y="389"/>
                </a:lnTo>
                <a:lnTo>
                  <a:pt x="45" y="345"/>
                </a:lnTo>
                <a:lnTo>
                  <a:pt x="90" y="330"/>
                </a:lnTo>
                <a:lnTo>
                  <a:pt x="75" y="270"/>
                </a:lnTo>
                <a:lnTo>
                  <a:pt x="105" y="270"/>
                </a:lnTo>
                <a:lnTo>
                  <a:pt x="135" y="225"/>
                </a:lnTo>
                <a:lnTo>
                  <a:pt x="195" y="195"/>
                </a:lnTo>
                <a:lnTo>
                  <a:pt x="285" y="180"/>
                </a:lnTo>
                <a:lnTo>
                  <a:pt x="300" y="180"/>
                </a:lnTo>
                <a:lnTo>
                  <a:pt x="330" y="120"/>
                </a:lnTo>
                <a:lnTo>
                  <a:pt x="330" y="75"/>
                </a:lnTo>
                <a:lnTo>
                  <a:pt x="345" y="1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67080" y="2857680"/>
            <a:ext cx="987480" cy="1211040"/>
          </a:xfrm>
          <a:custGeom>
            <a:avLst/>
            <a:gdLst/>
            <a:ahLst/>
            <a:rect l="l" t="t" r="r" b="b"/>
            <a:pathLst>
              <a:path w="1152" h="1438">
                <a:moveTo>
                  <a:pt x="329" y="45"/>
                </a:moveTo>
                <a:lnTo>
                  <a:pt x="374" y="30"/>
                </a:lnTo>
                <a:lnTo>
                  <a:pt x="389" y="30"/>
                </a:lnTo>
                <a:lnTo>
                  <a:pt x="434" y="45"/>
                </a:lnTo>
                <a:lnTo>
                  <a:pt x="494" y="0"/>
                </a:lnTo>
                <a:lnTo>
                  <a:pt x="523" y="0"/>
                </a:lnTo>
                <a:lnTo>
                  <a:pt x="553" y="75"/>
                </a:lnTo>
                <a:lnTo>
                  <a:pt x="583" y="60"/>
                </a:lnTo>
                <a:lnTo>
                  <a:pt x="628" y="75"/>
                </a:lnTo>
                <a:lnTo>
                  <a:pt x="658" y="60"/>
                </a:lnTo>
                <a:lnTo>
                  <a:pt x="688" y="45"/>
                </a:lnTo>
                <a:lnTo>
                  <a:pt x="703" y="45"/>
                </a:lnTo>
                <a:lnTo>
                  <a:pt x="718" y="105"/>
                </a:lnTo>
                <a:lnTo>
                  <a:pt x="748" y="105"/>
                </a:lnTo>
                <a:lnTo>
                  <a:pt x="763" y="90"/>
                </a:lnTo>
                <a:lnTo>
                  <a:pt x="793" y="105"/>
                </a:lnTo>
                <a:lnTo>
                  <a:pt x="808" y="90"/>
                </a:lnTo>
                <a:lnTo>
                  <a:pt x="913" y="195"/>
                </a:lnTo>
                <a:lnTo>
                  <a:pt x="928" y="239"/>
                </a:lnTo>
                <a:lnTo>
                  <a:pt x="987" y="239"/>
                </a:lnTo>
                <a:lnTo>
                  <a:pt x="1017" y="195"/>
                </a:lnTo>
                <a:lnTo>
                  <a:pt x="1047" y="195"/>
                </a:lnTo>
                <a:lnTo>
                  <a:pt x="1077" y="224"/>
                </a:lnTo>
                <a:lnTo>
                  <a:pt x="1107" y="254"/>
                </a:lnTo>
                <a:lnTo>
                  <a:pt x="1107" y="284"/>
                </a:lnTo>
                <a:lnTo>
                  <a:pt x="1137" y="314"/>
                </a:lnTo>
                <a:lnTo>
                  <a:pt x="1122" y="359"/>
                </a:lnTo>
                <a:lnTo>
                  <a:pt x="1122" y="374"/>
                </a:lnTo>
                <a:lnTo>
                  <a:pt x="1137" y="419"/>
                </a:lnTo>
                <a:lnTo>
                  <a:pt x="1152" y="464"/>
                </a:lnTo>
                <a:lnTo>
                  <a:pt x="1122" y="494"/>
                </a:lnTo>
                <a:lnTo>
                  <a:pt x="1107" y="539"/>
                </a:lnTo>
                <a:lnTo>
                  <a:pt x="1107" y="569"/>
                </a:lnTo>
                <a:lnTo>
                  <a:pt x="1032" y="569"/>
                </a:lnTo>
                <a:lnTo>
                  <a:pt x="1017" y="584"/>
                </a:lnTo>
                <a:lnTo>
                  <a:pt x="972" y="584"/>
                </a:lnTo>
                <a:lnTo>
                  <a:pt x="972" y="614"/>
                </a:lnTo>
                <a:lnTo>
                  <a:pt x="972" y="644"/>
                </a:lnTo>
                <a:lnTo>
                  <a:pt x="942" y="659"/>
                </a:lnTo>
                <a:lnTo>
                  <a:pt x="913" y="704"/>
                </a:lnTo>
                <a:lnTo>
                  <a:pt x="883" y="734"/>
                </a:lnTo>
                <a:lnTo>
                  <a:pt x="823" y="734"/>
                </a:lnTo>
                <a:lnTo>
                  <a:pt x="763" y="734"/>
                </a:lnTo>
                <a:lnTo>
                  <a:pt x="733" y="749"/>
                </a:lnTo>
                <a:lnTo>
                  <a:pt x="718" y="764"/>
                </a:lnTo>
                <a:lnTo>
                  <a:pt x="718" y="839"/>
                </a:lnTo>
                <a:lnTo>
                  <a:pt x="718" y="869"/>
                </a:lnTo>
                <a:lnTo>
                  <a:pt x="688" y="884"/>
                </a:lnTo>
                <a:lnTo>
                  <a:pt x="688" y="929"/>
                </a:lnTo>
                <a:lnTo>
                  <a:pt x="688" y="1004"/>
                </a:lnTo>
                <a:lnTo>
                  <a:pt x="688" y="1034"/>
                </a:lnTo>
                <a:lnTo>
                  <a:pt x="703" y="1064"/>
                </a:lnTo>
                <a:lnTo>
                  <a:pt x="688" y="1108"/>
                </a:lnTo>
                <a:lnTo>
                  <a:pt x="658" y="1153"/>
                </a:lnTo>
                <a:lnTo>
                  <a:pt x="658" y="1183"/>
                </a:lnTo>
                <a:lnTo>
                  <a:pt x="688" y="1183"/>
                </a:lnTo>
                <a:lnTo>
                  <a:pt x="703" y="1213"/>
                </a:lnTo>
                <a:lnTo>
                  <a:pt x="733" y="1228"/>
                </a:lnTo>
                <a:lnTo>
                  <a:pt x="718" y="1243"/>
                </a:lnTo>
                <a:lnTo>
                  <a:pt x="718" y="1288"/>
                </a:lnTo>
                <a:lnTo>
                  <a:pt x="688" y="1318"/>
                </a:lnTo>
                <a:lnTo>
                  <a:pt x="673" y="1423"/>
                </a:lnTo>
                <a:lnTo>
                  <a:pt x="628" y="1423"/>
                </a:lnTo>
                <a:lnTo>
                  <a:pt x="598" y="1408"/>
                </a:lnTo>
                <a:lnTo>
                  <a:pt x="553" y="1393"/>
                </a:lnTo>
                <a:lnTo>
                  <a:pt x="523" y="1393"/>
                </a:lnTo>
                <a:lnTo>
                  <a:pt x="494" y="1408"/>
                </a:lnTo>
                <a:lnTo>
                  <a:pt x="449" y="1438"/>
                </a:lnTo>
                <a:lnTo>
                  <a:pt x="389" y="1438"/>
                </a:lnTo>
                <a:lnTo>
                  <a:pt x="374" y="1438"/>
                </a:lnTo>
                <a:lnTo>
                  <a:pt x="344" y="1423"/>
                </a:lnTo>
                <a:lnTo>
                  <a:pt x="359" y="1378"/>
                </a:lnTo>
                <a:lnTo>
                  <a:pt x="329" y="1363"/>
                </a:lnTo>
                <a:lnTo>
                  <a:pt x="299" y="1378"/>
                </a:lnTo>
                <a:lnTo>
                  <a:pt x="269" y="1393"/>
                </a:lnTo>
                <a:lnTo>
                  <a:pt x="239" y="1378"/>
                </a:lnTo>
                <a:lnTo>
                  <a:pt x="209" y="1363"/>
                </a:lnTo>
                <a:lnTo>
                  <a:pt x="224" y="1288"/>
                </a:lnTo>
                <a:lnTo>
                  <a:pt x="179" y="1273"/>
                </a:lnTo>
                <a:lnTo>
                  <a:pt x="194" y="1198"/>
                </a:lnTo>
                <a:lnTo>
                  <a:pt x="194" y="1123"/>
                </a:lnTo>
                <a:lnTo>
                  <a:pt x="194" y="1064"/>
                </a:lnTo>
                <a:lnTo>
                  <a:pt x="194" y="1049"/>
                </a:lnTo>
                <a:lnTo>
                  <a:pt x="224" y="1004"/>
                </a:lnTo>
                <a:lnTo>
                  <a:pt x="194" y="959"/>
                </a:lnTo>
                <a:lnTo>
                  <a:pt x="164" y="944"/>
                </a:lnTo>
                <a:lnTo>
                  <a:pt x="134" y="929"/>
                </a:lnTo>
                <a:lnTo>
                  <a:pt x="89" y="914"/>
                </a:lnTo>
                <a:lnTo>
                  <a:pt x="45" y="914"/>
                </a:lnTo>
                <a:lnTo>
                  <a:pt x="0" y="929"/>
                </a:lnTo>
                <a:lnTo>
                  <a:pt x="0" y="869"/>
                </a:lnTo>
                <a:lnTo>
                  <a:pt x="45" y="854"/>
                </a:lnTo>
                <a:lnTo>
                  <a:pt x="75" y="839"/>
                </a:lnTo>
                <a:lnTo>
                  <a:pt x="60" y="794"/>
                </a:lnTo>
                <a:lnTo>
                  <a:pt x="75" y="779"/>
                </a:lnTo>
                <a:lnTo>
                  <a:pt x="75" y="734"/>
                </a:lnTo>
                <a:lnTo>
                  <a:pt x="60" y="704"/>
                </a:lnTo>
                <a:lnTo>
                  <a:pt x="60" y="659"/>
                </a:lnTo>
                <a:lnTo>
                  <a:pt x="0" y="584"/>
                </a:lnTo>
                <a:lnTo>
                  <a:pt x="60" y="554"/>
                </a:lnTo>
                <a:lnTo>
                  <a:pt x="134" y="554"/>
                </a:lnTo>
                <a:lnTo>
                  <a:pt x="134" y="509"/>
                </a:lnTo>
                <a:lnTo>
                  <a:pt x="179" y="479"/>
                </a:lnTo>
                <a:lnTo>
                  <a:pt x="239" y="419"/>
                </a:lnTo>
                <a:lnTo>
                  <a:pt x="284" y="359"/>
                </a:lnTo>
                <a:lnTo>
                  <a:pt x="329" y="329"/>
                </a:lnTo>
                <a:lnTo>
                  <a:pt x="284" y="284"/>
                </a:lnTo>
                <a:lnTo>
                  <a:pt x="299" y="254"/>
                </a:lnTo>
                <a:lnTo>
                  <a:pt x="284" y="180"/>
                </a:lnTo>
                <a:lnTo>
                  <a:pt x="299" y="135"/>
                </a:lnTo>
                <a:lnTo>
                  <a:pt x="329" y="120"/>
                </a:lnTo>
                <a:lnTo>
                  <a:pt x="329" y="45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405240" y="2138400"/>
            <a:ext cx="1101600" cy="1209600"/>
          </a:xfrm>
          <a:custGeom>
            <a:avLst/>
            <a:gdLst/>
            <a:ahLst/>
            <a:rect l="l" t="t" r="r" b="b"/>
            <a:pathLst>
              <a:path w="1287" h="1438">
                <a:moveTo>
                  <a:pt x="494" y="0"/>
                </a:moveTo>
                <a:lnTo>
                  <a:pt x="539" y="0"/>
                </a:lnTo>
                <a:lnTo>
                  <a:pt x="569" y="15"/>
                </a:lnTo>
                <a:lnTo>
                  <a:pt x="569" y="30"/>
                </a:lnTo>
                <a:lnTo>
                  <a:pt x="629" y="60"/>
                </a:lnTo>
                <a:lnTo>
                  <a:pt x="629" y="15"/>
                </a:lnTo>
                <a:lnTo>
                  <a:pt x="659" y="45"/>
                </a:lnTo>
                <a:lnTo>
                  <a:pt x="659" y="105"/>
                </a:lnTo>
                <a:lnTo>
                  <a:pt x="704" y="150"/>
                </a:lnTo>
                <a:lnTo>
                  <a:pt x="718" y="180"/>
                </a:lnTo>
                <a:lnTo>
                  <a:pt x="748" y="180"/>
                </a:lnTo>
                <a:lnTo>
                  <a:pt x="793" y="195"/>
                </a:lnTo>
                <a:lnTo>
                  <a:pt x="913" y="195"/>
                </a:lnTo>
                <a:lnTo>
                  <a:pt x="943" y="180"/>
                </a:lnTo>
                <a:lnTo>
                  <a:pt x="973" y="180"/>
                </a:lnTo>
                <a:lnTo>
                  <a:pt x="958" y="209"/>
                </a:lnTo>
                <a:lnTo>
                  <a:pt x="988" y="224"/>
                </a:lnTo>
                <a:lnTo>
                  <a:pt x="973" y="269"/>
                </a:lnTo>
                <a:lnTo>
                  <a:pt x="988" y="299"/>
                </a:lnTo>
                <a:lnTo>
                  <a:pt x="988" y="314"/>
                </a:lnTo>
                <a:lnTo>
                  <a:pt x="1018" y="314"/>
                </a:lnTo>
                <a:lnTo>
                  <a:pt x="1048" y="329"/>
                </a:lnTo>
                <a:lnTo>
                  <a:pt x="1033" y="359"/>
                </a:lnTo>
                <a:lnTo>
                  <a:pt x="1063" y="389"/>
                </a:lnTo>
                <a:lnTo>
                  <a:pt x="1048" y="434"/>
                </a:lnTo>
                <a:lnTo>
                  <a:pt x="1108" y="449"/>
                </a:lnTo>
                <a:lnTo>
                  <a:pt x="1138" y="464"/>
                </a:lnTo>
                <a:lnTo>
                  <a:pt x="1167" y="494"/>
                </a:lnTo>
                <a:lnTo>
                  <a:pt x="1182" y="509"/>
                </a:lnTo>
                <a:lnTo>
                  <a:pt x="1212" y="494"/>
                </a:lnTo>
                <a:lnTo>
                  <a:pt x="1212" y="554"/>
                </a:lnTo>
                <a:lnTo>
                  <a:pt x="1212" y="599"/>
                </a:lnTo>
                <a:lnTo>
                  <a:pt x="1272" y="599"/>
                </a:lnTo>
                <a:lnTo>
                  <a:pt x="1287" y="629"/>
                </a:lnTo>
                <a:lnTo>
                  <a:pt x="1287" y="704"/>
                </a:lnTo>
                <a:lnTo>
                  <a:pt x="1287" y="809"/>
                </a:lnTo>
                <a:lnTo>
                  <a:pt x="1242" y="824"/>
                </a:lnTo>
                <a:lnTo>
                  <a:pt x="1227" y="839"/>
                </a:lnTo>
                <a:lnTo>
                  <a:pt x="1212" y="869"/>
                </a:lnTo>
                <a:lnTo>
                  <a:pt x="1182" y="884"/>
                </a:lnTo>
                <a:lnTo>
                  <a:pt x="1152" y="854"/>
                </a:lnTo>
                <a:lnTo>
                  <a:pt x="1123" y="884"/>
                </a:lnTo>
                <a:lnTo>
                  <a:pt x="1093" y="884"/>
                </a:lnTo>
                <a:lnTo>
                  <a:pt x="1048" y="869"/>
                </a:lnTo>
                <a:lnTo>
                  <a:pt x="1033" y="899"/>
                </a:lnTo>
                <a:lnTo>
                  <a:pt x="1003" y="899"/>
                </a:lnTo>
                <a:lnTo>
                  <a:pt x="973" y="869"/>
                </a:lnTo>
                <a:lnTo>
                  <a:pt x="943" y="899"/>
                </a:lnTo>
                <a:lnTo>
                  <a:pt x="898" y="884"/>
                </a:lnTo>
                <a:lnTo>
                  <a:pt x="868" y="929"/>
                </a:lnTo>
                <a:lnTo>
                  <a:pt x="868" y="974"/>
                </a:lnTo>
                <a:lnTo>
                  <a:pt x="868" y="1004"/>
                </a:lnTo>
                <a:lnTo>
                  <a:pt x="853" y="1034"/>
                </a:lnTo>
                <a:lnTo>
                  <a:pt x="808" y="1034"/>
                </a:lnTo>
                <a:lnTo>
                  <a:pt x="763" y="1034"/>
                </a:lnTo>
                <a:lnTo>
                  <a:pt x="733" y="1034"/>
                </a:lnTo>
                <a:lnTo>
                  <a:pt x="704" y="1049"/>
                </a:lnTo>
                <a:lnTo>
                  <a:pt x="674" y="1049"/>
                </a:lnTo>
                <a:lnTo>
                  <a:pt x="659" y="1063"/>
                </a:lnTo>
                <a:lnTo>
                  <a:pt x="689" y="1078"/>
                </a:lnTo>
                <a:lnTo>
                  <a:pt x="689" y="1108"/>
                </a:lnTo>
                <a:lnTo>
                  <a:pt x="659" y="1138"/>
                </a:lnTo>
                <a:lnTo>
                  <a:pt x="614" y="1153"/>
                </a:lnTo>
                <a:lnTo>
                  <a:pt x="584" y="1168"/>
                </a:lnTo>
                <a:lnTo>
                  <a:pt x="569" y="1183"/>
                </a:lnTo>
                <a:lnTo>
                  <a:pt x="539" y="1198"/>
                </a:lnTo>
                <a:lnTo>
                  <a:pt x="494" y="1198"/>
                </a:lnTo>
                <a:lnTo>
                  <a:pt x="449" y="1198"/>
                </a:lnTo>
                <a:lnTo>
                  <a:pt x="434" y="1243"/>
                </a:lnTo>
                <a:lnTo>
                  <a:pt x="404" y="1273"/>
                </a:lnTo>
                <a:lnTo>
                  <a:pt x="404" y="1303"/>
                </a:lnTo>
                <a:lnTo>
                  <a:pt x="344" y="1303"/>
                </a:lnTo>
                <a:lnTo>
                  <a:pt x="314" y="1303"/>
                </a:lnTo>
                <a:lnTo>
                  <a:pt x="314" y="1333"/>
                </a:lnTo>
                <a:lnTo>
                  <a:pt x="344" y="1393"/>
                </a:lnTo>
                <a:lnTo>
                  <a:pt x="329" y="1408"/>
                </a:lnTo>
                <a:lnTo>
                  <a:pt x="284" y="1423"/>
                </a:lnTo>
                <a:lnTo>
                  <a:pt x="210" y="1423"/>
                </a:lnTo>
                <a:lnTo>
                  <a:pt x="195" y="1393"/>
                </a:lnTo>
                <a:lnTo>
                  <a:pt x="135" y="1408"/>
                </a:lnTo>
                <a:lnTo>
                  <a:pt x="120" y="1423"/>
                </a:lnTo>
                <a:lnTo>
                  <a:pt x="105" y="1438"/>
                </a:lnTo>
                <a:lnTo>
                  <a:pt x="75" y="1438"/>
                </a:lnTo>
                <a:lnTo>
                  <a:pt x="30" y="1438"/>
                </a:lnTo>
                <a:lnTo>
                  <a:pt x="0" y="1408"/>
                </a:lnTo>
                <a:lnTo>
                  <a:pt x="30" y="1348"/>
                </a:lnTo>
                <a:lnTo>
                  <a:pt x="45" y="1318"/>
                </a:lnTo>
                <a:lnTo>
                  <a:pt x="30" y="1258"/>
                </a:lnTo>
                <a:lnTo>
                  <a:pt x="30" y="1228"/>
                </a:lnTo>
                <a:lnTo>
                  <a:pt x="45" y="1168"/>
                </a:lnTo>
                <a:lnTo>
                  <a:pt x="15" y="1138"/>
                </a:lnTo>
                <a:lnTo>
                  <a:pt x="15" y="1093"/>
                </a:lnTo>
                <a:lnTo>
                  <a:pt x="75" y="1093"/>
                </a:lnTo>
                <a:lnTo>
                  <a:pt x="120" y="1093"/>
                </a:lnTo>
                <a:lnTo>
                  <a:pt x="135" y="1078"/>
                </a:lnTo>
                <a:lnTo>
                  <a:pt x="165" y="1049"/>
                </a:lnTo>
                <a:lnTo>
                  <a:pt x="165" y="1019"/>
                </a:lnTo>
                <a:lnTo>
                  <a:pt x="165" y="974"/>
                </a:lnTo>
                <a:lnTo>
                  <a:pt x="210" y="974"/>
                </a:lnTo>
                <a:lnTo>
                  <a:pt x="210" y="929"/>
                </a:lnTo>
                <a:lnTo>
                  <a:pt x="225" y="914"/>
                </a:lnTo>
                <a:lnTo>
                  <a:pt x="210" y="884"/>
                </a:lnTo>
                <a:lnTo>
                  <a:pt x="225" y="854"/>
                </a:lnTo>
                <a:lnTo>
                  <a:pt x="240" y="824"/>
                </a:lnTo>
                <a:lnTo>
                  <a:pt x="225" y="794"/>
                </a:lnTo>
                <a:lnTo>
                  <a:pt x="225" y="749"/>
                </a:lnTo>
                <a:lnTo>
                  <a:pt x="255" y="734"/>
                </a:lnTo>
                <a:lnTo>
                  <a:pt x="270" y="704"/>
                </a:lnTo>
                <a:lnTo>
                  <a:pt x="299" y="674"/>
                </a:lnTo>
                <a:lnTo>
                  <a:pt x="299" y="644"/>
                </a:lnTo>
                <a:lnTo>
                  <a:pt x="270" y="614"/>
                </a:lnTo>
                <a:lnTo>
                  <a:pt x="270" y="584"/>
                </a:lnTo>
                <a:lnTo>
                  <a:pt x="284" y="554"/>
                </a:lnTo>
                <a:lnTo>
                  <a:pt x="270" y="524"/>
                </a:lnTo>
                <a:lnTo>
                  <a:pt x="270" y="479"/>
                </a:lnTo>
                <a:lnTo>
                  <a:pt x="314" y="494"/>
                </a:lnTo>
                <a:lnTo>
                  <a:pt x="329" y="479"/>
                </a:lnTo>
                <a:lnTo>
                  <a:pt x="344" y="449"/>
                </a:lnTo>
                <a:lnTo>
                  <a:pt x="389" y="464"/>
                </a:lnTo>
                <a:lnTo>
                  <a:pt x="404" y="434"/>
                </a:lnTo>
                <a:lnTo>
                  <a:pt x="389" y="359"/>
                </a:lnTo>
                <a:lnTo>
                  <a:pt x="374" y="314"/>
                </a:lnTo>
                <a:lnTo>
                  <a:pt x="404" y="314"/>
                </a:lnTo>
                <a:lnTo>
                  <a:pt x="419" y="269"/>
                </a:lnTo>
                <a:lnTo>
                  <a:pt x="434" y="239"/>
                </a:lnTo>
                <a:lnTo>
                  <a:pt x="404" y="195"/>
                </a:lnTo>
                <a:lnTo>
                  <a:pt x="419" y="120"/>
                </a:lnTo>
                <a:lnTo>
                  <a:pt x="434" y="120"/>
                </a:lnTo>
                <a:lnTo>
                  <a:pt x="449" y="90"/>
                </a:lnTo>
                <a:lnTo>
                  <a:pt x="449" y="60"/>
                </a:lnTo>
                <a:lnTo>
                  <a:pt x="494" y="0"/>
                </a:lnTo>
                <a:close/>
              </a:path>
            </a:pathLst>
          </a:custGeom>
          <a:solidFill>
            <a:srgbClr val="34be52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599000" y="1270080"/>
            <a:ext cx="1335240" cy="1793880"/>
          </a:xfrm>
          <a:custGeom>
            <a:avLst/>
            <a:gdLst/>
            <a:ahLst/>
            <a:rect l="l" t="t" r="r" b="b"/>
            <a:pathLst>
              <a:path w="1556" h="2127">
                <a:moveTo>
                  <a:pt x="45" y="135"/>
                </a:moveTo>
                <a:lnTo>
                  <a:pt x="45" y="195"/>
                </a:lnTo>
                <a:lnTo>
                  <a:pt x="75" y="195"/>
                </a:lnTo>
                <a:lnTo>
                  <a:pt x="75" y="225"/>
                </a:lnTo>
                <a:lnTo>
                  <a:pt x="60" y="255"/>
                </a:lnTo>
                <a:lnTo>
                  <a:pt x="30" y="285"/>
                </a:lnTo>
                <a:lnTo>
                  <a:pt x="30" y="330"/>
                </a:lnTo>
                <a:lnTo>
                  <a:pt x="60" y="360"/>
                </a:lnTo>
                <a:lnTo>
                  <a:pt x="60" y="479"/>
                </a:lnTo>
                <a:lnTo>
                  <a:pt x="30" y="494"/>
                </a:lnTo>
                <a:lnTo>
                  <a:pt x="15" y="509"/>
                </a:lnTo>
                <a:lnTo>
                  <a:pt x="15" y="554"/>
                </a:lnTo>
                <a:lnTo>
                  <a:pt x="15" y="584"/>
                </a:lnTo>
                <a:lnTo>
                  <a:pt x="0" y="644"/>
                </a:lnTo>
                <a:lnTo>
                  <a:pt x="45" y="704"/>
                </a:lnTo>
                <a:lnTo>
                  <a:pt x="30" y="734"/>
                </a:lnTo>
                <a:lnTo>
                  <a:pt x="30" y="809"/>
                </a:lnTo>
                <a:lnTo>
                  <a:pt x="0" y="809"/>
                </a:lnTo>
                <a:lnTo>
                  <a:pt x="0" y="899"/>
                </a:lnTo>
                <a:lnTo>
                  <a:pt x="45" y="944"/>
                </a:lnTo>
                <a:lnTo>
                  <a:pt x="135" y="989"/>
                </a:lnTo>
                <a:lnTo>
                  <a:pt x="150" y="1049"/>
                </a:lnTo>
                <a:lnTo>
                  <a:pt x="135" y="1139"/>
                </a:lnTo>
                <a:lnTo>
                  <a:pt x="165" y="1154"/>
                </a:lnTo>
                <a:lnTo>
                  <a:pt x="165" y="1214"/>
                </a:lnTo>
                <a:lnTo>
                  <a:pt x="209" y="1273"/>
                </a:lnTo>
                <a:lnTo>
                  <a:pt x="254" y="1333"/>
                </a:lnTo>
                <a:lnTo>
                  <a:pt x="284" y="1348"/>
                </a:lnTo>
                <a:lnTo>
                  <a:pt x="314" y="1363"/>
                </a:lnTo>
                <a:lnTo>
                  <a:pt x="299" y="1408"/>
                </a:lnTo>
                <a:lnTo>
                  <a:pt x="359" y="1423"/>
                </a:lnTo>
                <a:lnTo>
                  <a:pt x="404" y="1468"/>
                </a:lnTo>
                <a:lnTo>
                  <a:pt x="404" y="1528"/>
                </a:lnTo>
                <a:lnTo>
                  <a:pt x="419" y="1573"/>
                </a:lnTo>
                <a:lnTo>
                  <a:pt x="419" y="1663"/>
                </a:lnTo>
                <a:lnTo>
                  <a:pt x="464" y="1708"/>
                </a:lnTo>
                <a:lnTo>
                  <a:pt x="449" y="1738"/>
                </a:lnTo>
                <a:lnTo>
                  <a:pt x="524" y="1738"/>
                </a:lnTo>
                <a:lnTo>
                  <a:pt x="599" y="1768"/>
                </a:lnTo>
                <a:lnTo>
                  <a:pt x="658" y="1843"/>
                </a:lnTo>
                <a:lnTo>
                  <a:pt x="703" y="1948"/>
                </a:lnTo>
                <a:lnTo>
                  <a:pt x="763" y="1993"/>
                </a:lnTo>
                <a:lnTo>
                  <a:pt x="823" y="2038"/>
                </a:lnTo>
                <a:lnTo>
                  <a:pt x="898" y="2038"/>
                </a:lnTo>
                <a:lnTo>
                  <a:pt x="958" y="2038"/>
                </a:lnTo>
                <a:lnTo>
                  <a:pt x="1033" y="2053"/>
                </a:lnTo>
                <a:lnTo>
                  <a:pt x="1062" y="2097"/>
                </a:lnTo>
                <a:lnTo>
                  <a:pt x="1107" y="2097"/>
                </a:lnTo>
                <a:lnTo>
                  <a:pt x="1167" y="2127"/>
                </a:lnTo>
                <a:lnTo>
                  <a:pt x="1152" y="2023"/>
                </a:lnTo>
                <a:lnTo>
                  <a:pt x="1257" y="1843"/>
                </a:lnTo>
                <a:lnTo>
                  <a:pt x="1317" y="1768"/>
                </a:lnTo>
                <a:lnTo>
                  <a:pt x="1511" y="1708"/>
                </a:lnTo>
                <a:lnTo>
                  <a:pt x="1556" y="1633"/>
                </a:lnTo>
                <a:lnTo>
                  <a:pt x="1526" y="1363"/>
                </a:lnTo>
                <a:lnTo>
                  <a:pt x="1466" y="1139"/>
                </a:lnTo>
                <a:lnTo>
                  <a:pt x="1362" y="974"/>
                </a:lnTo>
                <a:lnTo>
                  <a:pt x="1212" y="524"/>
                </a:lnTo>
                <a:lnTo>
                  <a:pt x="1167" y="374"/>
                </a:lnTo>
                <a:lnTo>
                  <a:pt x="1212" y="360"/>
                </a:lnTo>
                <a:lnTo>
                  <a:pt x="1212" y="270"/>
                </a:lnTo>
                <a:lnTo>
                  <a:pt x="1152" y="195"/>
                </a:lnTo>
                <a:lnTo>
                  <a:pt x="1122" y="180"/>
                </a:lnTo>
                <a:lnTo>
                  <a:pt x="1092" y="165"/>
                </a:lnTo>
                <a:lnTo>
                  <a:pt x="1047" y="165"/>
                </a:lnTo>
                <a:lnTo>
                  <a:pt x="988" y="105"/>
                </a:lnTo>
                <a:lnTo>
                  <a:pt x="943" y="135"/>
                </a:lnTo>
                <a:lnTo>
                  <a:pt x="883" y="45"/>
                </a:lnTo>
                <a:lnTo>
                  <a:pt x="793" y="0"/>
                </a:lnTo>
                <a:lnTo>
                  <a:pt x="718" y="45"/>
                </a:lnTo>
                <a:lnTo>
                  <a:pt x="569" y="75"/>
                </a:lnTo>
                <a:lnTo>
                  <a:pt x="404" y="75"/>
                </a:lnTo>
                <a:lnTo>
                  <a:pt x="299" y="90"/>
                </a:lnTo>
                <a:lnTo>
                  <a:pt x="194" y="90"/>
                </a:lnTo>
                <a:lnTo>
                  <a:pt x="105" y="135"/>
                </a:lnTo>
                <a:lnTo>
                  <a:pt x="45" y="13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033800" y="2025720"/>
            <a:ext cx="1281240" cy="1614240"/>
          </a:xfrm>
          <a:custGeom>
            <a:avLst/>
            <a:gdLst/>
            <a:ahLst/>
            <a:rect l="l" t="t" r="r" b="b"/>
            <a:pathLst>
              <a:path w="1497" h="1918">
                <a:moveTo>
                  <a:pt x="1422" y="1348"/>
                </a:moveTo>
                <a:lnTo>
                  <a:pt x="1467" y="1408"/>
                </a:lnTo>
                <a:lnTo>
                  <a:pt x="1467" y="1453"/>
                </a:lnTo>
                <a:lnTo>
                  <a:pt x="1452" y="1498"/>
                </a:lnTo>
                <a:lnTo>
                  <a:pt x="1422" y="1513"/>
                </a:lnTo>
                <a:lnTo>
                  <a:pt x="1422" y="1588"/>
                </a:lnTo>
                <a:lnTo>
                  <a:pt x="1377" y="1618"/>
                </a:lnTo>
                <a:lnTo>
                  <a:pt x="1332" y="1633"/>
                </a:lnTo>
                <a:lnTo>
                  <a:pt x="1302" y="1648"/>
                </a:lnTo>
                <a:lnTo>
                  <a:pt x="1332" y="1693"/>
                </a:lnTo>
                <a:lnTo>
                  <a:pt x="1347" y="1738"/>
                </a:lnTo>
                <a:lnTo>
                  <a:pt x="1317" y="1783"/>
                </a:lnTo>
                <a:lnTo>
                  <a:pt x="1302" y="1843"/>
                </a:lnTo>
                <a:lnTo>
                  <a:pt x="1272" y="1843"/>
                </a:lnTo>
                <a:lnTo>
                  <a:pt x="1198" y="1843"/>
                </a:lnTo>
                <a:lnTo>
                  <a:pt x="1183" y="1798"/>
                </a:lnTo>
                <a:lnTo>
                  <a:pt x="1153" y="1783"/>
                </a:lnTo>
                <a:lnTo>
                  <a:pt x="1138" y="1828"/>
                </a:lnTo>
                <a:lnTo>
                  <a:pt x="1048" y="1828"/>
                </a:lnTo>
                <a:lnTo>
                  <a:pt x="988" y="1828"/>
                </a:lnTo>
                <a:lnTo>
                  <a:pt x="958" y="1858"/>
                </a:lnTo>
                <a:lnTo>
                  <a:pt x="913" y="1903"/>
                </a:lnTo>
                <a:lnTo>
                  <a:pt x="883" y="1858"/>
                </a:lnTo>
                <a:lnTo>
                  <a:pt x="838" y="1888"/>
                </a:lnTo>
                <a:lnTo>
                  <a:pt x="838" y="1918"/>
                </a:lnTo>
                <a:lnTo>
                  <a:pt x="794" y="1918"/>
                </a:lnTo>
                <a:lnTo>
                  <a:pt x="764" y="1858"/>
                </a:lnTo>
                <a:lnTo>
                  <a:pt x="764" y="1783"/>
                </a:lnTo>
                <a:lnTo>
                  <a:pt x="719" y="1723"/>
                </a:lnTo>
                <a:lnTo>
                  <a:pt x="659" y="1693"/>
                </a:lnTo>
                <a:lnTo>
                  <a:pt x="629" y="1648"/>
                </a:lnTo>
                <a:lnTo>
                  <a:pt x="599" y="1648"/>
                </a:lnTo>
                <a:lnTo>
                  <a:pt x="584" y="1618"/>
                </a:lnTo>
                <a:lnTo>
                  <a:pt x="494" y="1618"/>
                </a:lnTo>
                <a:lnTo>
                  <a:pt x="464" y="1633"/>
                </a:lnTo>
                <a:lnTo>
                  <a:pt x="434" y="1588"/>
                </a:lnTo>
                <a:lnTo>
                  <a:pt x="405" y="1603"/>
                </a:lnTo>
                <a:lnTo>
                  <a:pt x="345" y="1588"/>
                </a:lnTo>
                <a:lnTo>
                  <a:pt x="270" y="1603"/>
                </a:lnTo>
                <a:lnTo>
                  <a:pt x="300" y="1573"/>
                </a:lnTo>
                <a:lnTo>
                  <a:pt x="330" y="1528"/>
                </a:lnTo>
                <a:lnTo>
                  <a:pt x="330" y="1498"/>
                </a:lnTo>
                <a:lnTo>
                  <a:pt x="300" y="1483"/>
                </a:lnTo>
                <a:lnTo>
                  <a:pt x="240" y="1498"/>
                </a:lnTo>
                <a:lnTo>
                  <a:pt x="210" y="1468"/>
                </a:lnTo>
                <a:lnTo>
                  <a:pt x="195" y="1423"/>
                </a:lnTo>
                <a:lnTo>
                  <a:pt x="165" y="1408"/>
                </a:lnTo>
                <a:lnTo>
                  <a:pt x="210" y="1363"/>
                </a:lnTo>
                <a:lnTo>
                  <a:pt x="165" y="1363"/>
                </a:lnTo>
                <a:lnTo>
                  <a:pt x="150" y="1333"/>
                </a:lnTo>
                <a:lnTo>
                  <a:pt x="120" y="1303"/>
                </a:lnTo>
                <a:lnTo>
                  <a:pt x="75" y="1273"/>
                </a:lnTo>
                <a:lnTo>
                  <a:pt x="30" y="1258"/>
                </a:lnTo>
                <a:lnTo>
                  <a:pt x="30" y="1198"/>
                </a:lnTo>
                <a:lnTo>
                  <a:pt x="0" y="1154"/>
                </a:lnTo>
                <a:lnTo>
                  <a:pt x="135" y="1154"/>
                </a:lnTo>
                <a:lnTo>
                  <a:pt x="135" y="1109"/>
                </a:lnTo>
                <a:lnTo>
                  <a:pt x="135" y="1079"/>
                </a:lnTo>
                <a:lnTo>
                  <a:pt x="150" y="1019"/>
                </a:lnTo>
                <a:lnTo>
                  <a:pt x="225" y="1019"/>
                </a:lnTo>
                <a:lnTo>
                  <a:pt x="255" y="1004"/>
                </a:lnTo>
                <a:lnTo>
                  <a:pt x="285" y="1019"/>
                </a:lnTo>
                <a:lnTo>
                  <a:pt x="315" y="1004"/>
                </a:lnTo>
                <a:lnTo>
                  <a:pt x="375" y="1019"/>
                </a:lnTo>
                <a:lnTo>
                  <a:pt x="419" y="1004"/>
                </a:lnTo>
                <a:lnTo>
                  <a:pt x="479" y="1004"/>
                </a:lnTo>
                <a:lnTo>
                  <a:pt x="494" y="974"/>
                </a:lnTo>
                <a:lnTo>
                  <a:pt x="509" y="959"/>
                </a:lnTo>
                <a:lnTo>
                  <a:pt x="539" y="944"/>
                </a:lnTo>
                <a:lnTo>
                  <a:pt x="554" y="809"/>
                </a:lnTo>
                <a:lnTo>
                  <a:pt x="554" y="764"/>
                </a:lnTo>
                <a:lnTo>
                  <a:pt x="524" y="734"/>
                </a:lnTo>
                <a:lnTo>
                  <a:pt x="479" y="734"/>
                </a:lnTo>
                <a:lnTo>
                  <a:pt x="479" y="629"/>
                </a:lnTo>
                <a:lnTo>
                  <a:pt x="449" y="644"/>
                </a:lnTo>
                <a:lnTo>
                  <a:pt x="390" y="584"/>
                </a:lnTo>
                <a:lnTo>
                  <a:pt x="330" y="569"/>
                </a:lnTo>
                <a:lnTo>
                  <a:pt x="330" y="509"/>
                </a:lnTo>
                <a:lnTo>
                  <a:pt x="315" y="479"/>
                </a:lnTo>
                <a:lnTo>
                  <a:pt x="300" y="449"/>
                </a:lnTo>
                <a:lnTo>
                  <a:pt x="270" y="449"/>
                </a:lnTo>
                <a:lnTo>
                  <a:pt x="255" y="434"/>
                </a:lnTo>
                <a:lnTo>
                  <a:pt x="240" y="404"/>
                </a:lnTo>
                <a:lnTo>
                  <a:pt x="240" y="359"/>
                </a:lnTo>
                <a:lnTo>
                  <a:pt x="225" y="315"/>
                </a:lnTo>
                <a:lnTo>
                  <a:pt x="240" y="285"/>
                </a:lnTo>
                <a:lnTo>
                  <a:pt x="270" y="255"/>
                </a:lnTo>
                <a:lnTo>
                  <a:pt x="345" y="255"/>
                </a:lnTo>
                <a:lnTo>
                  <a:pt x="390" y="240"/>
                </a:lnTo>
                <a:lnTo>
                  <a:pt x="390" y="195"/>
                </a:lnTo>
                <a:lnTo>
                  <a:pt x="390" y="180"/>
                </a:lnTo>
                <a:lnTo>
                  <a:pt x="419" y="180"/>
                </a:lnTo>
                <a:lnTo>
                  <a:pt x="464" y="210"/>
                </a:lnTo>
                <a:lnTo>
                  <a:pt x="509" y="165"/>
                </a:lnTo>
                <a:lnTo>
                  <a:pt x="524" y="120"/>
                </a:lnTo>
                <a:lnTo>
                  <a:pt x="539" y="75"/>
                </a:lnTo>
                <a:lnTo>
                  <a:pt x="569" y="75"/>
                </a:lnTo>
                <a:lnTo>
                  <a:pt x="584" y="30"/>
                </a:lnTo>
                <a:lnTo>
                  <a:pt x="659" y="0"/>
                </a:lnTo>
                <a:lnTo>
                  <a:pt x="704" y="45"/>
                </a:lnTo>
                <a:lnTo>
                  <a:pt x="779" y="75"/>
                </a:lnTo>
                <a:lnTo>
                  <a:pt x="824" y="150"/>
                </a:lnTo>
                <a:lnTo>
                  <a:pt x="794" y="225"/>
                </a:lnTo>
                <a:lnTo>
                  <a:pt x="824" y="270"/>
                </a:lnTo>
                <a:lnTo>
                  <a:pt x="824" y="315"/>
                </a:lnTo>
                <a:lnTo>
                  <a:pt x="868" y="374"/>
                </a:lnTo>
                <a:lnTo>
                  <a:pt x="913" y="434"/>
                </a:lnTo>
                <a:lnTo>
                  <a:pt x="958" y="449"/>
                </a:lnTo>
                <a:lnTo>
                  <a:pt x="988" y="464"/>
                </a:lnTo>
                <a:lnTo>
                  <a:pt x="958" y="494"/>
                </a:lnTo>
                <a:lnTo>
                  <a:pt x="988" y="509"/>
                </a:lnTo>
                <a:lnTo>
                  <a:pt x="1018" y="509"/>
                </a:lnTo>
                <a:lnTo>
                  <a:pt x="1063" y="569"/>
                </a:lnTo>
                <a:lnTo>
                  <a:pt x="1063" y="629"/>
                </a:lnTo>
                <a:lnTo>
                  <a:pt x="1078" y="659"/>
                </a:lnTo>
                <a:lnTo>
                  <a:pt x="1078" y="764"/>
                </a:lnTo>
                <a:lnTo>
                  <a:pt x="1123" y="809"/>
                </a:lnTo>
                <a:lnTo>
                  <a:pt x="1108" y="839"/>
                </a:lnTo>
                <a:lnTo>
                  <a:pt x="1198" y="839"/>
                </a:lnTo>
                <a:lnTo>
                  <a:pt x="1258" y="884"/>
                </a:lnTo>
                <a:lnTo>
                  <a:pt x="1332" y="944"/>
                </a:lnTo>
                <a:lnTo>
                  <a:pt x="1362" y="1034"/>
                </a:lnTo>
                <a:lnTo>
                  <a:pt x="1422" y="1094"/>
                </a:lnTo>
                <a:lnTo>
                  <a:pt x="1482" y="1139"/>
                </a:lnTo>
                <a:lnTo>
                  <a:pt x="1482" y="1154"/>
                </a:lnTo>
                <a:lnTo>
                  <a:pt x="1497" y="1184"/>
                </a:lnTo>
                <a:lnTo>
                  <a:pt x="1482" y="1198"/>
                </a:lnTo>
                <a:lnTo>
                  <a:pt x="1467" y="1228"/>
                </a:lnTo>
                <a:lnTo>
                  <a:pt x="1452" y="1273"/>
                </a:lnTo>
                <a:lnTo>
                  <a:pt x="1422" y="1288"/>
                </a:lnTo>
                <a:lnTo>
                  <a:pt x="1422" y="1348"/>
                </a:lnTo>
                <a:lnTo>
                  <a:pt x="1422" y="134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753080" y="2984400"/>
            <a:ext cx="1079280" cy="1263600"/>
          </a:xfrm>
          <a:custGeom>
            <a:avLst/>
            <a:gdLst/>
            <a:ahLst/>
            <a:rect l="l" t="t" r="r" b="b"/>
            <a:pathLst>
              <a:path w="1258" h="1498">
                <a:moveTo>
                  <a:pt x="644" y="0"/>
                </a:moveTo>
                <a:lnTo>
                  <a:pt x="719" y="0"/>
                </a:lnTo>
                <a:lnTo>
                  <a:pt x="794" y="0"/>
                </a:lnTo>
                <a:lnTo>
                  <a:pt x="854" y="30"/>
                </a:lnTo>
                <a:lnTo>
                  <a:pt x="898" y="59"/>
                </a:lnTo>
                <a:lnTo>
                  <a:pt x="928" y="59"/>
                </a:lnTo>
                <a:lnTo>
                  <a:pt x="988" y="89"/>
                </a:lnTo>
                <a:lnTo>
                  <a:pt x="1063" y="119"/>
                </a:lnTo>
                <a:lnTo>
                  <a:pt x="1108" y="134"/>
                </a:lnTo>
                <a:lnTo>
                  <a:pt x="1198" y="164"/>
                </a:lnTo>
                <a:lnTo>
                  <a:pt x="1258" y="254"/>
                </a:lnTo>
                <a:lnTo>
                  <a:pt x="1243" y="284"/>
                </a:lnTo>
                <a:lnTo>
                  <a:pt x="1243" y="359"/>
                </a:lnTo>
                <a:lnTo>
                  <a:pt x="1243" y="389"/>
                </a:lnTo>
                <a:lnTo>
                  <a:pt x="1213" y="434"/>
                </a:lnTo>
                <a:lnTo>
                  <a:pt x="1228" y="524"/>
                </a:lnTo>
                <a:lnTo>
                  <a:pt x="1198" y="584"/>
                </a:lnTo>
                <a:lnTo>
                  <a:pt x="1213" y="674"/>
                </a:lnTo>
                <a:lnTo>
                  <a:pt x="1183" y="689"/>
                </a:lnTo>
                <a:lnTo>
                  <a:pt x="1138" y="704"/>
                </a:lnTo>
                <a:lnTo>
                  <a:pt x="1108" y="689"/>
                </a:lnTo>
                <a:lnTo>
                  <a:pt x="1063" y="689"/>
                </a:lnTo>
                <a:lnTo>
                  <a:pt x="1018" y="719"/>
                </a:lnTo>
                <a:lnTo>
                  <a:pt x="973" y="749"/>
                </a:lnTo>
                <a:lnTo>
                  <a:pt x="943" y="779"/>
                </a:lnTo>
                <a:lnTo>
                  <a:pt x="898" y="794"/>
                </a:lnTo>
                <a:lnTo>
                  <a:pt x="898" y="839"/>
                </a:lnTo>
                <a:lnTo>
                  <a:pt x="868" y="899"/>
                </a:lnTo>
                <a:lnTo>
                  <a:pt x="898" y="899"/>
                </a:lnTo>
                <a:lnTo>
                  <a:pt x="913" y="928"/>
                </a:lnTo>
                <a:lnTo>
                  <a:pt x="928" y="988"/>
                </a:lnTo>
                <a:lnTo>
                  <a:pt x="943" y="1033"/>
                </a:lnTo>
                <a:lnTo>
                  <a:pt x="943" y="1108"/>
                </a:lnTo>
                <a:lnTo>
                  <a:pt x="943" y="1198"/>
                </a:lnTo>
                <a:lnTo>
                  <a:pt x="913" y="1243"/>
                </a:lnTo>
                <a:lnTo>
                  <a:pt x="898" y="1258"/>
                </a:lnTo>
                <a:lnTo>
                  <a:pt x="868" y="1288"/>
                </a:lnTo>
                <a:lnTo>
                  <a:pt x="854" y="1333"/>
                </a:lnTo>
                <a:lnTo>
                  <a:pt x="839" y="1363"/>
                </a:lnTo>
                <a:lnTo>
                  <a:pt x="779" y="1363"/>
                </a:lnTo>
                <a:lnTo>
                  <a:pt x="764" y="1408"/>
                </a:lnTo>
                <a:lnTo>
                  <a:pt x="734" y="1378"/>
                </a:lnTo>
                <a:lnTo>
                  <a:pt x="719" y="1363"/>
                </a:lnTo>
                <a:lnTo>
                  <a:pt x="674" y="1378"/>
                </a:lnTo>
                <a:lnTo>
                  <a:pt x="629" y="1423"/>
                </a:lnTo>
                <a:lnTo>
                  <a:pt x="614" y="1423"/>
                </a:lnTo>
                <a:lnTo>
                  <a:pt x="584" y="1393"/>
                </a:lnTo>
                <a:lnTo>
                  <a:pt x="554" y="1423"/>
                </a:lnTo>
                <a:lnTo>
                  <a:pt x="569" y="1438"/>
                </a:lnTo>
                <a:lnTo>
                  <a:pt x="554" y="1483"/>
                </a:lnTo>
                <a:lnTo>
                  <a:pt x="494" y="1468"/>
                </a:lnTo>
                <a:lnTo>
                  <a:pt x="464" y="1498"/>
                </a:lnTo>
                <a:lnTo>
                  <a:pt x="405" y="1468"/>
                </a:lnTo>
                <a:lnTo>
                  <a:pt x="375" y="1498"/>
                </a:lnTo>
                <a:lnTo>
                  <a:pt x="360" y="1453"/>
                </a:lnTo>
                <a:lnTo>
                  <a:pt x="330" y="1423"/>
                </a:lnTo>
                <a:lnTo>
                  <a:pt x="300" y="1438"/>
                </a:lnTo>
                <a:lnTo>
                  <a:pt x="255" y="1438"/>
                </a:lnTo>
                <a:lnTo>
                  <a:pt x="255" y="1393"/>
                </a:lnTo>
                <a:lnTo>
                  <a:pt x="210" y="1423"/>
                </a:lnTo>
                <a:lnTo>
                  <a:pt x="165" y="1393"/>
                </a:lnTo>
                <a:lnTo>
                  <a:pt x="150" y="1363"/>
                </a:lnTo>
                <a:lnTo>
                  <a:pt x="180" y="1318"/>
                </a:lnTo>
                <a:lnTo>
                  <a:pt x="150" y="1273"/>
                </a:lnTo>
                <a:lnTo>
                  <a:pt x="180" y="1243"/>
                </a:lnTo>
                <a:lnTo>
                  <a:pt x="165" y="1198"/>
                </a:lnTo>
                <a:lnTo>
                  <a:pt x="150" y="1153"/>
                </a:lnTo>
                <a:lnTo>
                  <a:pt x="165" y="1123"/>
                </a:lnTo>
                <a:lnTo>
                  <a:pt x="165" y="1078"/>
                </a:lnTo>
                <a:lnTo>
                  <a:pt x="120" y="1063"/>
                </a:lnTo>
                <a:lnTo>
                  <a:pt x="135" y="1033"/>
                </a:lnTo>
                <a:lnTo>
                  <a:pt x="135" y="1003"/>
                </a:lnTo>
                <a:lnTo>
                  <a:pt x="135" y="973"/>
                </a:lnTo>
                <a:lnTo>
                  <a:pt x="120" y="943"/>
                </a:lnTo>
                <a:lnTo>
                  <a:pt x="150" y="928"/>
                </a:lnTo>
                <a:lnTo>
                  <a:pt x="165" y="899"/>
                </a:lnTo>
                <a:lnTo>
                  <a:pt x="150" y="854"/>
                </a:lnTo>
                <a:lnTo>
                  <a:pt x="120" y="824"/>
                </a:lnTo>
                <a:lnTo>
                  <a:pt x="75" y="824"/>
                </a:lnTo>
                <a:lnTo>
                  <a:pt x="60" y="809"/>
                </a:lnTo>
                <a:lnTo>
                  <a:pt x="0" y="749"/>
                </a:lnTo>
                <a:lnTo>
                  <a:pt x="45" y="719"/>
                </a:lnTo>
                <a:lnTo>
                  <a:pt x="90" y="764"/>
                </a:lnTo>
                <a:lnTo>
                  <a:pt x="120" y="719"/>
                </a:lnTo>
                <a:lnTo>
                  <a:pt x="150" y="674"/>
                </a:lnTo>
                <a:lnTo>
                  <a:pt x="210" y="689"/>
                </a:lnTo>
                <a:lnTo>
                  <a:pt x="300" y="689"/>
                </a:lnTo>
                <a:lnTo>
                  <a:pt x="315" y="644"/>
                </a:lnTo>
                <a:lnTo>
                  <a:pt x="345" y="659"/>
                </a:lnTo>
                <a:lnTo>
                  <a:pt x="360" y="719"/>
                </a:lnTo>
                <a:lnTo>
                  <a:pt x="434" y="704"/>
                </a:lnTo>
                <a:lnTo>
                  <a:pt x="464" y="704"/>
                </a:lnTo>
                <a:lnTo>
                  <a:pt x="479" y="644"/>
                </a:lnTo>
                <a:lnTo>
                  <a:pt x="509" y="599"/>
                </a:lnTo>
                <a:lnTo>
                  <a:pt x="494" y="569"/>
                </a:lnTo>
                <a:lnTo>
                  <a:pt x="464" y="494"/>
                </a:lnTo>
                <a:lnTo>
                  <a:pt x="509" y="494"/>
                </a:lnTo>
                <a:lnTo>
                  <a:pt x="539" y="479"/>
                </a:lnTo>
                <a:lnTo>
                  <a:pt x="584" y="464"/>
                </a:lnTo>
                <a:lnTo>
                  <a:pt x="584" y="374"/>
                </a:lnTo>
                <a:lnTo>
                  <a:pt x="614" y="359"/>
                </a:lnTo>
                <a:lnTo>
                  <a:pt x="614" y="314"/>
                </a:lnTo>
                <a:lnTo>
                  <a:pt x="629" y="254"/>
                </a:lnTo>
                <a:lnTo>
                  <a:pt x="584" y="209"/>
                </a:lnTo>
                <a:lnTo>
                  <a:pt x="584" y="149"/>
                </a:lnTo>
                <a:lnTo>
                  <a:pt x="614" y="134"/>
                </a:lnTo>
                <a:lnTo>
                  <a:pt x="629" y="104"/>
                </a:lnTo>
                <a:lnTo>
                  <a:pt x="629" y="59"/>
                </a:lnTo>
                <a:lnTo>
                  <a:pt x="659" y="30"/>
                </a:lnTo>
                <a:lnTo>
                  <a:pt x="644" y="15"/>
                </a:lnTo>
                <a:lnTo>
                  <a:pt x="644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801960" y="3365640"/>
            <a:ext cx="1101960" cy="1477800"/>
          </a:xfrm>
          <a:custGeom>
            <a:avLst/>
            <a:gdLst/>
            <a:ahLst/>
            <a:rect l="l" t="t" r="r" b="b"/>
            <a:pathLst>
              <a:path w="1287" h="1753">
                <a:moveTo>
                  <a:pt x="1107" y="300"/>
                </a:moveTo>
                <a:lnTo>
                  <a:pt x="1152" y="345"/>
                </a:lnTo>
                <a:lnTo>
                  <a:pt x="1182" y="375"/>
                </a:lnTo>
                <a:lnTo>
                  <a:pt x="1242" y="375"/>
                </a:lnTo>
                <a:lnTo>
                  <a:pt x="1257" y="405"/>
                </a:lnTo>
                <a:lnTo>
                  <a:pt x="1272" y="450"/>
                </a:lnTo>
                <a:lnTo>
                  <a:pt x="1257" y="465"/>
                </a:lnTo>
                <a:lnTo>
                  <a:pt x="1212" y="479"/>
                </a:lnTo>
                <a:lnTo>
                  <a:pt x="1242" y="509"/>
                </a:lnTo>
                <a:lnTo>
                  <a:pt x="1257" y="554"/>
                </a:lnTo>
                <a:lnTo>
                  <a:pt x="1242" y="584"/>
                </a:lnTo>
                <a:lnTo>
                  <a:pt x="1227" y="614"/>
                </a:lnTo>
                <a:lnTo>
                  <a:pt x="1272" y="629"/>
                </a:lnTo>
                <a:lnTo>
                  <a:pt x="1272" y="674"/>
                </a:lnTo>
                <a:lnTo>
                  <a:pt x="1257" y="704"/>
                </a:lnTo>
                <a:lnTo>
                  <a:pt x="1272" y="749"/>
                </a:lnTo>
                <a:lnTo>
                  <a:pt x="1287" y="794"/>
                </a:lnTo>
                <a:lnTo>
                  <a:pt x="1272" y="824"/>
                </a:lnTo>
                <a:lnTo>
                  <a:pt x="1272" y="854"/>
                </a:lnTo>
                <a:lnTo>
                  <a:pt x="1227" y="884"/>
                </a:lnTo>
                <a:lnTo>
                  <a:pt x="1212" y="869"/>
                </a:lnTo>
                <a:lnTo>
                  <a:pt x="1167" y="839"/>
                </a:lnTo>
                <a:lnTo>
                  <a:pt x="1182" y="899"/>
                </a:lnTo>
                <a:lnTo>
                  <a:pt x="1152" y="929"/>
                </a:lnTo>
                <a:lnTo>
                  <a:pt x="1107" y="914"/>
                </a:lnTo>
                <a:lnTo>
                  <a:pt x="1078" y="944"/>
                </a:lnTo>
                <a:lnTo>
                  <a:pt x="1063" y="1004"/>
                </a:lnTo>
                <a:lnTo>
                  <a:pt x="1048" y="1049"/>
                </a:lnTo>
                <a:lnTo>
                  <a:pt x="943" y="1049"/>
                </a:lnTo>
                <a:lnTo>
                  <a:pt x="928" y="1094"/>
                </a:lnTo>
                <a:lnTo>
                  <a:pt x="853" y="1094"/>
                </a:lnTo>
                <a:lnTo>
                  <a:pt x="853" y="1139"/>
                </a:lnTo>
                <a:lnTo>
                  <a:pt x="868" y="1184"/>
                </a:lnTo>
                <a:lnTo>
                  <a:pt x="853" y="1199"/>
                </a:lnTo>
                <a:lnTo>
                  <a:pt x="868" y="1244"/>
                </a:lnTo>
                <a:lnTo>
                  <a:pt x="868" y="1274"/>
                </a:lnTo>
                <a:lnTo>
                  <a:pt x="808" y="1304"/>
                </a:lnTo>
                <a:lnTo>
                  <a:pt x="808" y="1348"/>
                </a:lnTo>
                <a:lnTo>
                  <a:pt x="838" y="1393"/>
                </a:lnTo>
                <a:lnTo>
                  <a:pt x="853" y="1423"/>
                </a:lnTo>
                <a:lnTo>
                  <a:pt x="868" y="1453"/>
                </a:lnTo>
                <a:lnTo>
                  <a:pt x="838" y="1498"/>
                </a:lnTo>
                <a:lnTo>
                  <a:pt x="853" y="1528"/>
                </a:lnTo>
                <a:lnTo>
                  <a:pt x="868" y="1558"/>
                </a:lnTo>
                <a:lnTo>
                  <a:pt x="868" y="1588"/>
                </a:lnTo>
                <a:lnTo>
                  <a:pt x="703" y="1633"/>
                </a:lnTo>
                <a:lnTo>
                  <a:pt x="629" y="1663"/>
                </a:lnTo>
                <a:lnTo>
                  <a:pt x="584" y="1708"/>
                </a:lnTo>
                <a:lnTo>
                  <a:pt x="539" y="1738"/>
                </a:lnTo>
                <a:lnTo>
                  <a:pt x="464" y="1753"/>
                </a:lnTo>
                <a:lnTo>
                  <a:pt x="419" y="1738"/>
                </a:lnTo>
                <a:lnTo>
                  <a:pt x="434" y="1693"/>
                </a:lnTo>
                <a:lnTo>
                  <a:pt x="329" y="1693"/>
                </a:lnTo>
                <a:lnTo>
                  <a:pt x="329" y="1633"/>
                </a:lnTo>
                <a:lnTo>
                  <a:pt x="269" y="1648"/>
                </a:lnTo>
                <a:lnTo>
                  <a:pt x="225" y="1633"/>
                </a:lnTo>
                <a:lnTo>
                  <a:pt x="195" y="1663"/>
                </a:lnTo>
                <a:lnTo>
                  <a:pt x="150" y="1633"/>
                </a:lnTo>
                <a:lnTo>
                  <a:pt x="120" y="1588"/>
                </a:lnTo>
                <a:lnTo>
                  <a:pt x="75" y="1543"/>
                </a:lnTo>
                <a:lnTo>
                  <a:pt x="60" y="1513"/>
                </a:lnTo>
                <a:lnTo>
                  <a:pt x="75" y="1483"/>
                </a:lnTo>
                <a:lnTo>
                  <a:pt x="165" y="1483"/>
                </a:lnTo>
                <a:lnTo>
                  <a:pt x="135" y="1438"/>
                </a:lnTo>
                <a:lnTo>
                  <a:pt x="105" y="1408"/>
                </a:lnTo>
                <a:lnTo>
                  <a:pt x="75" y="1393"/>
                </a:lnTo>
                <a:lnTo>
                  <a:pt x="30" y="1393"/>
                </a:lnTo>
                <a:lnTo>
                  <a:pt x="30" y="1334"/>
                </a:lnTo>
                <a:lnTo>
                  <a:pt x="90" y="1319"/>
                </a:lnTo>
                <a:lnTo>
                  <a:pt x="135" y="1304"/>
                </a:lnTo>
                <a:lnTo>
                  <a:pt x="180" y="1304"/>
                </a:lnTo>
                <a:lnTo>
                  <a:pt x="180" y="1259"/>
                </a:lnTo>
                <a:lnTo>
                  <a:pt x="210" y="1229"/>
                </a:lnTo>
                <a:lnTo>
                  <a:pt x="210" y="1214"/>
                </a:lnTo>
                <a:lnTo>
                  <a:pt x="180" y="1199"/>
                </a:lnTo>
                <a:lnTo>
                  <a:pt x="150" y="1184"/>
                </a:lnTo>
                <a:lnTo>
                  <a:pt x="135" y="1184"/>
                </a:lnTo>
                <a:lnTo>
                  <a:pt x="135" y="1154"/>
                </a:lnTo>
                <a:lnTo>
                  <a:pt x="90" y="1154"/>
                </a:lnTo>
                <a:lnTo>
                  <a:pt x="90" y="1124"/>
                </a:lnTo>
                <a:lnTo>
                  <a:pt x="60" y="1094"/>
                </a:lnTo>
                <a:lnTo>
                  <a:pt x="0" y="1094"/>
                </a:lnTo>
                <a:lnTo>
                  <a:pt x="45" y="1049"/>
                </a:lnTo>
                <a:lnTo>
                  <a:pt x="60" y="1034"/>
                </a:lnTo>
                <a:lnTo>
                  <a:pt x="105" y="1049"/>
                </a:lnTo>
                <a:lnTo>
                  <a:pt x="135" y="1064"/>
                </a:lnTo>
                <a:lnTo>
                  <a:pt x="180" y="1004"/>
                </a:lnTo>
                <a:lnTo>
                  <a:pt x="165" y="914"/>
                </a:lnTo>
                <a:lnTo>
                  <a:pt x="210" y="854"/>
                </a:lnTo>
                <a:lnTo>
                  <a:pt x="225" y="824"/>
                </a:lnTo>
                <a:lnTo>
                  <a:pt x="210" y="764"/>
                </a:lnTo>
                <a:lnTo>
                  <a:pt x="254" y="764"/>
                </a:lnTo>
                <a:lnTo>
                  <a:pt x="284" y="749"/>
                </a:lnTo>
                <a:lnTo>
                  <a:pt x="284" y="689"/>
                </a:lnTo>
                <a:lnTo>
                  <a:pt x="314" y="704"/>
                </a:lnTo>
                <a:lnTo>
                  <a:pt x="359" y="704"/>
                </a:lnTo>
                <a:lnTo>
                  <a:pt x="374" y="704"/>
                </a:lnTo>
                <a:lnTo>
                  <a:pt x="404" y="659"/>
                </a:lnTo>
                <a:lnTo>
                  <a:pt x="389" y="614"/>
                </a:lnTo>
                <a:lnTo>
                  <a:pt x="389" y="599"/>
                </a:lnTo>
                <a:lnTo>
                  <a:pt x="389" y="554"/>
                </a:lnTo>
                <a:lnTo>
                  <a:pt x="374" y="524"/>
                </a:lnTo>
                <a:lnTo>
                  <a:pt x="359" y="524"/>
                </a:lnTo>
                <a:lnTo>
                  <a:pt x="329" y="479"/>
                </a:lnTo>
                <a:lnTo>
                  <a:pt x="344" y="450"/>
                </a:lnTo>
                <a:lnTo>
                  <a:pt x="389" y="450"/>
                </a:lnTo>
                <a:lnTo>
                  <a:pt x="419" y="405"/>
                </a:lnTo>
                <a:lnTo>
                  <a:pt x="404" y="345"/>
                </a:lnTo>
                <a:lnTo>
                  <a:pt x="374" y="315"/>
                </a:lnTo>
                <a:lnTo>
                  <a:pt x="389" y="300"/>
                </a:lnTo>
                <a:lnTo>
                  <a:pt x="404" y="270"/>
                </a:lnTo>
                <a:lnTo>
                  <a:pt x="434" y="270"/>
                </a:lnTo>
                <a:lnTo>
                  <a:pt x="464" y="285"/>
                </a:lnTo>
                <a:lnTo>
                  <a:pt x="554" y="285"/>
                </a:lnTo>
                <a:lnTo>
                  <a:pt x="554" y="210"/>
                </a:lnTo>
                <a:lnTo>
                  <a:pt x="539" y="180"/>
                </a:lnTo>
                <a:lnTo>
                  <a:pt x="509" y="150"/>
                </a:lnTo>
                <a:lnTo>
                  <a:pt x="524" y="105"/>
                </a:lnTo>
                <a:lnTo>
                  <a:pt x="524" y="75"/>
                </a:lnTo>
                <a:lnTo>
                  <a:pt x="524" y="30"/>
                </a:lnTo>
                <a:lnTo>
                  <a:pt x="539" y="15"/>
                </a:lnTo>
                <a:lnTo>
                  <a:pt x="599" y="0"/>
                </a:lnTo>
                <a:lnTo>
                  <a:pt x="674" y="15"/>
                </a:lnTo>
                <a:lnTo>
                  <a:pt x="703" y="0"/>
                </a:lnTo>
                <a:lnTo>
                  <a:pt x="733" y="45"/>
                </a:lnTo>
                <a:lnTo>
                  <a:pt x="748" y="30"/>
                </a:lnTo>
                <a:lnTo>
                  <a:pt x="853" y="30"/>
                </a:lnTo>
                <a:lnTo>
                  <a:pt x="853" y="60"/>
                </a:lnTo>
                <a:lnTo>
                  <a:pt x="898" y="60"/>
                </a:lnTo>
                <a:lnTo>
                  <a:pt x="928" y="105"/>
                </a:lnTo>
                <a:lnTo>
                  <a:pt x="988" y="135"/>
                </a:lnTo>
                <a:lnTo>
                  <a:pt x="1033" y="180"/>
                </a:lnTo>
                <a:lnTo>
                  <a:pt x="1018" y="270"/>
                </a:lnTo>
                <a:lnTo>
                  <a:pt x="1048" y="300"/>
                </a:lnTo>
                <a:lnTo>
                  <a:pt x="1078" y="330"/>
                </a:lnTo>
                <a:lnTo>
                  <a:pt x="1107" y="330"/>
                </a:lnTo>
                <a:lnTo>
                  <a:pt x="1107" y="30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095800" y="3541680"/>
            <a:ext cx="1069920" cy="1751040"/>
          </a:xfrm>
          <a:custGeom>
            <a:avLst/>
            <a:gdLst/>
            <a:ahLst/>
            <a:rect l="l" t="t" r="r" b="b"/>
            <a:pathLst>
              <a:path w="1242" h="2082">
                <a:moveTo>
                  <a:pt x="808" y="0"/>
                </a:moveTo>
                <a:lnTo>
                  <a:pt x="808" y="90"/>
                </a:lnTo>
                <a:lnTo>
                  <a:pt x="897" y="180"/>
                </a:lnTo>
                <a:lnTo>
                  <a:pt x="912" y="255"/>
                </a:lnTo>
                <a:lnTo>
                  <a:pt x="882" y="344"/>
                </a:lnTo>
                <a:lnTo>
                  <a:pt x="927" y="389"/>
                </a:lnTo>
                <a:lnTo>
                  <a:pt x="987" y="479"/>
                </a:lnTo>
                <a:lnTo>
                  <a:pt x="1032" y="494"/>
                </a:lnTo>
                <a:lnTo>
                  <a:pt x="1017" y="524"/>
                </a:lnTo>
                <a:lnTo>
                  <a:pt x="1062" y="584"/>
                </a:lnTo>
                <a:lnTo>
                  <a:pt x="1062" y="644"/>
                </a:lnTo>
                <a:lnTo>
                  <a:pt x="1122" y="704"/>
                </a:lnTo>
                <a:lnTo>
                  <a:pt x="1182" y="719"/>
                </a:lnTo>
                <a:lnTo>
                  <a:pt x="1212" y="779"/>
                </a:lnTo>
                <a:lnTo>
                  <a:pt x="1122" y="794"/>
                </a:lnTo>
                <a:lnTo>
                  <a:pt x="1107" y="839"/>
                </a:lnTo>
                <a:lnTo>
                  <a:pt x="1182" y="914"/>
                </a:lnTo>
                <a:lnTo>
                  <a:pt x="1242" y="989"/>
                </a:lnTo>
                <a:lnTo>
                  <a:pt x="1242" y="1064"/>
                </a:lnTo>
                <a:lnTo>
                  <a:pt x="1212" y="1153"/>
                </a:lnTo>
                <a:lnTo>
                  <a:pt x="1137" y="1228"/>
                </a:lnTo>
                <a:lnTo>
                  <a:pt x="1002" y="1213"/>
                </a:lnTo>
                <a:lnTo>
                  <a:pt x="912" y="1348"/>
                </a:lnTo>
                <a:lnTo>
                  <a:pt x="793" y="1498"/>
                </a:lnTo>
                <a:lnTo>
                  <a:pt x="673" y="1693"/>
                </a:lnTo>
                <a:lnTo>
                  <a:pt x="523" y="1888"/>
                </a:lnTo>
                <a:lnTo>
                  <a:pt x="374" y="2082"/>
                </a:lnTo>
                <a:lnTo>
                  <a:pt x="344" y="2067"/>
                </a:lnTo>
                <a:lnTo>
                  <a:pt x="344" y="2007"/>
                </a:lnTo>
                <a:lnTo>
                  <a:pt x="299" y="2007"/>
                </a:lnTo>
                <a:lnTo>
                  <a:pt x="269" y="2067"/>
                </a:lnTo>
                <a:lnTo>
                  <a:pt x="194" y="2082"/>
                </a:lnTo>
                <a:lnTo>
                  <a:pt x="179" y="2022"/>
                </a:lnTo>
                <a:lnTo>
                  <a:pt x="134" y="1992"/>
                </a:lnTo>
                <a:lnTo>
                  <a:pt x="104" y="1963"/>
                </a:lnTo>
                <a:lnTo>
                  <a:pt x="74" y="1933"/>
                </a:lnTo>
                <a:lnTo>
                  <a:pt x="59" y="1888"/>
                </a:lnTo>
                <a:lnTo>
                  <a:pt x="0" y="1873"/>
                </a:lnTo>
                <a:lnTo>
                  <a:pt x="15" y="1798"/>
                </a:lnTo>
                <a:lnTo>
                  <a:pt x="74" y="1828"/>
                </a:lnTo>
                <a:lnTo>
                  <a:pt x="74" y="1783"/>
                </a:lnTo>
                <a:lnTo>
                  <a:pt x="119" y="1678"/>
                </a:lnTo>
                <a:lnTo>
                  <a:pt x="149" y="1633"/>
                </a:lnTo>
                <a:lnTo>
                  <a:pt x="179" y="1573"/>
                </a:lnTo>
                <a:lnTo>
                  <a:pt x="224" y="1558"/>
                </a:lnTo>
                <a:lnTo>
                  <a:pt x="254" y="1513"/>
                </a:lnTo>
                <a:lnTo>
                  <a:pt x="314" y="1468"/>
                </a:lnTo>
                <a:lnTo>
                  <a:pt x="314" y="1423"/>
                </a:lnTo>
                <a:lnTo>
                  <a:pt x="329" y="1378"/>
                </a:lnTo>
                <a:lnTo>
                  <a:pt x="299" y="1363"/>
                </a:lnTo>
                <a:lnTo>
                  <a:pt x="314" y="1318"/>
                </a:lnTo>
                <a:lnTo>
                  <a:pt x="254" y="1318"/>
                </a:lnTo>
                <a:lnTo>
                  <a:pt x="224" y="1333"/>
                </a:lnTo>
                <a:lnTo>
                  <a:pt x="194" y="1288"/>
                </a:lnTo>
                <a:lnTo>
                  <a:pt x="149" y="1273"/>
                </a:lnTo>
                <a:lnTo>
                  <a:pt x="164" y="1243"/>
                </a:lnTo>
                <a:lnTo>
                  <a:pt x="194" y="1198"/>
                </a:lnTo>
                <a:lnTo>
                  <a:pt x="254" y="1198"/>
                </a:lnTo>
                <a:lnTo>
                  <a:pt x="254" y="1168"/>
                </a:lnTo>
                <a:lnTo>
                  <a:pt x="224" y="1138"/>
                </a:lnTo>
                <a:lnTo>
                  <a:pt x="194" y="1079"/>
                </a:lnTo>
                <a:lnTo>
                  <a:pt x="254" y="1064"/>
                </a:lnTo>
                <a:lnTo>
                  <a:pt x="284" y="1019"/>
                </a:lnTo>
                <a:lnTo>
                  <a:pt x="269" y="974"/>
                </a:lnTo>
                <a:lnTo>
                  <a:pt x="284" y="929"/>
                </a:lnTo>
                <a:lnTo>
                  <a:pt x="269" y="884"/>
                </a:lnTo>
                <a:lnTo>
                  <a:pt x="224" y="839"/>
                </a:lnTo>
                <a:lnTo>
                  <a:pt x="194" y="809"/>
                </a:lnTo>
                <a:lnTo>
                  <a:pt x="194" y="779"/>
                </a:lnTo>
                <a:lnTo>
                  <a:pt x="164" y="779"/>
                </a:lnTo>
                <a:lnTo>
                  <a:pt x="179" y="734"/>
                </a:lnTo>
                <a:lnTo>
                  <a:pt x="194" y="764"/>
                </a:lnTo>
                <a:lnTo>
                  <a:pt x="269" y="704"/>
                </a:lnTo>
                <a:lnTo>
                  <a:pt x="314" y="704"/>
                </a:lnTo>
                <a:lnTo>
                  <a:pt x="359" y="734"/>
                </a:lnTo>
                <a:lnTo>
                  <a:pt x="374" y="704"/>
                </a:lnTo>
                <a:lnTo>
                  <a:pt x="434" y="704"/>
                </a:lnTo>
                <a:lnTo>
                  <a:pt x="449" y="659"/>
                </a:lnTo>
                <a:lnTo>
                  <a:pt x="449" y="629"/>
                </a:lnTo>
                <a:lnTo>
                  <a:pt x="508" y="599"/>
                </a:lnTo>
                <a:lnTo>
                  <a:pt x="538" y="539"/>
                </a:lnTo>
                <a:lnTo>
                  <a:pt x="538" y="479"/>
                </a:lnTo>
                <a:lnTo>
                  <a:pt x="538" y="389"/>
                </a:lnTo>
                <a:lnTo>
                  <a:pt x="538" y="344"/>
                </a:lnTo>
                <a:lnTo>
                  <a:pt x="523" y="299"/>
                </a:lnTo>
                <a:lnTo>
                  <a:pt x="523" y="269"/>
                </a:lnTo>
                <a:lnTo>
                  <a:pt x="478" y="225"/>
                </a:lnTo>
                <a:lnTo>
                  <a:pt x="493" y="165"/>
                </a:lnTo>
                <a:lnTo>
                  <a:pt x="493" y="120"/>
                </a:lnTo>
                <a:lnTo>
                  <a:pt x="538" y="120"/>
                </a:lnTo>
                <a:lnTo>
                  <a:pt x="658" y="15"/>
                </a:lnTo>
                <a:lnTo>
                  <a:pt x="703" y="15"/>
                </a:lnTo>
                <a:lnTo>
                  <a:pt x="748" y="45"/>
                </a:lnTo>
                <a:lnTo>
                  <a:pt x="808" y="0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4240" y="4057560"/>
            <a:ext cx="1079640" cy="1714680"/>
          </a:xfrm>
          <a:custGeom>
            <a:avLst/>
            <a:gdLst/>
            <a:ahLst/>
            <a:rect l="l" t="t" r="r" b="b"/>
            <a:pathLst>
              <a:path w="1257" h="2038">
                <a:moveTo>
                  <a:pt x="1078" y="1468"/>
                </a:moveTo>
                <a:lnTo>
                  <a:pt x="1063" y="1498"/>
                </a:lnTo>
                <a:lnTo>
                  <a:pt x="1138" y="1648"/>
                </a:lnTo>
                <a:lnTo>
                  <a:pt x="1123" y="1873"/>
                </a:lnTo>
                <a:lnTo>
                  <a:pt x="1227" y="1918"/>
                </a:lnTo>
                <a:lnTo>
                  <a:pt x="1257" y="2038"/>
                </a:lnTo>
                <a:lnTo>
                  <a:pt x="1167" y="1978"/>
                </a:lnTo>
                <a:lnTo>
                  <a:pt x="1048" y="1933"/>
                </a:lnTo>
                <a:lnTo>
                  <a:pt x="1003" y="1948"/>
                </a:lnTo>
                <a:lnTo>
                  <a:pt x="868" y="1888"/>
                </a:lnTo>
                <a:lnTo>
                  <a:pt x="778" y="1843"/>
                </a:lnTo>
                <a:lnTo>
                  <a:pt x="689" y="1843"/>
                </a:lnTo>
                <a:lnTo>
                  <a:pt x="674" y="1768"/>
                </a:lnTo>
                <a:lnTo>
                  <a:pt x="599" y="1693"/>
                </a:lnTo>
                <a:lnTo>
                  <a:pt x="539" y="1708"/>
                </a:lnTo>
                <a:lnTo>
                  <a:pt x="404" y="1618"/>
                </a:lnTo>
                <a:lnTo>
                  <a:pt x="329" y="1663"/>
                </a:lnTo>
                <a:lnTo>
                  <a:pt x="240" y="1648"/>
                </a:lnTo>
                <a:lnTo>
                  <a:pt x="255" y="1588"/>
                </a:lnTo>
                <a:lnTo>
                  <a:pt x="225" y="1543"/>
                </a:lnTo>
                <a:lnTo>
                  <a:pt x="195" y="1513"/>
                </a:lnTo>
                <a:lnTo>
                  <a:pt x="165" y="1468"/>
                </a:lnTo>
                <a:lnTo>
                  <a:pt x="135" y="1408"/>
                </a:lnTo>
                <a:lnTo>
                  <a:pt x="90" y="1393"/>
                </a:lnTo>
                <a:lnTo>
                  <a:pt x="60" y="1349"/>
                </a:lnTo>
                <a:lnTo>
                  <a:pt x="135" y="1334"/>
                </a:lnTo>
                <a:lnTo>
                  <a:pt x="195" y="1289"/>
                </a:lnTo>
                <a:lnTo>
                  <a:pt x="165" y="1259"/>
                </a:lnTo>
                <a:lnTo>
                  <a:pt x="195" y="1259"/>
                </a:lnTo>
                <a:lnTo>
                  <a:pt x="225" y="1229"/>
                </a:lnTo>
                <a:lnTo>
                  <a:pt x="270" y="1259"/>
                </a:lnTo>
                <a:lnTo>
                  <a:pt x="329" y="1259"/>
                </a:lnTo>
                <a:lnTo>
                  <a:pt x="359" y="1229"/>
                </a:lnTo>
                <a:lnTo>
                  <a:pt x="344" y="1169"/>
                </a:lnTo>
                <a:lnTo>
                  <a:pt x="329" y="1124"/>
                </a:lnTo>
                <a:lnTo>
                  <a:pt x="299" y="1094"/>
                </a:lnTo>
                <a:lnTo>
                  <a:pt x="344" y="1064"/>
                </a:lnTo>
                <a:lnTo>
                  <a:pt x="329" y="1019"/>
                </a:lnTo>
                <a:lnTo>
                  <a:pt x="359" y="989"/>
                </a:lnTo>
                <a:lnTo>
                  <a:pt x="359" y="944"/>
                </a:lnTo>
                <a:lnTo>
                  <a:pt x="255" y="929"/>
                </a:lnTo>
                <a:lnTo>
                  <a:pt x="240" y="899"/>
                </a:lnTo>
                <a:lnTo>
                  <a:pt x="225" y="854"/>
                </a:lnTo>
                <a:lnTo>
                  <a:pt x="180" y="824"/>
                </a:lnTo>
                <a:lnTo>
                  <a:pt x="150" y="794"/>
                </a:lnTo>
                <a:lnTo>
                  <a:pt x="105" y="779"/>
                </a:lnTo>
                <a:lnTo>
                  <a:pt x="45" y="749"/>
                </a:lnTo>
                <a:lnTo>
                  <a:pt x="45" y="719"/>
                </a:lnTo>
                <a:lnTo>
                  <a:pt x="30" y="689"/>
                </a:lnTo>
                <a:lnTo>
                  <a:pt x="60" y="629"/>
                </a:lnTo>
                <a:lnTo>
                  <a:pt x="30" y="554"/>
                </a:lnTo>
                <a:lnTo>
                  <a:pt x="0" y="524"/>
                </a:lnTo>
                <a:lnTo>
                  <a:pt x="0" y="465"/>
                </a:lnTo>
                <a:lnTo>
                  <a:pt x="60" y="435"/>
                </a:lnTo>
                <a:lnTo>
                  <a:pt x="45" y="405"/>
                </a:lnTo>
                <a:lnTo>
                  <a:pt x="60" y="345"/>
                </a:lnTo>
                <a:lnTo>
                  <a:pt x="45" y="315"/>
                </a:lnTo>
                <a:lnTo>
                  <a:pt x="45" y="270"/>
                </a:lnTo>
                <a:lnTo>
                  <a:pt x="120" y="270"/>
                </a:lnTo>
                <a:lnTo>
                  <a:pt x="135" y="225"/>
                </a:lnTo>
                <a:lnTo>
                  <a:pt x="240" y="225"/>
                </a:lnTo>
                <a:lnTo>
                  <a:pt x="255" y="180"/>
                </a:lnTo>
                <a:lnTo>
                  <a:pt x="270" y="135"/>
                </a:lnTo>
                <a:lnTo>
                  <a:pt x="299" y="90"/>
                </a:lnTo>
                <a:lnTo>
                  <a:pt x="344" y="90"/>
                </a:lnTo>
                <a:lnTo>
                  <a:pt x="374" y="75"/>
                </a:lnTo>
                <a:lnTo>
                  <a:pt x="359" y="0"/>
                </a:lnTo>
                <a:lnTo>
                  <a:pt x="404" y="45"/>
                </a:lnTo>
                <a:lnTo>
                  <a:pt x="464" y="30"/>
                </a:lnTo>
                <a:lnTo>
                  <a:pt x="464" y="60"/>
                </a:lnTo>
                <a:lnTo>
                  <a:pt x="449" y="90"/>
                </a:lnTo>
                <a:lnTo>
                  <a:pt x="509" y="135"/>
                </a:lnTo>
                <a:lnTo>
                  <a:pt x="539" y="120"/>
                </a:lnTo>
                <a:lnTo>
                  <a:pt x="554" y="165"/>
                </a:lnTo>
                <a:lnTo>
                  <a:pt x="614" y="165"/>
                </a:lnTo>
                <a:lnTo>
                  <a:pt x="644" y="150"/>
                </a:lnTo>
                <a:lnTo>
                  <a:pt x="674" y="180"/>
                </a:lnTo>
                <a:lnTo>
                  <a:pt x="674" y="210"/>
                </a:lnTo>
                <a:lnTo>
                  <a:pt x="719" y="180"/>
                </a:lnTo>
                <a:lnTo>
                  <a:pt x="748" y="210"/>
                </a:lnTo>
                <a:lnTo>
                  <a:pt x="793" y="195"/>
                </a:lnTo>
                <a:lnTo>
                  <a:pt x="853" y="195"/>
                </a:lnTo>
                <a:lnTo>
                  <a:pt x="853" y="165"/>
                </a:lnTo>
                <a:lnTo>
                  <a:pt x="883" y="135"/>
                </a:lnTo>
                <a:lnTo>
                  <a:pt x="898" y="165"/>
                </a:lnTo>
                <a:lnTo>
                  <a:pt x="898" y="210"/>
                </a:lnTo>
                <a:lnTo>
                  <a:pt x="928" y="225"/>
                </a:lnTo>
                <a:lnTo>
                  <a:pt x="973" y="255"/>
                </a:lnTo>
                <a:lnTo>
                  <a:pt x="988" y="300"/>
                </a:lnTo>
                <a:lnTo>
                  <a:pt x="973" y="360"/>
                </a:lnTo>
                <a:lnTo>
                  <a:pt x="1003" y="405"/>
                </a:lnTo>
                <a:lnTo>
                  <a:pt x="958" y="450"/>
                </a:lnTo>
                <a:lnTo>
                  <a:pt x="898" y="465"/>
                </a:lnTo>
                <a:lnTo>
                  <a:pt x="913" y="524"/>
                </a:lnTo>
                <a:lnTo>
                  <a:pt x="958" y="554"/>
                </a:lnTo>
                <a:lnTo>
                  <a:pt x="958" y="584"/>
                </a:lnTo>
                <a:lnTo>
                  <a:pt x="883" y="584"/>
                </a:lnTo>
                <a:lnTo>
                  <a:pt x="868" y="629"/>
                </a:lnTo>
                <a:lnTo>
                  <a:pt x="898" y="674"/>
                </a:lnTo>
                <a:lnTo>
                  <a:pt x="928" y="719"/>
                </a:lnTo>
                <a:lnTo>
                  <a:pt x="973" y="689"/>
                </a:lnTo>
                <a:lnTo>
                  <a:pt x="1018" y="704"/>
                </a:lnTo>
                <a:lnTo>
                  <a:pt x="1003" y="749"/>
                </a:lnTo>
                <a:lnTo>
                  <a:pt x="1033" y="764"/>
                </a:lnTo>
                <a:lnTo>
                  <a:pt x="1018" y="809"/>
                </a:lnTo>
                <a:lnTo>
                  <a:pt x="1018" y="854"/>
                </a:lnTo>
                <a:lnTo>
                  <a:pt x="958" y="914"/>
                </a:lnTo>
                <a:lnTo>
                  <a:pt x="928" y="944"/>
                </a:lnTo>
                <a:lnTo>
                  <a:pt x="883" y="959"/>
                </a:lnTo>
                <a:lnTo>
                  <a:pt x="853" y="1019"/>
                </a:lnTo>
                <a:lnTo>
                  <a:pt x="823" y="1064"/>
                </a:lnTo>
                <a:lnTo>
                  <a:pt x="778" y="1169"/>
                </a:lnTo>
                <a:lnTo>
                  <a:pt x="778" y="1214"/>
                </a:lnTo>
                <a:lnTo>
                  <a:pt x="733" y="1169"/>
                </a:lnTo>
                <a:lnTo>
                  <a:pt x="704" y="1274"/>
                </a:lnTo>
                <a:lnTo>
                  <a:pt x="763" y="1274"/>
                </a:lnTo>
                <a:lnTo>
                  <a:pt x="778" y="1319"/>
                </a:lnTo>
                <a:lnTo>
                  <a:pt x="808" y="1349"/>
                </a:lnTo>
                <a:lnTo>
                  <a:pt x="853" y="1378"/>
                </a:lnTo>
                <a:lnTo>
                  <a:pt x="883" y="1408"/>
                </a:lnTo>
                <a:lnTo>
                  <a:pt x="883" y="1468"/>
                </a:lnTo>
                <a:lnTo>
                  <a:pt x="988" y="1453"/>
                </a:lnTo>
                <a:lnTo>
                  <a:pt x="1003" y="1378"/>
                </a:lnTo>
                <a:lnTo>
                  <a:pt x="1033" y="1378"/>
                </a:lnTo>
                <a:lnTo>
                  <a:pt x="1078" y="1468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095720" y="4702320"/>
            <a:ext cx="706320" cy="504720"/>
          </a:xfrm>
          <a:custGeom>
            <a:avLst/>
            <a:gdLst/>
            <a:ahLst/>
            <a:rect l="l" t="t" r="r" b="b"/>
            <a:pathLst>
              <a:path w="823" h="600">
                <a:moveTo>
                  <a:pt x="524" y="570"/>
                </a:moveTo>
                <a:lnTo>
                  <a:pt x="434" y="570"/>
                </a:lnTo>
                <a:lnTo>
                  <a:pt x="404" y="600"/>
                </a:lnTo>
                <a:lnTo>
                  <a:pt x="374" y="600"/>
                </a:lnTo>
                <a:lnTo>
                  <a:pt x="330" y="540"/>
                </a:lnTo>
                <a:lnTo>
                  <a:pt x="285" y="540"/>
                </a:lnTo>
                <a:lnTo>
                  <a:pt x="240" y="555"/>
                </a:lnTo>
                <a:lnTo>
                  <a:pt x="225" y="570"/>
                </a:lnTo>
                <a:lnTo>
                  <a:pt x="180" y="555"/>
                </a:lnTo>
                <a:lnTo>
                  <a:pt x="150" y="555"/>
                </a:lnTo>
                <a:lnTo>
                  <a:pt x="135" y="540"/>
                </a:lnTo>
                <a:lnTo>
                  <a:pt x="105" y="585"/>
                </a:lnTo>
                <a:lnTo>
                  <a:pt x="75" y="555"/>
                </a:lnTo>
                <a:lnTo>
                  <a:pt x="45" y="540"/>
                </a:lnTo>
                <a:lnTo>
                  <a:pt x="0" y="555"/>
                </a:lnTo>
                <a:lnTo>
                  <a:pt x="0" y="495"/>
                </a:lnTo>
                <a:lnTo>
                  <a:pt x="0" y="465"/>
                </a:lnTo>
                <a:lnTo>
                  <a:pt x="15" y="435"/>
                </a:lnTo>
                <a:lnTo>
                  <a:pt x="45" y="405"/>
                </a:lnTo>
                <a:lnTo>
                  <a:pt x="45" y="375"/>
                </a:lnTo>
                <a:lnTo>
                  <a:pt x="90" y="375"/>
                </a:lnTo>
                <a:lnTo>
                  <a:pt x="105" y="345"/>
                </a:lnTo>
                <a:lnTo>
                  <a:pt x="90" y="285"/>
                </a:lnTo>
                <a:lnTo>
                  <a:pt x="105" y="240"/>
                </a:lnTo>
                <a:lnTo>
                  <a:pt x="135" y="195"/>
                </a:lnTo>
                <a:lnTo>
                  <a:pt x="120" y="165"/>
                </a:lnTo>
                <a:lnTo>
                  <a:pt x="195" y="150"/>
                </a:lnTo>
                <a:lnTo>
                  <a:pt x="240" y="120"/>
                </a:lnTo>
                <a:lnTo>
                  <a:pt x="285" y="75"/>
                </a:lnTo>
                <a:lnTo>
                  <a:pt x="419" y="30"/>
                </a:lnTo>
                <a:lnTo>
                  <a:pt x="524" y="0"/>
                </a:lnTo>
                <a:lnTo>
                  <a:pt x="569" y="15"/>
                </a:lnTo>
                <a:lnTo>
                  <a:pt x="614" y="30"/>
                </a:lnTo>
                <a:lnTo>
                  <a:pt x="644" y="60"/>
                </a:lnTo>
                <a:lnTo>
                  <a:pt x="689" y="90"/>
                </a:lnTo>
                <a:lnTo>
                  <a:pt x="704" y="150"/>
                </a:lnTo>
                <a:lnTo>
                  <a:pt x="719" y="165"/>
                </a:lnTo>
                <a:lnTo>
                  <a:pt x="823" y="180"/>
                </a:lnTo>
                <a:lnTo>
                  <a:pt x="823" y="225"/>
                </a:lnTo>
                <a:lnTo>
                  <a:pt x="793" y="255"/>
                </a:lnTo>
                <a:lnTo>
                  <a:pt x="808" y="300"/>
                </a:lnTo>
                <a:lnTo>
                  <a:pt x="778" y="330"/>
                </a:lnTo>
                <a:lnTo>
                  <a:pt x="793" y="360"/>
                </a:lnTo>
                <a:lnTo>
                  <a:pt x="808" y="405"/>
                </a:lnTo>
                <a:lnTo>
                  <a:pt x="808" y="465"/>
                </a:lnTo>
                <a:lnTo>
                  <a:pt x="808" y="495"/>
                </a:lnTo>
                <a:lnTo>
                  <a:pt x="734" y="495"/>
                </a:lnTo>
                <a:lnTo>
                  <a:pt x="689" y="465"/>
                </a:lnTo>
                <a:lnTo>
                  <a:pt x="659" y="495"/>
                </a:lnTo>
                <a:lnTo>
                  <a:pt x="629" y="495"/>
                </a:lnTo>
                <a:lnTo>
                  <a:pt x="659" y="525"/>
                </a:lnTo>
                <a:lnTo>
                  <a:pt x="599" y="570"/>
                </a:lnTo>
                <a:lnTo>
                  <a:pt x="524" y="57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noFill/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47840" y="4875120"/>
            <a:ext cx="702000" cy="658800"/>
          </a:xfrm>
          <a:custGeom>
            <a:avLst/>
            <a:gdLst/>
            <a:ahLst/>
            <a:rect l="l" t="t" r="r" b="b"/>
            <a:pathLst>
              <a:path w="823" h="779">
                <a:moveTo>
                  <a:pt x="613" y="584"/>
                </a:moveTo>
                <a:lnTo>
                  <a:pt x="583" y="554"/>
                </a:lnTo>
                <a:lnTo>
                  <a:pt x="554" y="584"/>
                </a:lnTo>
                <a:lnTo>
                  <a:pt x="479" y="644"/>
                </a:lnTo>
                <a:lnTo>
                  <a:pt x="449" y="689"/>
                </a:lnTo>
                <a:lnTo>
                  <a:pt x="449" y="749"/>
                </a:lnTo>
                <a:lnTo>
                  <a:pt x="419" y="764"/>
                </a:lnTo>
                <a:lnTo>
                  <a:pt x="374" y="749"/>
                </a:lnTo>
                <a:lnTo>
                  <a:pt x="329" y="779"/>
                </a:lnTo>
                <a:lnTo>
                  <a:pt x="314" y="764"/>
                </a:lnTo>
                <a:lnTo>
                  <a:pt x="269" y="719"/>
                </a:lnTo>
                <a:lnTo>
                  <a:pt x="269" y="659"/>
                </a:lnTo>
                <a:lnTo>
                  <a:pt x="194" y="614"/>
                </a:lnTo>
                <a:lnTo>
                  <a:pt x="164" y="539"/>
                </a:lnTo>
                <a:lnTo>
                  <a:pt x="164" y="509"/>
                </a:lnTo>
                <a:lnTo>
                  <a:pt x="120" y="464"/>
                </a:lnTo>
                <a:lnTo>
                  <a:pt x="45" y="434"/>
                </a:lnTo>
                <a:lnTo>
                  <a:pt x="15" y="375"/>
                </a:lnTo>
                <a:lnTo>
                  <a:pt x="0" y="315"/>
                </a:lnTo>
                <a:lnTo>
                  <a:pt x="45" y="300"/>
                </a:lnTo>
                <a:lnTo>
                  <a:pt x="90" y="285"/>
                </a:lnTo>
                <a:lnTo>
                  <a:pt x="75" y="270"/>
                </a:lnTo>
                <a:lnTo>
                  <a:pt x="105" y="255"/>
                </a:lnTo>
                <a:lnTo>
                  <a:pt x="120" y="225"/>
                </a:lnTo>
                <a:lnTo>
                  <a:pt x="135" y="210"/>
                </a:lnTo>
                <a:lnTo>
                  <a:pt x="164" y="240"/>
                </a:lnTo>
                <a:lnTo>
                  <a:pt x="209" y="240"/>
                </a:lnTo>
                <a:lnTo>
                  <a:pt x="239" y="285"/>
                </a:lnTo>
                <a:lnTo>
                  <a:pt x="269" y="270"/>
                </a:lnTo>
                <a:lnTo>
                  <a:pt x="299" y="285"/>
                </a:lnTo>
                <a:lnTo>
                  <a:pt x="314" y="255"/>
                </a:lnTo>
                <a:lnTo>
                  <a:pt x="359" y="270"/>
                </a:lnTo>
                <a:lnTo>
                  <a:pt x="359" y="240"/>
                </a:lnTo>
                <a:lnTo>
                  <a:pt x="359" y="210"/>
                </a:lnTo>
                <a:lnTo>
                  <a:pt x="404" y="210"/>
                </a:lnTo>
                <a:lnTo>
                  <a:pt x="449" y="180"/>
                </a:lnTo>
                <a:lnTo>
                  <a:pt x="374" y="135"/>
                </a:lnTo>
                <a:lnTo>
                  <a:pt x="374" y="105"/>
                </a:lnTo>
                <a:lnTo>
                  <a:pt x="419" y="75"/>
                </a:lnTo>
                <a:lnTo>
                  <a:pt x="419" y="0"/>
                </a:lnTo>
                <a:lnTo>
                  <a:pt x="479" y="30"/>
                </a:lnTo>
                <a:lnTo>
                  <a:pt x="479" y="105"/>
                </a:lnTo>
                <a:lnTo>
                  <a:pt x="524" y="105"/>
                </a:lnTo>
                <a:lnTo>
                  <a:pt x="583" y="105"/>
                </a:lnTo>
                <a:lnTo>
                  <a:pt x="613" y="120"/>
                </a:lnTo>
                <a:lnTo>
                  <a:pt x="673" y="165"/>
                </a:lnTo>
                <a:lnTo>
                  <a:pt x="748" y="165"/>
                </a:lnTo>
                <a:lnTo>
                  <a:pt x="793" y="210"/>
                </a:lnTo>
                <a:lnTo>
                  <a:pt x="808" y="285"/>
                </a:lnTo>
                <a:lnTo>
                  <a:pt x="778" y="345"/>
                </a:lnTo>
                <a:lnTo>
                  <a:pt x="808" y="360"/>
                </a:lnTo>
                <a:lnTo>
                  <a:pt x="793" y="390"/>
                </a:lnTo>
                <a:lnTo>
                  <a:pt x="823" y="419"/>
                </a:lnTo>
                <a:lnTo>
                  <a:pt x="793" y="434"/>
                </a:lnTo>
                <a:lnTo>
                  <a:pt x="778" y="479"/>
                </a:lnTo>
                <a:lnTo>
                  <a:pt x="748" y="509"/>
                </a:lnTo>
                <a:lnTo>
                  <a:pt x="718" y="509"/>
                </a:lnTo>
                <a:lnTo>
                  <a:pt x="688" y="569"/>
                </a:lnTo>
                <a:lnTo>
                  <a:pt x="613" y="584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441600" y="4537080"/>
            <a:ext cx="500040" cy="442800"/>
          </a:xfrm>
          <a:custGeom>
            <a:avLst/>
            <a:gdLst/>
            <a:ahLst/>
            <a:rect l="l" t="t" r="r" b="b"/>
            <a:pathLst>
              <a:path w="584" h="525">
                <a:moveTo>
                  <a:pt x="45" y="30"/>
                </a:moveTo>
                <a:lnTo>
                  <a:pt x="75" y="15"/>
                </a:lnTo>
                <a:lnTo>
                  <a:pt x="90" y="30"/>
                </a:lnTo>
                <a:lnTo>
                  <a:pt x="135" y="15"/>
                </a:lnTo>
                <a:lnTo>
                  <a:pt x="180" y="30"/>
                </a:lnTo>
                <a:lnTo>
                  <a:pt x="225" y="30"/>
                </a:lnTo>
                <a:lnTo>
                  <a:pt x="269" y="15"/>
                </a:lnTo>
                <a:lnTo>
                  <a:pt x="314" y="45"/>
                </a:lnTo>
                <a:lnTo>
                  <a:pt x="359" y="15"/>
                </a:lnTo>
                <a:lnTo>
                  <a:pt x="419" y="0"/>
                </a:lnTo>
                <a:lnTo>
                  <a:pt x="449" y="0"/>
                </a:lnTo>
                <a:lnTo>
                  <a:pt x="509" y="0"/>
                </a:lnTo>
                <a:lnTo>
                  <a:pt x="584" y="75"/>
                </a:lnTo>
                <a:lnTo>
                  <a:pt x="494" y="90"/>
                </a:lnTo>
                <a:lnTo>
                  <a:pt x="479" y="120"/>
                </a:lnTo>
                <a:lnTo>
                  <a:pt x="479" y="150"/>
                </a:lnTo>
                <a:lnTo>
                  <a:pt x="449" y="195"/>
                </a:lnTo>
                <a:lnTo>
                  <a:pt x="389" y="210"/>
                </a:lnTo>
                <a:lnTo>
                  <a:pt x="389" y="270"/>
                </a:lnTo>
                <a:lnTo>
                  <a:pt x="359" y="330"/>
                </a:lnTo>
                <a:lnTo>
                  <a:pt x="344" y="345"/>
                </a:lnTo>
                <a:lnTo>
                  <a:pt x="269" y="435"/>
                </a:lnTo>
                <a:lnTo>
                  <a:pt x="284" y="465"/>
                </a:lnTo>
                <a:lnTo>
                  <a:pt x="269" y="525"/>
                </a:lnTo>
                <a:lnTo>
                  <a:pt x="210" y="510"/>
                </a:lnTo>
                <a:lnTo>
                  <a:pt x="150" y="510"/>
                </a:lnTo>
                <a:lnTo>
                  <a:pt x="135" y="510"/>
                </a:lnTo>
                <a:lnTo>
                  <a:pt x="120" y="435"/>
                </a:lnTo>
                <a:lnTo>
                  <a:pt x="75" y="405"/>
                </a:lnTo>
                <a:lnTo>
                  <a:pt x="60" y="360"/>
                </a:lnTo>
                <a:lnTo>
                  <a:pt x="30" y="315"/>
                </a:lnTo>
                <a:lnTo>
                  <a:pt x="30" y="255"/>
                </a:lnTo>
                <a:lnTo>
                  <a:pt x="60" y="210"/>
                </a:lnTo>
                <a:lnTo>
                  <a:pt x="60" y="195"/>
                </a:lnTo>
                <a:lnTo>
                  <a:pt x="30" y="165"/>
                </a:lnTo>
                <a:lnTo>
                  <a:pt x="30" y="135"/>
                </a:lnTo>
                <a:lnTo>
                  <a:pt x="0" y="120"/>
                </a:lnTo>
                <a:lnTo>
                  <a:pt x="15" y="75"/>
                </a:lnTo>
                <a:lnTo>
                  <a:pt x="45" y="30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876400" y="4500720"/>
            <a:ext cx="654120" cy="641160"/>
          </a:xfrm>
          <a:custGeom>
            <a:avLst/>
            <a:gdLst/>
            <a:ahLst/>
            <a:rect l="l" t="t" r="r" b="b"/>
            <a:pathLst>
              <a:path w="763" h="765">
                <a:moveTo>
                  <a:pt x="314" y="765"/>
                </a:moveTo>
                <a:lnTo>
                  <a:pt x="404" y="735"/>
                </a:lnTo>
                <a:lnTo>
                  <a:pt x="389" y="720"/>
                </a:lnTo>
                <a:lnTo>
                  <a:pt x="419" y="705"/>
                </a:lnTo>
                <a:lnTo>
                  <a:pt x="419" y="675"/>
                </a:lnTo>
                <a:lnTo>
                  <a:pt x="449" y="645"/>
                </a:lnTo>
                <a:lnTo>
                  <a:pt x="478" y="690"/>
                </a:lnTo>
                <a:lnTo>
                  <a:pt x="523" y="690"/>
                </a:lnTo>
                <a:lnTo>
                  <a:pt x="553" y="735"/>
                </a:lnTo>
                <a:lnTo>
                  <a:pt x="583" y="720"/>
                </a:lnTo>
                <a:lnTo>
                  <a:pt x="613" y="735"/>
                </a:lnTo>
                <a:lnTo>
                  <a:pt x="628" y="705"/>
                </a:lnTo>
                <a:lnTo>
                  <a:pt x="673" y="705"/>
                </a:lnTo>
                <a:lnTo>
                  <a:pt x="673" y="660"/>
                </a:lnTo>
                <a:lnTo>
                  <a:pt x="718" y="660"/>
                </a:lnTo>
                <a:lnTo>
                  <a:pt x="763" y="615"/>
                </a:lnTo>
                <a:lnTo>
                  <a:pt x="688" y="585"/>
                </a:lnTo>
                <a:lnTo>
                  <a:pt x="688" y="555"/>
                </a:lnTo>
                <a:lnTo>
                  <a:pt x="748" y="525"/>
                </a:lnTo>
                <a:lnTo>
                  <a:pt x="733" y="450"/>
                </a:lnTo>
                <a:lnTo>
                  <a:pt x="718" y="390"/>
                </a:lnTo>
                <a:lnTo>
                  <a:pt x="688" y="345"/>
                </a:lnTo>
                <a:lnTo>
                  <a:pt x="688" y="300"/>
                </a:lnTo>
                <a:lnTo>
                  <a:pt x="718" y="255"/>
                </a:lnTo>
                <a:lnTo>
                  <a:pt x="718" y="240"/>
                </a:lnTo>
                <a:lnTo>
                  <a:pt x="688" y="210"/>
                </a:lnTo>
                <a:lnTo>
                  <a:pt x="673" y="180"/>
                </a:lnTo>
                <a:lnTo>
                  <a:pt x="658" y="165"/>
                </a:lnTo>
                <a:lnTo>
                  <a:pt x="673" y="120"/>
                </a:lnTo>
                <a:lnTo>
                  <a:pt x="703" y="75"/>
                </a:lnTo>
                <a:lnTo>
                  <a:pt x="643" y="105"/>
                </a:lnTo>
                <a:lnTo>
                  <a:pt x="613" y="60"/>
                </a:lnTo>
                <a:lnTo>
                  <a:pt x="568" y="60"/>
                </a:lnTo>
                <a:lnTo>
                  <a:pt x="538" y="60"/>
                </a:lnTo>
                <a:lnTo>
                  <a:pt x="508" y="75"/>
                </a:lnTo>
                <a:lnTo>
                  <a:pt x="508" y="30"/>
                </a:lnTo>
                <a:lnTo>
                  <a:pt x="463" y="15"/>
                </a:lnTo>
                <a:lnTo>
                  <a:pt x="434" y="0"/>
                </a:lnTo>
                <a:lnTo>
                  <a:pt x="419" y="30"/>
                </a:lnTo>
                <a:lnTo>
                  <a:pt x="359" y="15"/>
                </a:lnTo>
                <a:lnTo>
                  <a:pt x="359" y="75"/>
                </a:lnTo>
                <a:lnTo>
                  <a:pt x="329" y="75"/>
                </a:lnTo>
                <a:lnTo>
                  <a:pt x="284" y="75"/>
                </a:lnTo>
                <a:lnTo>
                  <a:pt x="254" y="60"/>
                </a:lnTo>
                <a:lnTo>
                  <a:pt x="239" y="75"/>
                </a:lnTo>
                <a:lnTo>
                  <a:pt x="269" y="135"/>
                </a:lnTo>
                <a:lnTo>
                  <a:pt x="269" y="150"/>
                </a:lnTo>
                <a:lnTo>
                  <a:pt x="224" y="120"/>
                </a:lnTo>
                <a:lnTo>
                  <a:pt x="224" y="195"/>
                </a:lnTo>
                <a:lnTo>
                  <a:pt x="224" y="285"/>
                </a:lnTo>
                <a:lnTo>
                  <a:pt x="254" y="330"/>
                </a:lnTo>
                <a:lnTo>
                  <a:pt x="254" y="360"/>
                </a:lnTo>
                <a:lnTo>
                  <a:pt x="194" y="360"/>
                </a:lnTo>
                <a:lnTo>
                  <a:pt x="164" y="375"/>
                </a:lnTo>
                <a:lnTo>
                  <a:pt x="119" y="390"/>
                </a:lnTo>
                <a:lnTo>
                  <a:pt x="119" y="435"/>
                </a:lnTo>
                <a:lnTo>
                  <a:pt x="59" y="420"/>
                </a:lnTo>
                <a:lnTo>
                  <a:pt x="44" y="435"/>
                </a:lnTo>
                <a:lnTo>
                  <a:pt x="15" y="435"/>
                </a:lnTo>
                <a:lnTo>
                  <a:pt x="0" y="510"/>
                </a:lnTo>
                <a:lnTo>
                  <a:pt x="15" y="540"/>
                </a:lnTo>
                <a:lnTo>
                  <a:pt x="15" y="570"/>
                </a:lnTo>
                <a:lnTo>
                  <a:pt x="89" y="615"/>
                </a:lnTo>
                <a:lnTo>
                  <a:pt x="164" y="645"/>
                </a:lnTo>
                <a:lnTo>
                  <a:pt x="209" y="675"/>
                </a:lnTo>
                <a:lnTo>
                  <a:pt x="254" y="675"/>
                </a:lnTo>
                <a:lnTo>
                  <a:pt x="299" y="720"/>
                </a:lnTo>
                <a:lnTo>
                  <a:pt x="314" y="735"/>
                </a:lnTo>
                <a:lnTo>
                  <a:pt x="314" y="765"/>
                </a:lnTo>
                <a:close/>
              </a:path>
            </a:pathLst>
          </a:custGeom>
          <a:solidFill>
            <a:srgbClr val="ffff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84560" y="4006800"/>
            <a:ext cx="901440" cy="1033560"/>
          </a:xfrm>
          <a:custGeom>
            <a:avLst/>
            <a:gdLst/>
            <a:ahLst/>
            <a:rect l="l" t="t" r="r" b="b"/>
            <a:pathLst>
              <a:path w="1048" h="1229">
                <a:moveTo>
                  <a:pt x="704" y="1154"/>
                </a:moveTo>
                <a:lnTo>
                  <a:pt x="584" y="1229"/>
                </a:lnTo>
                <a:lnTo>
                  <a:pt x="539" y="1139"/>
                </a:lnTo>
                <a:lnTo>
                  <a:pt x="509" y="1094"/>
                </a:lnTo>
                <a:lnTo>
                  <a:pt x="404" y="1034"/>
                </a:lnTo>
                <a:lnTo>
                  <a:pt x="509" y="974"/>
                </a:lnTo>
                <a:lnTo>
                  <a:pt x="494" y="884"/>
                </a:lnTo>
                <a:lnTo>
                  <a:pt x="449" y="884"/>
                </a:lnTo>
                <a:lnTo>
                  <a:pt x="359" y="914"/>
                </a:lnTo>
                <a:lnTo>
                  <a:pt x="314" y="899"/>
                </a:lnTo>
                <a:lnTo>
                  <a:pt x="225" y="854"/>
                </a:lnTo>
                <a:lnTo>
                  <a:pt x="180" y="794"/>
                </a:lnTo>
                <a:lnTo>
                  <a:pt x="105" y="779"/>
                </a:lnTo>
                <a:lnTo>
                  <a:pt x="75" y="764"/>
                </a:lnTo>
                <a:lnTo>
                  <a:pt x="30" y="734"/>
                </a:lnTo>
                <a:lnTo>
                  <a:pt x="0" y="704"/>
                </a:lnTo>
                <a:lnTo>
                  <a:pt x="90" y="689"/>
                </a:lnTo>
                <a:lnTo>
                  <a:pt x="90" y="629"/>
                </a:lnTo>
                <a:lnTo>
                  <a:pt x="90" y="599"/>
                </a:lnTo>
                <a:lnTo>
                  <a:pt x="150" y="555"/>
                </a:lnTo>
                <a:lnTo>
                  <a:pt x="180" y="570"/>
                </a:lnTo>
                <a:lnTo>
                  <a:pt x="210" y="540"/>
                </a:lnTo>
                <a:lnTo>
                  <a:pt x="195" y="480"/>
                </a:lnTo>
                <a:lnTo>
                  <a:pt x="180" y="450"/>
                </a:lnTo>
                <a:lnTo>
                  <a:pt x="210" y="450"/>
                </a:lnTo>
                <a:lnTo>
                  <a:pt x="210" y="390"/>
                </a:lnTo>
                <a:lnTo>
                  <a:pt x="240" y="390"/>
                </a:lnTo>
                <a:lnTo>
                  <a:pt x="240" y="330"/>
                </a:lnTo>
                <a:lnTo>
                  <a:pt x="285" y="300"/>
                </a:lnTo>
                <a:lnTo>
                  <a:pt x="299" y="270"/>
                </a:lnTo>
                <a:lnTo>
                  <a:pt x="359" y="240"/>
                </a:lnTo>
                <a:lnTo>
                  <a:pt x="389" y="225"/>
                </a:lnTo>
                <a:lnTo>
                  <a:pt x="359" y="180"/>
                </a:lnTo>
                <a:lnTo>
                  <a:pt x="374" y="150"/>
                </a:lnTo>
                <a:lnTo>
                  <a:pt x="404" y="90"/>
                </a:lnTo>
                <a:lnTo>
                  <a:pt x="389" y="60"/>
                </a:lnTo>
                <a:lnTo>
                  <a:pt x="389" y="15"/>
                </a:lnTo>
                <a:lnTo>
                  <a:pt x="419" y="0"/>
                </a:lnTo>
                <a:lnTo>
                  <a:pt x="464" y="30"/>
                </a:lnTo>
                <a:lnTo>
                  <a:pt x="494" y="15"/>
                </a:lnTo>
                <a:lnTo>
                  <a:pt x="539" y="0"/>
                </a:lnTo>
                <a:lnTo>
                  <a:pt x="554" y="15"/>
                </a:lnTo>
                <a:lnTo>
                  <a:pt x="554" y="45"/>
                </a:lnTo>
                <a:lnTo>
                  <a:pt x="569" y="75"/>
                </a:lnTo>
                <a:lnTo>
                  <a:pt x="659" y="75"/>
                </a:lnTo>
                <a:lnTo>
                  <a:pt x="689" y="45"/>
                </a:lnTo>
                <a:lnTo>
                  <a:pt x="748" y="30"/>
                </a:lnTo>
                <a:lnTo>
                  <a:pt x="778" y="30"/>
                </a:lnTo>
                <a:lnTo>
                  <a:pt x="823" y="60"/>
                </a:lnTo>
                <a:lnTo>
                  <a:pt x="853" y="60"/>
                </a:lnTo>
                <a:lnTo>
                  <a:pt x="883" y="60"/>
                </a:lnTo>
                <a:lnTo>
                  <a:pt x="883" y="90"/>
                </a:lnTo>
                <a:lnTo>
                  <a:pt x="883" y="120"/>
                </a:lnTo>
                <a:lnTo>
                  <a:pt x="868" y="165"/>
                </a:lnTo>
                <a:lnTo>
                  <a:pt x="898" y="225"/>
                </a:lnTo>
                <a:lnTo>
                  <a:pt x="913" y="240"/>
                </a:lnTo>
                <a:lnTo>
                  <a:pt x="883" y="240"/>
                </a:lnTo>
                <a:lnTo>
                  <a:pt x="868" y="285"/>
                </a:lnTo>
                <a:lnTo>
                  <a:pt x="898" y="300"/>
                </a:lnTo>
                <a:lnTo>
                  <a:pt x="883" y="315"/>
                </a:lnTo>
                <a:lnTo>
                  <a:pt x="883" y="375"/>
                </a:lnTo>
                <a:lnTo>
                  <a:pt x="928" y="390"/>
                </a:lnTo>
                <a:lnTo>
                  <a:pt x="913" y="420"/>
                </a:lnTo>
                <a:lnTo>
                  <a:pt x="868" y="465"/>
                </a:lnTo>
                <a:lnTo>
                  <a:pt x="883" y="510"/>
                </a:lnTo>
                <a:lnTo>
                  <a:pt x="943" y="525"/>
                </a:lnTo>
                <a:lnTo>
                  <a:pt x="943" y="555"/>
                </a:lnTo>
                <a:lnTo>
                  <a:pt x="973" y="584"/>
                </a:lnTo>
                <a:lnTo>
                  <a:pt x="1033" y="584"/>
                </a:lnTo>
                <a:lnTo>
                  <a:pt x="1048" y="644"/>
                </a:lnTo>
                <a:lnTo>
                  <a:pt x="1018" y="674"/>
                </a:lnTo>
                <a:lnTo>
                  <a:pt x="973" y="644"/>
                </a:lnTo>
                <a:lnTo>
                  <a:pt x="943" y="644"/>
                </a:lnTo>
                <a:lnTo>
                  <a:pt x="928" y="659"/>
                </a:lnTo>
                <a:lnTo>
                  <a:pt x="958" y="704"/>
                </a:lnTo>
                <a:lnTo>
                  <a:pt x="958" y="734"/>
                </a:lnTo>
                <a:lnTo>
                  <a:pt x="913" y="704"/>
                </a:lnTo>
                <a:lnTo>
                  <a:pt x="913" y="779"/>
                </a:lnTo>
                <a:lnTo>
                  <a:pt x="913" y="869"/>
                </a:lnTo>
                <a:lnTo>
                  <a:pt x="943" y="914"/>
                </a:lnTo>
                <a:lnTo>
                  <a:pt x="943" y="944"/>
                </a:lnTo>
                <a:lnTo>
                  <a:pt x="883" y="944"/>
                </a:lnTo>
                <a:lnTo>
                  <a:pt x="853" y="959"/>
                </a:lnTo>
                <a:lnTo>
                  <a:pt x="808" y="959"/>
                </a:lnTo>
                <a:lnTo>
                  <a:pt x="793" y="1019"/>
                </a:lnTo>
                <a:lnTo>
                  <a:pt x="748" y="1004"/>
                </a:lnTo>
                <a:lnTo>
                  <a:pt x="733" y="1019"/>
                </a:lnTo>
                <a:lnTo>
                  <a:pt x="704" y="1019"/>
                </a:lnTo>
                <a:lnTo>
                  <a:pt x="689" y="1094"/>
                </a:lnTo>
                <a:lnTo>
                  <a:pt x="704" y="1154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028960" y="3632040"/>
            <a:ext cx="625320" cy="789120"/>
          </a:xfrm>
          <a:custGeom>
            <a:avLst/>
            <a:gdLst/>
            <a:ahLst/>
            <a:rect l="l" t="t" r="r" b="b"/>
            <a:pathLst>
              <a:path w="733" h="944">
                <a:moveTo>
                  <a:pt x="494" y="929"/>
                </a:moveTo>
                <a:lnTo>
                  <a:pt x="434" y="884"/>
                </a:lnTo>
                <a:lnTo>
                  <a:pt x="389" y="914"/>
                </a:lnTo>
                <a:lnTo>
                  <a:pt x="359" y="944"/>
                </a:lnTo>
                <a:lnTo>
                  <a:pt x="314" y="929"/>
                </a:lnTo>
                <a:lnTo>
                  <a:pt x="269" y="914"/>
                </a:lnTo>
                <a:lnTo>
                  <a:pt x="254" y="854"/>
                </a:lnTo>
                <a:lnTo>
                  <a:pt x="239" y="869"/>
                </a:lnTo>
                <a:lnTo>
                  <a:pt x="194" y="869"/>
                </a:lnTo>
                <a:lnTo>
                  <a:pt x="179" y="839"/>
                </a:lnTo>
                <a:lnTo>
                  <a:pt x="150" y="809"/>
                </a:lnTo>
                <a:lnTo>
                  <a:pt x="164" y="779"/>
                </a:lnTo>
                <a:lnTo>
                  <a:pt x="164" y="734"/>
                </a:lnTo>
                <a:lnTo>
                  <a:pt x="164" y="689"/>
                </a:lnTo>
                <a:lnTo>
                  <a:pt x="120" y="704"/>
                </a:lnTo>
                <a:lnTo>
                  <a:pt x="105" y="689"/>
                </a:lnTo>
                <a:lnTo>
                  <a:pt x="105" y="659"/>
                </a:lnTo>
                <a:lnTo>
                  <a:pt x="105" y="629"/>
                </a:lnTo>
                <a:lnTo>
                  <a:pt x="60" y="614"/>
                </a:lnTo>
                <a:lnTo>
                  <a:pt x="75" y="569"/>
                </a:lnTo>
                <a:lnTo>
                  <a:pt x="60" y="524"/>
                </a:lnTo>
                <a:lnTo>
                  <a:pt x="30" y="509"/>
                </a:lnTo>
                <a:lnTo>
                  <a:pt x="0" y="509"/>
                </a:lnTo>
                <a:lnTo>
                  <a:pt x="15" y="419"/>
                </a:lnTo>
                <a:lnTo>
                  <a:pt x="15" y="359"/>
                </a:lnTo>
                <a:lnTo>
                  <a:pt x="0" y="329"/>
                </a:lnTo>
                <a:lnTo>
                  <a:pt x="30" y="299"/>
                </a:lnTo>
                <a:lnTo>
                  <a:pt x="30" y="254"/>
                </a:lnTo>
                <a:lnTo>
                  <a:pt x="30" y="209"/>
                </a:lnTo>
                <a:lnTo>
                  <a:pt x="15" y="135"/>
                </a:lnTo>
                <a:lnTo>
                  <a:pt x="75" y="135"/>
                </a:lnTo>
                <a:lnTo>
                  <a:pt x="120" y="135"/>
                </a:lnTo>
                <a:lnTo>
                  <a:pt x="135" y="150"/>
                </a:lnTo>
                <a:lnTo>
                  <a:pt x="224" y="135"/>
                </a:lnTo>
                <a:lnTo>
                  <a:pt x="254" y="60"/>
                </a:lnTo>
                <a:lnTo>
                  <a:pt x="284" y="75"/>
                </a:lnTo>
                <a:lnTo>
                  <a:pt x="344" y="90"/>
                </a:lnTo>
                <a:lnTo>
                  <a:pt x="389" y="90"/>
                </a:lnTo>
                <a:lnTo>
                  <a:pt x="419" y="75"/>
                </a:lnTo>
                <a:lnTo>
                  <a:pt x="494" y="75"/>
                </a:lnTo>
                <a:lnTo>
                  <a:pt x="509" y="15"/>
                </a:lnTo>
                <a:lnTo>
                  <a:pt x="554" y="0"/>
                </a:lnTo>
                <a:lnTo>
                  <a:pt x="628" y="0"/>
                </a:lnTo>
                <a:lnTo>
                  <a:pt x="673" y="30"/>
                </a:lnTo>
                <a:lnTo>
                  <a:pt x="718" y="45"/>
                </a:lnTo>
                <a:lnTo>
                  <a:pt x="733" y="90"/>
                </a:lnTo>
                <a:lnTo>
                  <a:pt x="703" y="120"/>
                </a:lnTo>
                <a:lnTo>
                  <a:pt x="703" y="299"/>
                </a:lnTo>
                <a:lnTo>
                  <a:pt x="688" y="359"/>
                </a:lnTo>
                <a:lnTo>
                  <a:pt x="718" y="389"/>
                </a:lnTo>
                <a:lnTo>
                  <a:pt x="718" y="449"/>
                </a:lnTo>
                <a:lnTo>
                  <a:pt x="688" y="464"/>
                </a:lnTo>
                <a:lnTo>
                  <a:pt x="688" y="509"/>
                </a:lnTo>
                <a:lnTo>
                  <a:pt x="703" y="539"/>
                </a:lnTo>
                <a:lnTo>
                  <a:pt x="673" y="614"/>
                </a:lnTo>
                <a:lnTo>
                  <a:pt x="658" y="629"/>
                </a:lnTo>
                <a:lnTo>
                  <a:pt x="688" y="674"/>
                </a:lnTo>
                <a:lnTo>
                  <a:pt x="658" y="689"/>
                </a:lnTo>
                <a:lnTo>
                  <a:pt x="598" y="719"/>
                </a:lnTo>
                <a:lnTo>
                  <a:pt x="584" y="749"/>
                </a:lnTo>
                <a:lnTo>
                  <a:pt x="539" y="779"/>
                </a:lnTo>
                <a:lnTo>
                  <a:pt x="539" y="839"/>
                </a:lnTo>
                <a:lnTo>
                  <a:pt x="509" y="839"/>
                </a:lnTo>
                <a:lnTo>
                  <a:pt x="509" y="899"/>
                </a:lnTo>
                <a:lnTo>
                  <a:pt x="494" y="899"/>
                </a:lnTo>
                <a:lnTo>
                  <a:pt x="494" y="92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836720" y="4143240"/>
            <a:ext cx="630360" cy="771840"/>
          </a:xfrm>
          <a:custGeom>
            <a:avLst/>
            <a:gdLst/>
            <a:ahLst/>
            <a:rect l="l" t="t" r="r" b="b"/>
            <a:pathLst>
              <a:path w="734" h="914">
                <a:moveTo>
                  <a:pt x="719" y="315"/>
                </a:moveTo>
                <a:lnTo>
                  <a:pt x="734" y="375"/>
                </a:lnTo>
                <a:lnTo>
                  <a:pt x="704" y="405"/>
                </a:lnTo>
                <a:lnTo>
                  <a:pt x="674" y="390"/>
                </a:lnTo>
                <a:lnTo>
                  <a:pt x="614" y="434"/>
                </a:lnTo>
                <a:lnTo>
                  <a:pt x="614" y="524"/>
                </a:lnTo>
                <a:lnTo>
                  <a:pt x="539" y="539"/>
                </a:lnTo>
                <a:lnTo>
                  <a:pt x="539" y="569"/>
                </a:lnTo>
                <a:lnTo>
                  <a:pt x="494" y="569"/>
                </a:lnTo>
                <a:lnTo>
                  <a:pt x="479" y="599"/>
                </a:lnTo>
                <a:lnTo>
                  <a:pt x="494" y="659"/>
                </a:lnTo>
                <a:lnTo>
                  <a:pt x="554" y="719"/>
                </a:lnTo>
                <a:lnTo>
                  <a:pt x="569" y="764"/>
                </a:lnTo>
                <a:lnTo>
                  <a:pt x="524" y="779"/>
                </a:lnTo>
                <a:lnTo>
                  <a:pt x="479" y="794"/>
                </a:lnTo>
                <a:lnTo>
                  <a:pt x="419" y="794"/>
                </a:lnTo>
                <a:lnTo>
                  <a:pt x="419" y="869"/>
                </a:lnTo>
                <a:lnTo>
                  <a:pt x="389" y="914"/>
                </a:lnTo>
                <a:lnTo>
                  <a:pt x="375" y="914"/>
                </a:lnTo>
                <a:lnTo>
                  <a:pt x="315" y="839"/>
                </a:lnTo>
                <a:lnTo>
                  <a:pt x="270" y="794"/>
                </a:lnTo>
                <a:lnTo>
                  <a:pt x="240" y="749"/>
                </a:lnTo>
                <a:lnTo>
                  <a:pt x="195" y="734"/>
                </a:lnTo>
                <a:lnTo>
                  <a:pt x="195" y="704"/>
                </a:lnTo>
                <a:lnTo>
                  <a:pt x="210" y="644"/>
                </a:lnTo>
                <a:lnTo>
                  <a:pt x="150" y="614"/>
                </a:lnTo>
                <a:lnTo>
                  <a:pt x="105" y="584"/>
                </a:lnTo>
                <a:lnTo>
                  <a:pt x="75" y="554"/>
                </a:lnTo>
                <a:lnTo>
                  <a:pt x="120" y="509"/>
                </a:lnTo>
                <a:lnTo>
                  <a:pt x="180" y="479"/>
                </a:lnTo>
                <a:lnTo>
                  <a:pt x="195" y="434"/>
                </a:lnTo>
                <a:lnTo>
                  <a:pt x="195" y="390"/>
                </a:lnTo>
                <a:lnTo>
                  <a:pt x="180" y="345"/>
                </a:lnTo>
                <a:lnTo>
                  <a:pt x="150" y="330"/>
                </a:lnTo>
                <a:lnTo>
                  <a:pt x="90" y="345"/>
                </a:lnTo>
                <a:lnTo>
                  <a:pt x="45" y="330"/>
                </a:lnTo>
                <a:lnTo>
                  <a:pt x="15" y="330"/>
                </a:lnTo>
                <a:lnTo>
                  <a:pt x="45" y="285"/>
                </a:lnTo>
                <a:lnTo>
                  <a:pt x="15" y="240"/>
                </a:lnTo>
                <a:lnTo>
                  <a:pt x="0" y="225"/>
                </a:lnTo>
                <a:lnTo>
                  <a:pt x="0" y="180"/>
                </a:lnTo>
                <a:lnTo>
                  <a:pt x="15" y="165"/>
                </a:lnTo>
                <a:lnTo>
                  <a:pt x="30" y="150"/>
                </a:lnTo>
                <a:lnTo>
                  <a:pt x="60" y="135"/>
                </a:lnTo>
                <a:lnTo>
                  <a:pt x="60" y="105"/>
                </a:lnTo>
                <a:lnTo>
                  <a:pt x="60" y="60"/>
                </a:lnTo>
                <a:lnTo>
                  <a:pt x="75" y="30"/>
                </a:lnTo>
                <a:lnTo>
                  <a:pt x="90" y="0"/>
                </a:lnTo>
                <a:lnTo>
                  <a:pt x="135" y="0"/>
                </a:lnTo>
                <a:lnTo>
                  <a:pt x="165" y="0"/>
                </a:lnTo>
                <a:lnTo>
                  <a:pt x="195" y="0"/>
                </a:lnTo>
                <a:lnTo>
                  <a:pt x="210" y="15"/>
                </a:lnTo>
                <a:lnTo>
                  <a:pt x="240" y="15"/>
                </a:lnTo>
                <a:lnTo>
                  <a:pt x="285" y="0"/>
                </a:lnTo>
                <a:lnTo>
                  <a:pt x="330" y="15"/>
                </a:lnTo>
                <a:lnTo>
                  <a:pt x="330" y="45"/>
                </a:lnTo>
                <a:lnTo>
                  <a:pt x="330" y="75"/>
                </a:lnTo>
                <a:lnTo>
                  <a:pt x="345" y="90"/>
                </a:lnTo>
                <a:lnTo>
                  <a:pt x="389" y="75"/>
                </a:lnTo>
                <a:lnTo>
                  <a:pt x="389" y="120"/>
                </a:lnTo>
                <a:lnTo>
                  <a:pt x="389" y="165"/>
                </a:lnTo>
                <a:lnTo>
                  <a:pt x="375" y="210"/>
                </a:lnTo>
                <a:lnTo>
                  <a:pt x="404" y="225"/>
                </a:lnTo>
                <a:lnTo>
                  <a:pt x="419" y="255"/>
                </a:lnTo>
                <a:lnTo>
                  <a:pt x="464" y="255"/>
                </a:lnTo>
                <a:lnTo>
                  <a:pt x="479" y="255"/>
                </a:lnTo>
                <a:lnTo>
                  <a:pt x="509" y="300"/>
                </a:lnTo>
                <a:lnTo>
                  <a:pt x="554" y="315"/>
                </a:lnTo>
                <a:lnTo>
                  <a:pt x="584" y="330"/>
                </a:lnTo>
                <a:lnTo>
                  <a:pt x="614" y="300"/>
                </a:lnTo>
                <a:lnTo>
                  <a:pt x="659" y="270"/>
                </a:lnTo>
                <a:lnTo>
                  <a:pt x="719" y="315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620720" y="3478320"/>
            <a:ext cx="484200" cy="690480"/>
          </a:xfrm>
          <a:custGeom>
            <a:avLst/>
            <a:gdLst/>
            <a:ahLst/>
            <a:rect l="l" t="t" r="r" b="b"/>
            <a:pathLst>
              <a:path w="569" h="824">
                <a:moveTo>
                  <a:pt x="344" y="809"/>
                </a:moveTo>
                <a:lnTo>
                  <a:pt x="299" y="794"/>
                </a:lnTo>
                <a:lnTo>
                  <a:pt x="254" y="809"/>
                </a:lnTo>
                <a:lnTo>
                  <a:pt x="224" y="824"/>
                </a:lnTo>
                <a:lnTo>
                  <a:pt x="180" y="764"/>
                </a:lnTo>
                <a:lnTo>
                  <a:pt x="165" y="734"/>
                </a:lnTo>
                <a:lnTo>
                  <a:pt x="135" y="704"/>
                </a:lnTo>
                <a:lnTo>
                  <a:pt x="75" y="734"/>
                </a:lnTo>
                <a:lnTo>
                  <a:pt x="60" y="734"/>
                </a:lnTo>
                <a:lnTo>
                  <a:pt x="30" y="704"/>
                </a:lnTo>
                <a:lnTo>
                  <a:pt x="30" y="659"/>
                </a:lnTo>
                <a:lnTo>
                  <a:pt x="30" y="629"/>
                </a:lnTo>
                <a:lnTo>
                  <a:pt x="15" y="629"/>
                </a:lnTo>
                <a:lnTo>
                  <a:pt x="15" y="584"/>
                </a:lnTo>
                <a:lnTo>
                  <a:pt x="0" y="554"/>
                </a:lnTo>
                <a:lnTo>
                  <a:pt x="0" y="524"/>
                </a:lnTo>
                <a:lnTo>
                  <a:pt x="15" y="494"/>
                </a:lnTo>
                <a:lnTo>
                  <a:pt x="15" y="449"/>
                </a:lnTo>
                <a:lnTo>
                  <a:pt x="0" y="419"/>
                </a:lnTo>
                <a:lnTo>
                  <a:pt x="15" y="404"/>
                </a:lnTo>
                <a:lnTo>
                  <a:pt x="15" y="359"/>
                </a:lnTo>
                <a:lnTo>
                  <a:pt x="15" y="300"/>
                </a:lnTo>
                <a:lnTo>
                  <a:pt x="45" y="240"/>
                </a:lnTo>
                <a:lnTo>
                  <a:pt x="105" y="225"/>
                </a:lnTo>
                <a:lnTo>
                  <a:pt x="120" y="210"/>
                </a:lnTo>
                <a:lnTo>
                  <a:pt x="120" y="165"/>
                </a:lnTo>
                <a:lnTo>
                  <a:pt x="150" y="120"/>
                </a:lnTo>
                <a:lnTo>
                  <a:pt x="150" y="90"/>
                </a:lnTo>
                <a:lnTo>
                  <a:pt x="180" y="60"/>
                </a:lnTo>
                <a:lnTo>
                  <a:pt x="224" y="60"/>
                </a:lnTo>
                <a:lnTo>
                  <a:pt x="224" y="30"/>
                </a:lnTo>
                <a:lnTo>
                  <a:pt x="210" y="15"/>
                </a:lnTo>
                <a:lnTo>
                  <a:pt x="239" y="0"/>
                </a:lnTo>
                <a:lnTo>
                  <a:pt x="269" y="30"/>
                </a:lnTo>
                <a:lnTo>
                  <a:pt x="314" y="45"/>
                </a:lnTo>
                <a:lnTo>
                  <a:pt x="344" y="90"/>
                </a:lnTo>
                <a:lnTo>
                  <a:pt x="374" y="105"/>
                </a:lnTo>
                <a:lnTo>
                  <a:pt x="389" y="135"/>
                </a:lnTo>
                <a:lnTo>
                  <a:pt x="509" y="270"/>
                </a:lnTo>
                <a:lnTo>
                  <a:pt x="494" y="330"/>
                </a:lnTo>
                <a:lnTo>
                  <a:pt x="494" y="359"/>
                </a:lnTo>
                <a:lnTo>
                  <a:pt x="494" y="479"/>
                </a:lnTo>
                <a:lnTo>
                  <a:pt x="479" y="509"/>
                </a:lnTo>
                <a:lnTo>
                  <a:pt x="494" y="539"/>
                </a:lnTo>
                <a:lnTo>
                  <a:pt x="494" y="584"/>
                </a:lnTo>
                <a:lnTo>
                  <a:pt x="494" y="629"/>
                </a:lnTo>
                <a:lnTo>
                  <a:pt x="479" y="689"/>
                </a:lnTo>
                <a:lnTo>
                  <a:pt x="524" y="689"/>
                </a:lnTo>
                <a:lnTo>
                  <a:pt x="569" y="734"/>
                </a:lnTo>
                <a:lnTo>
                  <a:pt x="539" y="779"/>
                </a:lnTo>
                <a:lnTo>
                  <a:pt x="464" y="809"/>
                </a:lnTo>
                <a:lnTo>
                  <a:pt x="434" y="779"/>
                </a:lnTo>
                <a:lnTo>
                  <a:pt x="419" y="794"/>
                </a:lnTo>
                <a:lnTo>
                  <a:pt x="389" y="779"/>
                </a:lnTo>
                <a:lnTo>
                  <a:pt x="359" y="794"/>
                </a:lnTo>
                <a:lnTo>
                  <a:pt x="344" y="80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55600" y="3693960"/>
            <a:ext cx="758880" cy="781200"/>
          </a:xfrm>
          <a:custGeom>
            <a:avLst/>
            <a:gdLst/>
            <a:ahLst/>
            <a:rect l="l" t="t" r="r" b="b"/>
            <a:pathLst>
              <a:path w="883" h="929">
                <a:moveTo>
                  <a:pt x="135" y="179"/>
                </a:moveTo>
                <a:lnTo>
                  <a:pt x="180" y="134"/>
                </a:lnTo>
                <a:lnTo>
                  <a:pt x="210" y="104"/>
                </a:lnTo>
                <a:lnTo>
                  <a:pt x="240" y="89"/>
                </a:lnTo>
                <a:lnTo>
                  <a:pt x="285" y="45"/>
                </a:lnTo>
                <a:lnTo>
                  <a:pt x="285" y="89"/>
                </a:lnTo>
                <a:lnTo>
                  <a:pt x="315" y="89"/>
                </a:lnTo>
                <a:lnTo>
                  <a:pt x="344" y="119"/>
                </a:lnTo>
                <a:lnTo>
                  <a:pt x="359" y="104"/>
                </a:lnTo>
                <a:lnTo>
                  <a:pt x="359" y="60"/>
                </a:lnTo>
                <a:lnTo>
                  <a:pt x="389" y="30"/>
                </a:lnTo>
                <a:lnTo>
                  <a:pt x="404" y="0"/>
                </a:lnTo>
                <a:lnTo>
                  <a:pt x="449" y="0"/>
                </a:lnTo>
                <a:lnTo>
                  <a:pt x="494" y="45"/>
                </a:lnTo>
                <a:lnTo>
                  <a:pt x="524" y="75"/>
                </a:lnTo>
                <a:lnTo>
                  <a:pt x="509" y="104"/>
                </a:lnTo>
                <a:lnTo>
                  <a:pt x="554" y="104"/>
                </a:lnTo>
                <a:lnTo>
                  <a:pt x="554" y="149"/>
                </a:lnTo>
                <a:lnTo>
                  <a:pt x="539" y="164"/>
                </a:lnTo>
                <a:lnTo>
                  <a:pt x="554" y="194"/>
                </a:lnTo>
                <a:lnTo>
                  <a:pt x="554" y="239"/>
                </a:lnTo>
                <a:lnTo>
                  <a:pt x="539" y="269"/>
                </a:lnTo>
                <a:lnTo>
                  <a:pt x="539" y="284"/>
                </a:lnTo>
                <a:lnTo>
                  <a:pt x="554" y="329"/>
                </a:lnTo>
                <a:lnTo>
                  <a:pt x="554" y="374"/>
                </a:lnTo>
                <a:lnTo>
                  <a:pt x="569" y="374"/>
                </a:lnTo>
                <a:lnTo>
                  <a:pt x="569" y="404"/>
                </a:lnTo>
                <a:lnTo>
                  <a:pt x="569" y="449"/>
                </a:lnTo>
                <a:lnTo>
                  <a:pt x="599" y="479"/>
                </a:lnTo>
                <a:lnTo>
                  <a:pt x="614" y="479"/>
                </a:lnTo>
                <a:lnTo>
                  <a:pt x="674" y="449"/>
                </a:lnTo>
                <a:lnTo>
                  <a:pt x="704" y="479"/>
                </a:lnTo>
                <a:lnTo>
                  <a:pt x="734" y="509"/>
                </a:lnTo>
                <a:lnTo>
                  <a:pt x="763" y="569"/>
                </a:lnTo>
                <a:lnTo>
                  <a:pt x="808" y="554"/>
                </a:lnTo>
                <a:lnTo>
                  <a:pt x="838" y="539"/>
                </a:lnTo>
                <a:lnTo>
                  <a:pt x="883" y="554"/>
                </a:lnTo>
                <a:lnTo>
                  <a:pt x="868" y="584"/>
                </a:lnTo>
                <a:lnTo>
                  <a:pt x="868" y="674"/>
                </a:lnTo>
                <a:lnTo>
                  <a:pt x="823" y="704"/>
                </a:lnTo>
                <a:lnTo>
                  <a:pt x="808" y="704"/>
                </a:lnTo>
                <a:lnTo>
                  <a:pt x="793" y="764"/>
                </a:lnTo>
                <a:lnTo>
                  <a:pt x="823" y="794"/>
                </a:lnTo>
                <a:lnTo>
                  <a:pt x="838" y="824"/>
                </a:lnTo>
                <a:lnTo>
                  <a:pt x="823" y="869"/>
                </a:lnTo>
                <a:lnTo>
                  <a:pt x="763" y="929"/>
                </a:lnTo>
                <a:lnTo>
                  <a:pt x="734" y="854"/>
                </a:lnTo>
                <a:lnTo>
                  <a:pt x="644" y="869"/>
                </a:lnTo>
                <a:lnTo>
                  <a:pt x="644" y="809"/>
                </a:lnTo>
                <a:lnTo>
                  <a:pt x="614" y="779"/>
                </a:lnTo>
                <a:lnTo>
                  <a:pt x="539" y="764"/>
                </a:lnTo>
                <a:lnTo>
                  <a:pt x="464" y="734"/>
                </a:lnTo>
                <a:lnTo>
                  <a:pt x="404" y="719"/>
                </a:lnTo>
                <a:lnTo>
                  <a:pt x="359" y="749"/>
                </a:lnTo>
                <a:lnTo>
                  <a:pt x="359" y="689"/>
                </a:lnTo>
                <a:lnTo>
                  <a:pt x="315" y="659"/>
                </a:lnTo>
                <a:lnTo>
                  <a:pt x="300" y="614"/>
                </a:lnTo>
                <a:lnTo>
                  <a:pt x="285" y="569"/>
                </a:lnTo>
                <a:lnTo>
                  <a:pt x="255" y="524"/>
                </a:lnTo>
                <a:lnTo>
                  <a:pt x="180" y="524"/>
                </a:lnTo>
                <a:lnTo>
                  <a:pt x="150" y="539"/>
                </a:lnTo>
                <a:lnTo>
                  <a:pt x="120" y="599"/>
                </a:lnTo>
                <a:lnTo>
                  <a:pt x="90" y="644"/>
                </a:lnTo>
                <a:lnTo>
                  <a:pt x="30" y="659"/>
                </a:lnTo>
                <a:lnTo>
                  <a:pt x="0" y="629"/>
                </a:lnTo>
                <a:lnTo>
                  <a:pt x="30" y="554"/>
                </a:lnTo>
                <a:lnTo>
                  <a:pt x="75" y="494"/>
                </a:lnTo>
                <a:lnTo>
                  <a:pt x="105" y="464"/>
                </a:lnTo>
                <a:lnTo>
                  <a:pt x="135" y="359"/>
                </a:lnTo>
                <a:lnTo>
                  <a:pt x="180" y="299"/>
                </a:lnTo>
                <a:lnTo>
                  <a:pt x="165" y="239"/>
                </a:lnTo>
                <a:lnTo>
                  <a:pt x="135" y="179"/>
                </a:lnTo>
                <a:close/>
              </a:path>
            </a:pathLst>
          </a:custGeom>
          <a:solidFill>
            <a:srgbClr val="ff66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302000" y="3024360"/>
            <a:ext cx="192240" cy="222120"/>
          </a:xfrm>
          <a:custGeom>
            <a:avLst/>
            <a:gdLst/>
            <a:ahLst/>
            <a:rect l="l" t="t" r="r" b="b"/>
            <a:pathLst>
              <a:path w="224" h="269">
                <a:moveTo>
                  <a:pt x="134" y="14"/>
                </a:moveTo>
                <a:lnTo>
                  <a:pt x="134" y="59"/>
                </a:lnTo>
                <a:lnTo>
                  <a:pt x="149" y="74"/>
                </a:lnTo>
                <a:lnTo>
                  <a:pt x="164" y="89"/>
                </a:lnTo>
                <a:lnTo>
                  <a:pt x="179" y="89"/>
                </a:lnTo>
                <a:lnTo>
                  <a:pt x="194" y="134"/>
                </a:lnTo>
                <a:lnTo>
                  <a:pt x="224" y="164"/>
                </a:lnTo>
                <a:lnTo>
                  <a:pt x="224" y="209"/>
                </a:lnTo>
                <a:lnTo>
                  <a:pt x="224" y="224"/>
                </a:lnTo>
                <a:lnTo>
                  <a:pt x="179" y="224"/>
                </a:lnTo>
                <a:lnTo>
                  <a:pt x="149" y="239"/>
                </a:lnTo>
                <a:lnTo>
                  <a:pt x="134" y="269"/>
                </a:lnTo>
                <a:lnTo>
                  <a:pt x="104" y="254"/>
                </a:lnTo>
                <a:lnTo>
                  <a:pt x="90" y="254"/>
                </a:lnTo>
                <a:lnTo>
                  <a:pt x="75" y="239"/>
                </a:lnTo>
                <a:lnTo>
                  <a:pt x="75" y="224"/>
                </a:lnTo>
                <a:lnTo>
                  <a:pt x="45" y="194"/>
                </a:lnTo>
                <a:lnTo>
                  <a:pt x="15" y="179"/>
                </a:lnTo>
                <a:lnTo>
                  <a:pt x="0" y="149"/>
                </a:lnTo>
                <a:lnTo>
                  <a:pt x="30" y="134"/>
                </a:lnTo>
                <a:lnTo>
                  <a:pt x="15" y="89"/>
                </a:lnTo>
                <a:lnTo>
                  <a:pt x="15" y="59"/>
                </a:lnTo>
                <a:lnTo>
                  <a:pt x="60" y="44"/>
                </a:lnTo>
                <a:lnTo>
                  <a:pt x="60" y="29"/>
                </a:lnTo>
                <a:lnTo>
                  <a:pt x="75" y="0"/>
                </a:lnTo>
                <a:lnTo>
                  <a:pt x="90" y="14"/>
                </a:lnTo>
                <a:lnTo>
                  <a:pt x="119" y="0"/>
                </a:lnTo>
                <a:lnTo>
                  <a:pt x="134" y="14"/>
                </a:lnTo>
                <a:close/>
              </a:path>
            </a:pathLst>
          </a:custGeom>
          <a:solidFill>
            <a:srgbClr val="cc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3467160" y="3316320"/>
            <a:ext cx="360360" cy="363600"/>
          </a:xfrm>
          <a:custGeom>
            <a:avLst/>
            <a:gdLst/>
            <a:ahLst/>
            <a:rect l="l" t="t" r="r" b="b"/>
            <a:pathLst>
              <a:path w="419" h="435">
                <a:moveTo>
                  <a:pt x="254" y="15"/>
                </a:moveTo>
                <a:lnTo>
                  <a:pt x="299" y="15"/>
                </a:lnTo>
                <a:lnTo>
                  <a:pt x="329" y="15"/>
                </a:lnTo>
                <a:lnTo>
                  <a:pt x="344" y="0"/>
                </a:lnTo>
                <a:lnTo>
                  <a:pt x="359" y="30"/>
                </a:lnTo>
                <a:lnTo>
                  <a:pt x="389" y="30"/>
                </a:lnTo>
                <a:lnTo>
                  <a:pt x="419" y="60"/>
                </a:lnTo>
                <a:lnTo>
                  <a:pt x="404" y="75"/>
                </a:lnTo>
                <a:lnTo>
                  <a:pt x="374" y="90"/>
                </a:lnTo>
                <a:lnTo>
                  <a:pt x="359" y="75"/>
                </a:lnTo>
                <a:lnTo>
                  <a:pt x="344" y="90"/>
                </a:lnTo>
                <a:lnTo>
                  <a:pt x="329" y="120"/>
                </a:lnTo>
                <a:lnTo>
                  <a:pt x="329" y="135"/>
                </a:lnTo>
                <a:lnTo>
                  <a:pt x="344" y="165"/>
                </a:lnTo>
                <a:lnTo>
                  <a:pt x="314" y="165"/>
                </a:lnTo>
                <a:lnTo>
                  <a:pt x="329" y="195"/>
                </a:lnTo>
                <a:lnTo>
                  <a:pt x="329" y="225"/>
                </a:lnTo>
                <a:lnTo>
                  <a:pt x="314" y="255"/>
                </a:lnTo>
                <a:lnTo>
                  <a:pt x="329" y="285"/>
                </a:lnTo>
                <a:lnTo>
                  <a:pt x="329" y="315"/>
                </a:lnTo>
                <a:lnTo>
                  <a:pt x="359" y="330"/>
                </a:lnTo>
                <a:lnTo>
                  <a:pt x="359" y="360"/>
                </a:lnTo>
                <a:lnTo>
                  <a:pt x="374" y="390"/>
                </a:lnTo>
                <a:lnTo>
                  <a:pt x="329" y="360"/>
                </a:lnTo>
                <a:lnTo>
                  <a:pt x="314" y="360"/>
                </a:lnTo>
                <a:lnTo>
                  <a:pt x="314" y="375"/>
                </a:lnTo>
                <a:lnTo>
                  <a:pt x="239" y="375"/>
                </a:lnTo>
                <a:lnTo>
                  <a:pt x="224" y="390"/>
                </a:lnTo>
                <a:lnTo>
                  <a:pt x="209" y="405"/>
                </a:lnTo>
                <a:lnTo>
                  <a:pt x="195" y="435"/>
                </a:lnTo>
                <a:lnTo>
                  <a:pt x="165" y="435"/>
                </a:lnTo>
                <a:lnTo>
                  <a:pt x="150" y="420"/>
                </a:lnTo>
                <a:lnTo>
                  <a:pt x="135" y="435"/>
                </a:lnTo>
                <a:lnTo>
                  <a:pt x="105" y="435"/>
                </a:lnTo>
                <a:lnTo>
                  <a:pt x="105" y="405"/>
                </a:lnTo>
                <a:lnTo>
                  <a:pt x="105" y="375"/>
                </a:lnTo>
                <a:lnTo>
                  <a:pt x="60" y="360"/>
                </a:lnTo>
                <a:lnTo>
                  <a:pt x="30" y="330"/>
                </a:lnTo>
                <a:lnTo>
                  <a:pt x="30" y="285"/>
                </a:lnTo>
                <a:lnTo>
                  <a:pt x="60" y="285"/>
                </a:lnTo>
                <a:lnTo>
                  <a:pt x="75" y="285"/>
                </a:lnTo>
                <a:lnTo>
                  <a:pt x="60" y="240"/>
                </a:lnTo>
                <a:lnTo>
                  <a:pt x="30" y="225"/>
                </a:lnTo>
                <a:lnTo>
                  <a:pt x="15" y="210"/>
                </a:lnTo>
                <a:lnTo>
                  <a:pt x="15" y="180"/>
                </a:lnTo>
                <a:lnTo>
                  <a:pt x="15" y="165"/>
                </a:lnTo>
                <a:lnTo>
                  <a:pt x="30" y="135"/>
                </a:lnTo>
                <a:lnTo>
                  <a:pt x="15" y="120"/>
                </a:lnTo>
                <a:lnTo>
                  <a:pt x="15" y="90"/>
                </a:lnTo>
                <a:lnTo>
                  <a:pt x="0" y="75"/>
                </a:lnTo>
                <a:lnTo>
                  <a:pt x="0" y="45"/>
                </a:lnTo>
                <a:lnTo>
                  <a:pt x="30" y="45"/>
                </a:lnTo>
                <a:lnTo>
                  <a:pt x="45" y="30"/>
                </a:lnTo>
                <a:lnTo>
                  <a:pt x="60" y="0"/>
                </a:lnTo>
                <a:lnTo>
                  <a:pt x="120" y="0"/>
                </a:lnTo>
                <a:lnTo>
                  <a:pt x="150" y="30"/>
                </a:lnTo>
                <a:lnTo>
                  <a:pt x="195" y="30"/>
                </a:lnTo>
                <a:lnTo>
                  <a:pt x="254" y="15"/>
                </a:lnTo>
                <a:close/>
              </a:path>
            </a:pathLst>
          </a:custGeom>
          <a:solidFill>
            <a:srgbClr val="cccc00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71560" y="952560"/>
            <a:ext cx="5307120" cy="4859280"/>
          </a:xfrm>
          <a:custGeom>
            <a:avLst/>
            <a:gdLst/>
            <a:ahLst/>
            <a:rect l="l" t="t" r="r" b="b"/>
            <a:pathLst>
              <a:path w="6181" h="5769">
                <a:moveTo>
                  <a:pt x="105" y="794"/>
                </a:moveTo>
                <a:lnTo>
                  <a:pt x="105" y="1079"/>
                </a:lnTo>
                <a:lnTo>
                  <a:pt x="165" y="1364"/>
                </a:lnTo>
                <a:lnTo>
                  <a:pt x="195" y="1469"/>
                </a:lnTo>
                <a:lnTo>
                  <a:pt x="135" y="1604"/>
                </a:lnTo>
                <a:lnTo>
                  <a:pt x="105" y="1708"/>
                </a:lnTo>
                <a:lnTo>
                  <a:pt x="15" y="1828"/>
                </a:lnTo>
                <a:lnTo>
                  <a:pt x="0" y="1948"/>
                </a:lnTo>
                <a:lnTo>
                  <a:pt x="90" y="2008"/>
                </a:lnTo>
                <a:lnTo>
                  <a:pt x="254" y="2218"/>
                </a:lnTo>
                <a:lnTo>
                  <a:pt x="195" y="2293"/>
                </a:lnTo>
                <a:lnTo>
                  <a:pt x="210" y="2398"/>
                </a:lnTo>
                <a:lnTo>
                  <a:pt x="224" y="2472"/>
                </a:lnTo>
                <a:lnTo>
                  <a:pt x="254" y="2517"/>
                </a:lnTo>
                <a:lnTo>
                  <a:pt x="284" y="2607"/>
                </a:lnTo>
                <a:lnTo>
                  <a:pt x="314" y="2727"/>
                </a:lnTo>
                <a:lnTo>
                  <a:pt x="329" y="2817"/>
                </a:lnTo>
                <a:lnTo>
                  <a:pt x="284" y="2922"/>
                </a:lnTo>
                <a:lnTo>
                  <a:pt x="269" y="2982"/>
                </a:lnTo>
                <a:lnTo>
                  <a:pt x="299" y="3057"/>
                </a:lnTo>
                <a:lnTo>
                  <a:pt x="344" y="3147"/>
                </a:lnTo>
                <a:lnTo>
                  <a:pt x="299" y="3252"/>
                </a:lnTo>
                <a:lnTo>
                  <a:pt x="344" y="3297"/>
                </a:lnTo>
                <a:lnTo>
                  <a:pt x="389" y="3341"/>
                </a:lnTo>
                <a:lnTo>
                  <a:pt x="464" y="3446"/>
                </a:lnTo>
                <a:lnTo>
                  <a:pt x="479" y="3476"/>
                </a:lnTo>
                <a:lnTo>
                  <a:pt x="479" y="3536"/>
                </a:lnTo>
                <a:lnTo>
                  <a:pt x="434" y="3626"/>
                </a:lnTo>
                <a:lnTo>
                  <a:pt x="419" y="3701"/>
                </a:lnTo>
                <a:lnTo>
                  <a:pt x="359" y="3776"/>
                </a:lnTo>
                <a:lnTo>
                  <a:pt x="329" y="3836"/>
                </a:lnTo>
                <a:lnTo>
                  <a:pt x="314" y="3881"/>
                </a:lnTo>
                <a:lnTo>
                  <a:pt x="359" y="3926"/>
                </a:lnTo>
                <a:lnTo>
                  <a:pt x="434" y="3926"/>
                </a:lnTo>
                <a:lnTo>
                  <a:pt x="494" y="3791"/>
                </a:lnTo>
                <a:lnTo>
                  <a:pt x="569" y="3791"/>
                </a:lnTo>
                <a:lnTo>
                  <a:pt x="599" y="3851"/>
                </a:lnTo>
                <a:lnTo>
                  <a:pt x="614" y="3911"/>
                </a:lnTo>
                <a:lnTo>
                  <a:pt x="658" y="3956"/>
                </a:lnTo>
                <a:lnTo>
                  <a:pt x="658" y="4031"/>
                </a:lnTo>
                <a:lnTo>
                  <a:pt x="718" y="4001"/>
                </a:lnTo>
                <a:lnTo>
                  <a:pt x="763" y="4001"/>
                </a:lnTo>
                <a:lnTo>
                  <a:pt x="868" y="4046"/>
                </a:lnTo>
                <a:lnTo>
                  <a:pt x="958" y="4061"/>
                </a:lnTo>
                <a:lnTo>
                  <a:pt x="958" y="4121"/>
                </a:lnTo>
                <a:lnTo>
                  <a:pt x="958" y="4136"/>
                </a:lnTo>
                <a:lnTo>
                  <a:pt x="1048" y="4121"/>
                </a:lnTo>
                <a:lnTo>
                  <a:pt x="1063" y="4181"/>
                </a:lnTo>
                <a:lnTo>
                  <a:pt x="1078" y="4210"/>
                </a:lnTo>
                <a:lnTo>
                  <a:pt x="1152" y="4136"/>
                </a:lnTo>
                <a:lnTo>
                  <a:pt x="1227" y="4151"/>
                </a:lnTo>
                <a:lnTo>
                  <a:pt x="1272" y="4136"/>
                </a:lnTo>
                <a:lnTo>
                  <a:pt x="1287" y="4166"/>
                </a:lnTo>
                <a:lnTo>
                  <a:pt x="1287" y="4210"/>
                </a:lnTo>
                <a:lnTo>
                  <a:pt x="1287" y="4255"/>
                </a:lnTo>
                <a:lnTo>
                  <a:pt x="1227" y="4285"/>
                </a:lnTo>
                <a:lnTo>
                  <a:pt x="1197" y="4300"/>
                </a:lnTo>
                <a:lnTo>
                  <a:pt x="1167" y="4330"/>
                </a:lnTo>
                <a:lnTo>
                  <a:pt x="1197" y="4375"/>
                </a:lnTo>
                <a:lnTo>
                  <a:pt x="1257" y="4405"/>
                </a:lnTo>
                <a:lnTo>
                  <a:pt x="1317" y="4450"/>
                </a:lnTo>
                <a:lnTo>
                  <a:pt x="1302" y="4510"/>
                </a:lnTo>
                <a:lnTo>
                  <a:pt x="1317" y="4555"/>
                </a:lnTo>
                <a:lnTo>
                  <a:pt x="1362" y="4570"/>
                </a:lnTo>
                <a:lnTo>
                  <a:pt x="1407" y="4630"/>
                </a:lnTo>
                <a:lnTo>
                  <a:pt x="1482" y="4720"/>
                </a:lnTo>
                <a:lnTo>
                  <a:pt x="1526" y="4720"/>
                </a:lnTo>
                <a:lnTo>
                  <a:pt x="1556" y="4675"/>
                </a:lnTo>
                <a:lnTo>
                  <a:pt x="1556" y="4600"/>
                </a:lnTo>
                <a:lnTo>
                  <a:pt x="1616" y="4600"/>
                </a:lnTo>
                <a:lnTo>
                  <a:pt x="1661" y="4570"/>
                </a:lnTo>
                <a:lnTo>
                  <a:pt x="1706" y="4570"/>
                </a:lnTo>
                <a:lnTo>
                  <a:pt x="1691" y="4495"/>
                </a:lnTo>
                <a:lnTo>
                  <a:pt x="1631" y="4435"/>
                </a:lnTo>
                <a:lnTo>
                  <a:pt x="1616" y="4375"/>
                </a:lnTo>
                <a:lnTo>
                  <a:pt x="1661" y="4375"/>
                </a:lnTo>
                <a:lnTo>
                  <a:pt x="1736" y="4420"/>
                </a:lnTo>
                <a:lnTo>
                  <a:pt x="1811" y="4435"/>
                </a:lnTo>
                <a:lnTo>
                  <a:pt x="1871" y="4510"/>
                </a:lnTo>
                <a:lnTo>
                  <a:pt x="1960" y="4555"/>
                </a:lnTo>
                <a:lnTo>
                  <a:pt x="2050" y="4525"/>
                </a:lnTo>
                <a:lnTo>
                  <a:pt x="2125" y="4540"/>
                </a:lnTo>
                <a:lnTo>
                  <a:pt x="2140" y="4585"/>
                </a:lnTo>
                <a:lnTo>
                  <a:pt x="2080" y="4615"/>
                </a:lnTo>
                <a:lnTo>
                  <a:pt x="2005" y="4660"/>
                </a:lnTo>
                <a:lnTo>
                  <a:pt x="2080" y="4705"/>
                </a:lnTo>
                <a:lnTo>
                  <a:pt x="2140" y="4735"/>
                </a:lnTo>
                <a:lnTo>
                  <a:pt x="2215" y="4885"/>
                </a:lnTo>
                <a:lnTo>
                  <a:pt x="2350" y="4795"/>
                </a:lnTo>
                <a:lnTo>
                  <a:pt x="2409" y="4840"/>
                </a:lnTo>
                <a:lnTo>
                  <a:pt x="2499" y="4885"/>
                </a:lnTo>
                <a:lnTo>
                  <a:pt x="2574" y="4900"/>
                </a:lnTo>
                <a:lnTo>
                  <a:pt x="2619" y="4945"/>
                </a:lnTo>
                <a:lnTo>
                  <a:pt x="2634" y="5005"/>
                </a:lnTo>
                <a:lnTo>
                  <a:pt x="2679" y="5124"/>
                </a:lnTo>
                <a:lnTo>
                  <a:pt x="2754" y="5139"/>
                </a:lnTo>
                <a:lnTo>
                  <a:pt x="2798" y="5184"/>
                </a:lnTo>
                <a:lnTo>
                  <a:pt x="2828" y="5289"/>
                </a:lnTo>
                <a:lnTo>
                  <a:pt x="2903" y="5319"/>
                </a:lnTo>
                <a:lnTo>
                  <a:pt x="2903" y="5394"/>
                </a:lnTo>
                <a:lnTo>
                  <a:pt x="2948" y="5454"/>
                </a:lnTo>
                <a:lnTo>
                  <a:pt x="3008" y="5439"/>
                </a:lnTo>
                <a:lnTo>
                  <a:pt x="3068" y="5439"/>
                </a:lnTo>
                <a:lnTo>
                  <a:pt x="3113" y="5424"/>
                </a:lnTo>
                <a:lnTo>
                  <a:pt x="3113" y="5349"/>
                </a:lnTo>
                <a:lnTo>
                  <a:pt x="3158" y="5319"/>
                </a:lnTo>
                <a:lnTo>
                  <a:pt x="3232" y="5244"/>
                </a:lnTo>
                <a:lnTo>
                  <a:pt x="3262" y="5304"/>
                </a:lnTo>
                <a:lnTo>
                  <a:pt x="3292" y="5349"/>
                </a:lnTo>
                <a:lnTo>
                  <a:pt x="3322" y="5394"/>
                </a:lnTo>
                <a:lnTo>
                  <a:pt x="3367" y="5454"/>
                </a:lnTo>
                <a:lnTo>
                  <a:pt x="3442" y="5424"/>
                </a:lnTo>
                <a:lnTo>
                  <a:pt x="3442" y="5529"/>
                </a:lnTo>
                <a:lnTo>
                  <a:pt x="3382" y="5604"/>
                </a:lnTo>
                <a:lnTo>
                  <a:pt x="3427" y="5634"/>
                </a:lnTo>
                <a:lnTo>
                  <a:pt x="3502" y="5649"/>
                </a:lnTo>
                <a:lnTo>
                  <a:pt x="3562" y="5589"/>
                </a:lnTo>
                <a:lnTo>
                  <a:pt x="3637" y="5649"/>
                </a:lnTo>
                <a:lnTo>
                  <a:pt x="3666" y="5604"/>
                </a:lnTo>
                <a:lnTo>
                  <a:pt x="3696" y="5529"/>
                </a:lnTo>
                <a:lnTo>
                  <a:pt x="3786" y="5469"/>
                </a:lnTo>
                <a:lnTo>
                  <a:pt x="3831" y="5424"/>
                </a:lnTo>
                <a:lnTo>
                  <a:pt x="3921" y="5409"/>
                </a:lnTo>
                <a:lnTo>
                  <a:pt x="4041" y="5379"/>
                </a:lnTo>
                <a:lnTo>
                  <a:pt x="4086" y="5454"/>
                </a:lnTo>
                <a:lnTo>
                  <a:pt x="4160" y="5484"/>
                </a:lnTo>
                <a:lnTo>
                  <a:pt x="4235" y="5484"/>
                </a:lnTo>
                <a:lnTo>
                  <a:pt x="4265" y="5439"/>
                </a:lnTo>
                <a:lnTo>
                  <a:pt x="4310" y="5409"/>
                </a:lnTo>
                <a:lnTo>
                  <a:pt x="4265" y="5364"/>
                </a:lnTo>
                <a:lnTo>
                  <a:pt x="4280" y="5349"/>
                </a:lnTo>
                <a:lnTo>
                  <a:pt x="4355" y="5394"/>
                </a:lnTo>
                <a:lnTo>
                  <a:pt x="4400" y="5319"/>
                </a:lnTo>
                <a:lnTo>
                  <a:pt x="4475" y="5364"/>
                </a:lnTo>
                <a:lnTo>
                  <a:pt x="4534" y="5364"/>
                </a:lnTo>
                <a:lnTo>
                  <a:pt x="4624" y="5334"/>
                </a:lnTo>
                <a:lnTo>
                  <a:pt x="4699" y="5379"/>
                </a:lnTo>
                <a:lnTo>
                  <a:pt x="4759" y="5424"/>
                </a:lnTo>
                <a:lnTo>
                  <a:pt x="4819" y="5394"/>
                </a:lnTo>
                <a:lnTo>
                  <a:pt x="4879" y="5454"/>
                </a:lnTo>
                <a:lnTo>
                  <a:pt x="4909" y="5544"/>
                </a:lnTo>
                <a:lnTo>
                  <a:pt x="4968" y="5544"/>
                </a:lnTo>
                <a:lnTo>
                  <a:pt x="5043" y="5574"/>
                </a:lnTo>
                <a:lnTo>
                  <a:pt x="5103" y="5589"/>
                </a:lnTo>
                <a:lnTo>
                  <a:pt x="5163" y="5634"/>
                </a:lnTo>
                <a:lnTo>
                  <a:pt x="5223" y="5664"/>
                </a:lnTo>
                <a:lnTo>
                  <a:pt x="5268" y="5649"/>
                </a:lnTo>
                <a:lnTo>
                  <a:pt x="5402" y="5694"/>
                </a:lnTo>
                <a:lnTo>
                  <a:pt x="5507" y="5769"/>
                </a:lnTo>
                <a:lnTo>
                  <a:pt x="5477" y="5664"/>
                </a:lnTo>
                <a:lnTo>
                  <a:pt x="5462" y="5574"/>
                </a:lnTo>
                <a:lnTo>
                  <a:pt x="5373" y="5544"/>
                </a:lnTo>
                <a:lnTo>
                  <a:pt x="5373" y="5424"/>
                </a:lnTo>
                <a:lnTo>
                  <a:pt x="5373" y="5319"/>
                </a:lnTo>
                <a:lnTo>
                  <a:pt x="5328" y="5229"/>
                </a:lnTo>
                <a:lnTo>
                  <a:pt x="5313" y="5169"/>
                </a:lnTo>
                <a:lnTo>
                  <a:pt x="5402" y="5035"/>
                </a:lnTo>
                <a:lnTo>
                  <a:pt x="5477" y="4960"/>
                </a:lnTo>
                <a:lnTo>
                  <a:pt x="5537" y="4855"/>
                </a:lnTo>
                <a:lnTo>
                  <a:pt x="5657" y="4705"/>
                </a:lnTo>
                <a:lnTo>
                  <a:pt x="5806" y="4495"/>
                </a:lnTo>
                <a:lnTo>
                  <a:pt x="5911" y="4360"/>
                </a:lnTo>
                <a:lnTo>
                  <a:pt x="5926" y="4300"/>
                </a:lnTo>
                <a:lnTo>
                  <a:pt x="6061" y="4315"/>
                </a:lnTo>
                <a:lnTo>
                  <a:pt x="6151" y="4225"/>
                </a:lnTo>
                <a:lnTo>
                  <a:pt x="6166" y="4166"/>
                </a:lnTo>
                <a:lnTo>
                  <a:pt x="6181" y="4076"/>
                </a:lnTo>
                <a:lnTo>
                  <a:pt x="6151" y="4016"/>
                </a:lnTo>
                <a:lnTo>
                  <a:pt x="6121" y="3956"/>
                </a:lnTo>
                <a:lnTo>
                  <a:pt x="6046" y="3896"/>
                </a:lnTo>
                <a:lnTo>
                  <a:pt x="6136" y="3866"/>
                </a:lnTo>
                <a:lnTo>
                  <a:pt x="6151" y="3836"/>
                </a:lnTo>
                <a:lnTo>
                  <a:pt x="6121" y="3791"/>
                </a:lnTo>
                <a:lnTo>
                  <a:pt x="6046" y="3761"/>
                </a:lnTo>
                <a:lnTo>
                  <a:pt x="6001" y="3701"/>
                </a:lnTo>
                <a:lnTo>
                  <a:pt x="6001" y="3656"/>
                </a:lnTo>
                <a:lnTo>
                  <a:pt x="5956" y="3611"/>
                </a:lnTo>
                <a:lnTo>
                  <a:pt x="5971" y="3551"/>
                </a:lnTo>
                <a:lnTo>
                  <a:pt x="5911" y="3521"/>
                </a:lnTo>
                <a:lnTo>
                  <a:pt x="5866" y="3446"/>
                </a:lnTo>
                <a:lnTo>
                  <a:pt x="5821" y="3416"/>
                </a:lnTo>
                <a:lnTo>
                  <a:pt x="5866" y="3327"/>
                </a:lnTo>
                <a:lnTo>
                  <a:pt x="5836" y="3237"/>
                </a:lnTo>
                <a:lnTo>
                  <a:pt x="5762" y="3147"/>
                </a:lnTo>
                <a:lnTo>
                  <a:pt x="5747" y="3072"/>
                </a:lnTo>
                <a:lnTo>
                  <a:pt x="5747" y="2997"/>
                </a:lnTo>
                <a:lnTo>
                  <a:pt x="5777" y="2937"/>
                </a:lnTo>
                <a:lnTo>
                  <a:pt x="5762" y="2847"/>
                </a:lnTo>
                <a:lnTo>
                  <a:pt x="5777" y="2802"/>
                </a:lnTo>
                <a:lnTo>
                  <a:pt x="5777" y="2712"/>
                </a:lnTo>
                <a:lnTo>
                  <a:pt x="5806" y="2667"/>
                </a:lnTo>
                <a:lnTo>
                  <a:pt x="5732" y="2562"/>
                </a:lnTo>
                <a:lnTo>
                  <a:pt x="5642" y="2517"/>
                </a:lnTo>
                <a:lnTo>
                  <a:pt x="5582" y="2502"/>
                </a:lnTo>
                <a:lnTo>
                  <a:pt x="5522" y="2487"/>
                </a:lnTo>
                <a:lnTo>
                  <a:pt x="5522" y="2398"/>
                </a:lnTo>
                <a:lnTo>
                  <a:pt x="5582" y="2278"/>
                </a:lnTo>
                <a:lnTo>
                  <a:pt x="5657" y="2173"/>
                </a:lnTo>
                <a:lnTo>
                  <a:pt x="5747" y="2143"/>
                </a:lnTo>
                <a:lnTo>
                  <a:pt x="5866" y="2113"/>
                </a:lnTo>
                <a:lnTo>
                  <a:pt x="5911" y="2023"/>
                </a:lnTo>
                <a:lnTo>
                  <a:pt x="5911" y="1918"/>
                </a:lnTo>
                <a:lnTo>
                  <a:pt x="5881" y="1768"/>
                </a:lnTo>
                <a:lnTo>
                  <a:pt x="5866" y="1604"/>
                </a:lnTo>
                <a:lnTo>
                  <a:pt x="5821" y="1469"/>
                </a:lnTo>
                <a:lnTo>
                  <a:pt x="5717" y="1304"/>
                </a:lnTo>
                <a:lnTo>
                  <a:pt x="5657" y="1139"/>
                </a:lnTo>
                <a:lnTo>
                  <a:pt x="5597" y="989"/>
                </a:lnTo>
                <a:lnTo>
                  <a:pt x="5552" y="854"/>
                </a:lnTo>
                <a:lnTo>
                  <a:pt x="5507" y="749"/>
                </a:lnTo>
                <a:lnTo>
                  <a:pt x="5582" y="764"/>
                </a:lnTo>
                <a:lnTo>
                  <a:pt x="5582" y="720"/>
                </a:lnTo>
                <a:lnTo>
                  <a:pt x="5567" y="645"/>
                </a:lnTo>
                <a:lnTo>
                  <a:pt x="5537" y="600"/>
                </a:lnTo>
                <a:lnTo>
                  <a:pt x="5477" y="525"/>
                </a:lnTo>
                <a:lnTo>
                  <a:pt x="5387" y="510"/>
                </a:lnTo>
                <a:lnTo>
                  <a:pt x="5343" y="465"/>
                </a:lnTo>
                <a:lnTo>
                  <a:pt x="5298" y="480"/>
                </a:lnTo>
                <a:lnTo>
                  <a:pt x="5238" y="390"/>
                </a:lnTo>
                <a:lnTo>
                  <a:pt x="5193" y="375"/>
                </a:lnTo>
                <a:lnTo>
                  <a:pt x="5133" y="360"/>
                </a:lnTo>
                <a:lnTo>
                  <a:pt x="5058" y="405"/>
                </a:lnTo>
                <a:lnTo>
                  <a:pt x="4909" y="435"/>
                </a:lnTo>
                <a:lnTo>
                  <a:pt x="4744" y="420"/>
                </a:lnTo>
                <a:lnTo>
                  <a:pt x="4564" y="450"/>
                </a:lnTo>
                <a:lnTo>
                  <a:pt x="4385" y="495"/>
                </a:lnTo>
                <a:lnTo>
                  <a:pt x="4160" y="480"/>
                </a:lnTo>
                <a:lnTo>
                  <a:pt x="3921" y="450"/>
                </a:lnTo>
                <a:lnTo>
                  <a:pt x="3726" y="435"/>
                </a:lnTo>
                <a:lnTo>
                  <a:pt x="3562" y="420"/>
                </a:lnTo>
                <a:lnTo>
                  <a:pt x="3457" y="405"/>
                </a:lnTo>
                <a:lnTo>
                  <a:pt x="3352" y="390"/>
                </a:lnTo>
                <a:lnTo>
                  <a:pt x="3322" y="330"/>
                </a:lnTo>
                <a:lnTo>
                  <a:pt x="3262" y="390"/>
                </a:lnTo>
                <a:lnTo>
                  <a:pt x="3128" y="465"/>
                </a:lnTo>
                <a:lnTo>
                  <a:pt x="3038" y="495"/>
                </a:lnTo>
                <a:lnTo>
                  <a:pt x="2948" y="495"/>
                </a:lnTo>
                <a:lnTo>
                  <a:pt x="2933" y="510"/>
                </a:lnTo>
                <a:lnTo>
                  <a:pt x="2858" y="495"/>
                </a:lnTo>
                <a:lnTo>
                  <a:pt x="2784" y="480"/>
                </a:lnTo>
                <a:lnTo>
                  <a:pt x="2798" y="480"/>
                </a:lnTo>
                <a:lnTo>
                  <a:pt x="2709" y="435"/>
                </a:lnTo>
                <a:lnTo>
                  <a:pt x="2679" y="405"/>
                </a:lnTo>
                <a:lnTo>
                  <a:pt x="2679" y="330"/>
                </a:lnTo>
                <a:lnTo>
                  <a:pt x="2649" y="240"/>
                </a:lnTo>
                <a:lnTo>
                  <a:pt x="2604" y="180"/>
                </a:lnTo>
                <a:lnTo>
                  <a:pt x="2574" y="105"/>
                </a:lnTo>
                <a:lnTo>
                  <a:pt x="2649" y="105"/>
                </a:lnTo>
                <a:lnTo>
                  <a:pt x="2739" y="180"/>
                </a:lnTo>
                <a:lnTo>
                  <a:pt x="2798" y="225"/>
                </a:lnTo>
                <a:lnTo>
                  <a:pt x="2828" y="255"/>
                </a:lnTo>
                <a:lnTo>
                  <a:pt x="2828" y="195"/>
                </a:lnTo>
                <a:lnTo>
                  <a:pt x="2784" y="150"/>
                </a:lnTo>
                <a:lnTo>
                  <a:pt x="2724" y="105"/>
                </a:lnTo>
                <a:lnTo>
                  <a:pt x="2664" y="60"/>
                </a:lnTo>
                <a:lnTo>
                  <a:pt x="2604" y="30"/>
                </a:lnTo>
                <a:lnTo>
                  <a:pt x="2529" y="0"/>
                </a:lnTo>
                <a:lnTo>
                  <a:pt x="2409" y="15"/>
                </a:lnTo>
                <a:lnTo>
                  <a:pt x="2320" y="15"/>
                </a:lnTo>
                <a:lnTo>
                  <a:pt x="2260" y="15"/>
                </a:lnTo>
                <a:lnTo>
                  <a:pt x="2050" y="60"/>
                </a:lnTo>
                <a:lnTo>
                  <a:pt x="1901" y="105"/>
                </a:lnTo>
                <a:lnTo>
                  <a:pt x="1781" y="180"/>
                </a:lnTo>
                <a:lnTo>
                  <a:pt x="1721" y="240"/>
                </a:lnTo>
                <a:lnTo>
                  <a:pt x="1631" y="270"/>
                </a:lnTo>
                <a:lnTo>
                  <a:pt x="1526" y="285"/>
                </a:lnTo>
                <a:lnTo>
                  <a:pt x="1541" y="240"/>
                </a:lnTo>
                <a:lnTo>
                  <a:pt x="1452" y="330"/>
                </a:lnTo>
                <a:lnTo>
                  <a:pt x="1377" y="435"/>
                </a:lnTo>
                <a:lnTo>
                  <a:pt x="1287" y="525"/>
                </a:lnTo>
                <a:lnTo>
                  <a:pt x="1197" y="555"/>
                </a:lnTo>
                <a:lnTo>
                  <a:pt x="1003" y="615"/>
                </a:lnTo>
                <a:lnTo>
                  <a:pt x="823" y="660"/>
                </a:lnTo>
                <a:lnTo>
                  <a:pt x="658" y="720"/>
                </a:lnTo>
                <a:lnTo>
                  <a:pt x="509" y="749"/>
                </a:lnTo>
                <a:lnTo>
                  <a:pt x="314" y="839"/>
                </a:lnTo>
                <a:lnTo>
                  <a:pt x="224" y="869"/>
                </a:lnTo>
                <a:lnTo>
                  <a:pt x="165" y="839"/>
                </a:lnTo>
                <a:lnTo>
                  <a:pt x="105" y="794"/>
                </a:lnTo>
                <a:close/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12680" y="2216160"/>
            <a:ext cx="901800" cy="868320"/>
          </a:xfrm>
          <a:custGeom>
            <a:avLst/>
            <a:gdLst/>
            <a:ahLst/>
            <a:rect l="l" t="t" r="r" b="b"/>
            <a:pathLst>
              <a:path w="1047" h="1033">
                <a:moveTo>
                  <a:pt x="673" y="15"/>
                </a:moveTo>
                <a:lnTo>
                  <a:pt x="718" y="15"/>
                </a:lnTo>
                <a:lnTo>
                  <a:pt x="793" y="0"/>
                </a:lnTo>
                <a:lnTo>
                  <a:pt x="838" y="15"/>
                </a:lnTo>
                <a:lnTo>
                  <a:pt x="868" y="45"/>
                </a:lnTo>
                <a:lnTo>
                  <a:pt x="883" y="90"/>
                </a:lnTo>
                <a:lnTo>
                  <a:pt x="898" y="90"/>
                </a:lnTo>
                <a:lnTo>
                  <a:pt x="913" y="105"/>
                </a:lnTo>
                <a:lnTo>
                  <a:pt x="957" y="90"/>
                </a:lnTo>
                <a:lnTo>
                  <a:pt x="987" y="75"/>
                </a:lnTo>
                <a:lnTo>
                  <a:pt x="987" y="119"/>
                </a:lnTo>
                <a:lnTo>
                  <a:pt x="957" y="149"/>
                </a:lnTo>
                <a:lnTo>
                  <a:pt x="942" y="194"/>
                </a:lnTo>
                <a:lnTo>
                  <a:pt x="957" y="239"/>
                </a:lnTo>
                <a:lnTo>
                  <a:pt x="942" y="284"/>
                </a:lnTo>
                <a:lnTo>
                  <a:pt x="927" y="329"/>
                </a:lnTo>
                <a:lnTo>
                  <a:pt x="927" y="359"/>
                </a:lnTo>
                <a:lnTo>
                  <a:pt x="942" y="419"/>
                </a:lnTo>
                <a:lnTo>
                  <a:pt x="927" y="479"/>
                </a:lnTo>
                <a:lnTo>
                  <a:pt x="913" y="509"/>
                </a:lnTo>
                <a:lnTo>
                  <a:pt x="927" y="554"/>
                </a:lnTo>
                <a:lnTo>
                  <a:pt x="927" y="599"/>
                </a:lnTo>
                <a:lnTo>
                  <a:pt x="942" y="629"/>
                </a:lnTo>
                <a:lnTo>
                  <a:pt x="957" y="704"/>
                </a:lnTo>
                <a:lnTo>
                  <a:pt x="972" y="779"/>
                </a:lnTo>
                <a:lnTo>
                  <a:pt x="972" y="839"/>
                </a:lnTo>
                <a:lnTo>
                  <a:pt x="1047" y="899"/>
                </a:lnTo>
                <a:lnTo>
                  <a:pt x="1032" y="944"/>
                </a:lnTo>
                <a:lnTo>
                  <a:pt x="987" y="959"/>
                </a:lnTo>
                <a:lnTo>
                  <a:pt x="942" y="959"/>
                </a:lnTo>
                <a:lnTo>
                  <a:pt x="898" y="988"/>
                </a:lnTo>
                <a:lnTo>
                  <a:pt x="883" y="1003"/>
                </a:lnTo>
                <a:lnTo>
                  <a:pt x="868" y="988"/>
                </a:lnTo>
                <a:lnTo>
                  <a:pt x="823" y="1003"/>
                </a:lnTo>
                <a:lnTo>
                  <a:pt x="763" y="973"/>
                </a:lnTo>
                <a:lnTo>
                  <a:pt x="733" y="944"/>
                </a:lnTo>
                <a:lnTo>
                  <a:pt x="673" y="944"/>
                </a:lnTo>
                <a:lnTo>
                  <a:pt x="628" y="914"/>
                </a:lnTo>
                <a:lnTo>
                  <a:pt x="568" y="914"/>
                </a:lnTo>
                <a:lnTo>
                  <a:pt x="508" y="914"/>
                </a:lnTo>
                <a:lnTo>
                  <a:pt x="493" y="944"/>
                </a:lnTo>
                <a:lnTo>
                  <a:pt x="464" y="929"/>
                </a:lnTo>
                <a:lnTo>
                  <a:pt x="419" y="929"/>
                </a:lnTo>
                <a:lnTo>
                  <a:pt x="434" y="884"/>
                </a:lnTo>
                <a:lnTo>
                  <a:pt x="389" y="914"/>
                </a:lnTo>
                <a:lnTo>
                  <a:pt x="374" y="899"/>
                </a:lnTo>
                <a:lnTo>
                  <a:pt x="314" y="884"/>
                </a:lnTo>
                <a:lnTo>
                  <a:pt x="299" y="914"/>
                </a:lnTo>
                <a:lnTo>
                  <a:pt x="284" y="944"/>
                </a:lnTo>
                <a:lnTo>
                  <a:pt x="269" y="973"/>
                </a:lnTo>
                <a:lnTo>
                  <a:pt x="239" y="973"/>
                </a:lnTo>
                <a:lnTo>
                  <a:pt x="209" y="988"/>
                </a:lnTo>
                <a:lnTo>
                  <a:pt x="179" y="988"/>
                </a:lnTo>
                <a:lnTo>
                  <a:pt x="164" y="1003"/>
                </a:lnTo>
                <a:lnTo>
                  <a:pt x="119" y="1033"/>
                </a:lnTo>
                <a:lnTo>
                  <a:pt x="104" y="988"/>
                </a:lnTo>
                <a:lnTo>
                  <a:pt x="74" y="959"/>
                </a:lnTo>
                <a:lnTo>
                  <a:pt x="45" y="809"/>
                </a:lnTo>
                <a:lnTo>
                  <a:pt x="119" y="719"/>
                </a:lnTo>
                <a:lnTo>
                  <a:pt x="89" y="674"/>
                </a:lnTo>
                <a:lnTo>
                  <a:pt x="0" y="584"/>
                </a:lnTo>
                <a:lnTo>
                  <a:pt x="59" y="539"/>
                </a:lnTo>
                <a:lnTo>
                  <a:pt x="119" y="509"/>
                </a:lnTo>
                <a:lnTo>
                  <a:pt x="164" y="434"/>
                </a:lnTo>
                <a:lnTo>
                  <a:pt x="209" y="344"/>
                </a:lnTo>
                <a:lnTo>
                  <a:pt x="224" y="329"/>
                </a:lnTo>
                <a:lnTo>
                  <a:pt x="209" y="284"/>
                </a:lnTo>
                <a:lnTo>
                  <a:pt x="209" y="254"/>
                </a:lnTo>
                <a:lnTo>
                  <a:pt x="239" y="254"/>
                </a:lnTo>
                <a:lnTo>
                  <a:pt x="284" y="269"/>
                </a:lnTo>
                <a:lnTo>
                  <a:pt x="299" y="239"/>
                </a:lnTo>
                <a:lnTo>
                  <a:pt x="329" y="224"/>
                </a:lnTo>
                <a:lnTo>
                  <a:pt x="344" y="254"/>
                </a:lnTo>
                <a:lnTo>
                  <a:pt x="329" y="269"/>
                </a:lnTo>
                <a:lnTo>
                  <a:pt x="374" y="284"/>
                </a:lnTo>
                <a:lnTo>
                  <a:pt x="404" y="284"/>
                </a:lnTo>
                <a:lnTo>
                  <a:pt x="404" y="254"/>
                </a:lnTo>
                <a:lnTo>
                  <a:pt x="419" y="224"/>
                </a:lnTo>
                <a:lnTo>
                  <a:pt x="464" y="239"/>
                </a:lnTo>
                <a:lnTo>
                  <a:pt x="493" y="194"/>
                </a:lnTo>
                <a:lnTo>
                  <a:pt x="523" y="194"/>
                </a:lnTo>
                <a:lnTo>
                  <a:pt x="553" y="164"/>
                </a:lnTo>
                <a:lnTo>
                  <a:pt x="598" y="149"/>
                </a:lnTo>
                <a:lnTo>
                  <a:pt x="583" y="105"/>
                </a:lnTo>
                <a:lnTo>
                  <a:pt x="553" y="75"/>
                </a:lnTo>
                <a:lnTo>
                  <a:pt x="553" y="45"/>
                </a:lnTo>
                <a:lnTo>
                  <a:pt x="628" y="60"/>
                </a:lnTo>
                <a:lnTo>
                  <a:pt x="658" y="75"/>
                </a:lnTo>
                <a:lnTo>
                  <a:pt x="673" y="60"/>
                </a:lnTo>
                <a:lnTo>
                  <a:pt x="673" y="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6680" y="1647720"/>
            <a:ext cx="752400" cy="1274760"/>
          </a:xfrm>
          <a:custGeom>
            <a:avLst/>
            <a:gdLst/>
            <a:ahLst/>
            <a:rect l="l" t="t" r="r" b="b"/>
            <a:pathLst>
              <a:path w="883" h="1514">
                <a:moveTo>
                  <a:pt x="868" y="315"/>
                </a:moveTo>
                <a:lnTo>
                  <a:pt x="868" y="360"/>
                </a:lnTo>
                <a:lnTo>
                  <a:pt x="868" y="435"/>
                </a:lnTo>
                <a:lnTo>
                  <a:pt x="883" y="480"/>
                </a:lnTo>
                <a:lnTo>
                  <a:pt x="868" y="540"/>
                </a:lnTo>
                <a:lnTo>
                  <a:pt x="838" y="585"/>
                </a:lnTo>
                <a:lnTo>
                  <a:pt x="808" y="600"/>
                </a:lnTo>
                <a:lnTo>
                  <a:pt x="718" y="600"/>
                </a:lnTo>
                <a:lnTo>
                  <a:pt x="673" y="630"/>
                </a:lnTo>
                <a:lnTo>
                  <a:pt x="643" y="675"/>
                </a:lnTo>
                <a:lnTo>
                  <a:pt x="613" y="675"/>
                </a:lnTo>
                <a:lnTo>
                  <a:pt x="628" y="735"/>
                </a:lnTo>
                <a:lnTo>
                  <a:pt x="583" y="750"/>
                </a:lnTo>
                <a:lnTo>
                  <a:pt x="613" y="794"/>
                </a:lnTo>
                <a:lnTo>
                  <a:pt x="628" y="809"/>
                </a:lnTo>
                <a:lnTo>
                  <a:pt x="628" y="854"/>
                </a:lnTo>
                <a:lnTo>
                  <a:pt x="613" y="884"/>
                </a:lnTo>
                <a:lnTo>
                  <a:pt x="583" y="884"/>
                </a:lnTo>
                <a:lnTo>
                  <a:pt x="553" y="884"/>
                </a:lnTo>
                <a:lnTo>
                  <a:pt x="523" y="914"/>
                </a:lnTo>
                <a:lnTo>
                  <a:pt x="583" y="944"/>
                </a:lnTo>
                <a:lnTo>
                  <a:pt x="643" y="974"/>
                </a:lnTo>
                <a:lnTo>
                  <a:pt x="673" y="989"/>
                </a:lnTo>
                <a:lnTo>
                  <a:pt x="673" y="1034"/>
                </a:lnTo>
                <a:lnTo>
                  <a:pt x="658" y="1049"/>
                </a:lnTo>
                <a:lnTo>
                  <a:pt x="688" y="1064"/>
                </a:lnTo>
                <a:lnTo>
                  <a:pt x="733" y="1064"/>
                </a:lnTo>
                <a:lnTo>
                  <a:pt x="733" y="1109"/>
                </a:lnTo>
                <a:lnTo>
                  <a:pt x="763" y="1124"/>
                </a:lnTo>
                <a:lnTo>
                  <a:pt x="778" y="1139"/>
                </a:lnTo>
                <a:lnTo>
                  <a:pt x="778" y="1169"/>
                </a:lnTo>
                <a:lnTo>
                  <a:pt x="763" y="1184"/>
                </a:lnTo>
                <a:lnTo>
                  <a:pt x="793" y="1214"/>
                </a:lnTo>
                <a:lnTo>
                  <a:pt x="778" y="1274"/>
                </a:lnTo>
                <a:lnTo>
                  <a:pt x="733" y="1289"/>
                </a:lnTo>
                <a:lnTo>
                  <a:pt x="718" y="1319"/>
                </a:lnTo>
                <a:lnTo>
                  <a:pt x="703" y="1364"/>
                </a:lnTo>
                <a:lnTo>
                  <a:pt x="718" y="1409"/>
                </a:lnTo>
                <a:lnTo>
                  <a:pt x="703" y="1439"/>
                </a:lnTo>
                <a:lnTo>
                  <a:pt x="673" y="1469"/>
                </a:lnTo>
                <a:lnTo>
                  <a:pt x="643" y="1469"/>
                </a:lnTo>
                <a:lnTo>
                  <a:pt x="628" y="1499"/>
                </a:lnTo>
                <a:lnTo>
                  <a:pt x="583" y="1514"/>
                </a:lnTo>
                <a:lnTo>
                  <a:pt x="538" y="1499"/>
                </a:lnTo>
                <a:lnTo>
                  <a:pt x="493" y="1499"/>
                </a:lnTo>
                <a:lnTo>
                  <a:pt x="478" y="1454"/>
                </a:lnTo>
                <a:lnTo>
                  <a:pt x="449" y="1439"/>
                </a:lnTo>
                <a:lnTo>
                  <a:pt x="419" y="1469"/>
                </a:lnTo>
                <a:lnTo>
                  <a:pt x="389" y="1484"/>
                </a:lnTo>
                <a:lnTo>
                  <a:pt x="344" y="1469"/>
                </a:lnTo>
                <a:lnTo>
                  <a:pt x="329" y="1469"/>
                </a:lnTo>
                <a:lnTo>
                  <a:pt x="284" y="1484"/>
                </a:lnTo>
                <a:lnTo>
                  <a:pt x="269" y="1439"/>
                </a:lnTo>
                <a:lnTo>
                  <a:pt x="269" y="1394"/>
                </a:lnTo>
                <a:lnTo>
                  <a:pt x="239" y="1394"/>
                </a:lnTo>
                <a:lnTo>
                  <a:pt x="239" y="1364"/>
                </a:lnTo>
                <a:lnTo>
                  <a:pt x="224" y="1349"/>
                </a:lnTo>
                <a:lnTo>
                  <a:pt x="224" y="1304"/>
                </a:lnTo>
                <a:lnTo>
                  <a:pt x="164" y="1319"/>
                </a:lnTo>
                <a:lnTo>
                  <a:pt x="119" y="1334"/>
                </a:lnTo>
                <a:lnTo>
                  <a:pt x="134" y="1289"/>
                </a:lnTo>
                <a:lnTo>
                  <a:pt x="104" y="1259"/>
                </a:lnTo>
                <a:lnTo>
                  <a:pt x="89" y="1214"/>
                </a:lnTo>
                <a:lnTo>
                  <a:pt x="119" y="1214"/>
                </a:lnTo>
                <a:lnTo>
                  <a:pt x="149" y="1199"/>
                </a:lnTo>
                <a:lnTo>
                  <a:pt x="149" y="1139"/>
                </a:lnTo>
                <a:lnTo>
                  <a:pt x="149" y="1064"/>
                </a:lnTo>
                <a:lnTo>
                  <a:pt x="119" y="1034"/>
                </a:lnTo>
                <a:lnTo>
                  <a:pt x="59" y="1019"/>
                </a:lnTo>
                <a:lnTo>
                  <a:pt x="30" y="1004"/>
                </a:lnTo>
                <a:lnTo>
                  <a:pt x="44" y="944"/>
                </a:lnTo>
                <a:lnTo>
                  <a:pt x="74" y="884"/>
                </a:lnTo>
                <a:lnTo>
                  <a:pt x="30" y="854"/>
                </a:lnTo>
                <a:lnTo>
                  <a:pt x="30" y="765"/>
                </a:lnTo>
                <a:lnTo>
                  <a:pt x="89" y="765"/>
                </a:lnTo>
                <a:lnTo>
                  <a:pt x="104" y="735"/>
                </a:lnTo>
                <a:lnTo>
                  <a:pt x="74" y="690"/>
                </a:lnTo>
                <a:lnTo>
                  <a:pt x="44" y="645"/>
                </a:lnTo>
                <a:lnTo>
                  <a:pt x="0" y="600"/>
                </a:lnTo>
                <a:lnTo>
                  <a:pt x="30" y="570"/>
                </a:lnTo>
                <a:lnTo>
                  <a:pt x="89" y="510"/>
                </a:lnTo>
                <a:lnTo>
                  <a:pt x="119" y="450"/>
                </a:lnTo>
                <a:lnTo>
                  <a:pt x="134" y="375"/>
                </a:lnTo>
                <a:lnTo>
                  <a:pt x="164" y="330"/>
                </a:lnTo>
                <a:lnTo>
                  <a:pt x="134" y="300"/>
                </a:lnTo>
                <a:lnTo>
                  <a:pt x="119" y="240"/>
                </a:lnTo>
                <a:lnTo>
                  <a:pt x="119" y="180"/>
                </a:lnTo>
                <a:lnTo>
                  <a:pt x="134" y="120"/>
                </a:lnTo>
                <a:lnTo>
                  <a:pt x="164" y="60"/>
                </a:lnTo>
                <a:lnTo>
                  <a:pt x="194" y="30"/>
                </a:lnTo>
                <a:lnTo>
                  <a:pt x="224" y="0"/>
                </a:lnTo>
                <a:lnTo>
                  <a:pt x="269" y="15"/>
                </a:lnTo>
                <a:lnTo>
                  <a:pt x="299" y="45"/>
                </a:lnTo>
                <a:lnTo>
                  <a:pt x="329" y="60"/>
                </a:lnTo>
                <a:lnTo>
                  <a:pt x="329" y="105"/>
                </a:lnTo>
                <a:lnTo>
                  <a:pt x="359" y="150"/>
                </a:lnTo>
                <a:lnTo>
                  <a:pt x="359" y="180"/>
                </a:lnTo>
                <a:lnTo>
                  <a:pt x="389" y="180"/>
                </a:lnTo>
                <a:lnTo>
                  <a:pt x="404" y="150"/>
                </a:lnTo>
                <a:lnTo>
                  <a:pt x="419" y="120"/>
                </a:lnTo>
                <a:lnTo>
                  <a:pt x="464" y="105"/>
                </a:lnTo>
                <a:lnTo>
                  <a:pt x="493" y="105"/>
                </a:lnTo>
                <a:lnTo>
                  <a:pt x="493" y="150"/>
                </a:lnTo>
                <a:lnTo>
                  <a:pt x="493" y="195"/>
                </a:lnTo>
                <a:lnTo>
                  <a:pt x="493" y="240"/>
                </a:lnTo>
                <a:lnTo>
                  <a:pt x="508" y="240"/>
                </a:lnTo>
                <a:lnTo>
                  <a:pt x="538" y="270"/>
                </a:lnTo>
                <a:lnTo>
                  <a:pt x="568" y="270"/>
                </a:lnTo>
                <a:lnTo>
                  <a:pt x="598" y="300"/>
                </a:lnTo>
                <a:lnTo>
                  <a:pt x="643" y="315"/>
                </a:lnTo>
                <a:lnTo>
                  <a:pt x="688" y="330"/>
                </a:lnTo>
                <a:lnTo>
                  <a:pt x="733" y="300"/>
                </a:lnTo>
                <a:lnTo>
                  <a:pt x="763" y="330"/>
                </a:lnTo>
                <a:lnTo>
                  <a:pt x="778" y="345"/>
                </a:lnTo>
                <a:lnTo>
                  <a:pt x="823" y="315"/>
                </a:lnTo>
                <a:lnTo>
                  <a:pt x="868" y="315"/>
                </a:lnTo>
                <a:close/>
              </a:path>
            </a:pathLst>
          </a:custGeom>
          <a:solidFill>
            <a:srgbClr val="6699ff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660840" y="4662360"/>
            <a:ext cx="1052280" cy="1038240"/>
          </a:xfrm>
          <a:custGeom>
            <a:avLst/>
            <a:gdLst/>
            <a:ahLst/>
            <a:rect l="l" t="t" r="r" b="b"/>
            <a:pathLst>
              <a:path w="1228" h="1229">
                <a:moveTo>
                  <a:pt x="1213" y="929"/>
                </a:moveTo>
                <a:lnTo>
                  <a:pt x="1153" y="899"/>
                </a:lnTo>
                <a:lnTo>
                  <a:pt x="1093" y="959"/>
                </a:lnTo>
                <a:lnTo>
                  <a:pt x="1048" y="929"/>
                </a:lnTo>
                <a:lnTo>
                  <a:pt x="1018" y="929"/>
                </a:lnTo>
                <a:lnTo>
                  <a:pt x="1018" y="974"/>
                </a:lnTo>
                <a:lnTo>
                  <a:pt x="1048" y="989"/>
                </a:lnTo>
                <a:lnTo>
                  <a:pt x="988" y="1049"/>
                </a:lnTo>
                <a:lnTo>
                  <a:pt x="928" y="1064"/>
                </a:lnTo>
                <a:lnTo>
                  <a:pt x="868" y="1034"/>
                </a:lnTo>
                <a:lnTo>
                  <a:pt x="824" y="1004"/>
                </a:lnTo>
                <a:lnTo>
                  <a:pt x="794" y="959"/>
                </a:lnTo>
                <a:lnTo>
                  <a:pt x="704" y="989"/>
                </a:lnTo>
                <a:lnTo>
                  <a:pt x="614" y="989"/>
                </a:lnTo>
                <a:lnTo>
                  <a:pt x="569" y="1019"/>
                </a:lnTo>
                <a:lnTo>
                  <a:pt x="434" y="1109"/>
                </a:lnTo>
                <a:lnTo>
                  <a:pt x="390" y="1229"/>
                </a:lnTo>
                <a:lnTo>
                  <a:pt x="315" y="1169"/>
                </a:lnTo>
                <a:lnTo>
                  <a:pt x="255" y="1214"/>
                </a:lnTo>
                <a:lnTo>
                  <a:pt x="240" y="1229"/>
                </a:lnTo>
                <a:lnTo>
                  <a:pt x="195" y="1214"/>
                </a:lnTo>
                <a:lnTo>
                  <a:pt x="165" y="1199"/>
                </a:lnTo>
                <a:lnTo>
                  <a:pt x="225" y="1124"/>
                </a:lnTo>
                <a:lnTo>
                  <a:pt x="225" y="1034"/>
                </a:lnTo>
                <a:lnTo>
                  <a:pt x="195" y="1004"/>
                </a:lnTo>
                <a:lnTo>
                  <a:pt x="120" y="1034"/>
                </a:lnTo>
                <a:lnTo>
                  <a:pt x="75" y="944"/>
                </a:lnTo>
                <a:lnTo>
                  <a:pt x="15" y="854"/>
                </a:lnTo>
                <a:lnTo>
                  <a:pt x="75" y="824"/>
                </a:lnTo>
                <a:lnTo>
                  <a:pt x="120" y="764"/>
                </a:lnTo>
                <a:lnTo>
                  <a:pt x="150" y="764"/>
                </a:lnTo>
                <a:lnTo>
                  <a:pt x="180" y="734"/>
                </a:lnTo>
                <a:lnTo>
                  <a:pt x="180" y="704"/>
                </a:lnTo>
                <a:lnTo>
                  <a:pt x="225" y="674"/>
                </a:lnTo>
                <a:lnTo>
                  <a:pt x="195" y="645"/>
                </a:lnTo>
                <a:lnTo>
                  <a:pt x="225" y="615"/>
                </a:lnTo>
                <a:lnTo>
                  <a:pt x="180" y="600"/>
                </a:lnTo>
                <a:lnTo>
                  <a:pt x="195" y="555"/>
                </a:lnTo>
                <a:lnTo>
                  <a:pt x="195" y="495"/>
                </a:lnTo>
                <a:lnTo>
                  <a:pt x="195" y="465"/>
                </a:lnTo>
                <a:lnTo>
                  <a:pt x="165" y="420"/>
                </a:lnTo>
                <a:lnTo>
                  <a:pt x="90" y="420"/>
                </a:lnTo>
                <a:lnTo>
                  <a:pt x="45" y="390"/>
                </a:lnTo>
                <a:lnTo>
                  <a:pt x="15" y="360"/>
                </a:lnTo>
                <a:lnTo>
                  <a:pt x="30" y="330"/>
                </a:lnTo>
                <a:lnTo>
                  <a:pt x="0" y="285"/>
                </a:lnTo>
                <a:lnTo>
                  <a:pt x="45" y="240"/>
                </a:lnTo>
                <a:lnTo>
                  <a:pt x="90" y="195"/>
                </a:lnTo>
                <a:lnTo>
                  <a:pt x="120" y="150"/>
                </a:lnTo>
                <a:lnTo>
                  <a:pt x="135" y="120"/>
                </a:lnTo>
                <a:lnTo>
                  <a:pt x="135" y="60"/>
                </a:lnTo>
                <a:lnTo>
                  <a:pt x="195" y="45"/>
                </a:lnTo>
                <a:lnTo>
                  <a:pt x="225" y="0"/>
                </a:lnTo>
                <a:lnTo>
                  <a:pt x="285" y="45"/>
                </a:lnTo>
                <a:lnTo>
                  <a:pt x="315" y="90"/>
                </a:lnTo>
                <a:lnTo>
                  <a:pt x="360" y="120"/>
                </a:lnTo>
                <a:lnTo>
                  <a:pt x="405" y="90"/>
                </a:lnTo>
                <a:lnTo>
                  <a:pt x="449" y="105"/>
                </a:lnTo>
                <a:lnTo>
                  <a:pt x="494" y="90"/>
                </a:lnTo>
                <a:lnTo>
                  <a:pt x="509" y="150"/>
                </a:lnTo>
                <a:lnTo>
                  <a:pt x="599" y="150"/>
                </a:lnTo>
                <a:lnTo>
                  <a:pt x="584" y="180"/>
                </a:lnTo>
                <a:lnTo>
                  <a:pt x="629" y="210"/>
                </a:lnTo>
                <a:lnTo>
                  <a:pt x="644" y="240"/>
                </a:lnTo>
                <a:lnTo>
                  <a:pt x="614" y="315"/>
                </a:lnTo>
                <a:lnTo>
                  <a:pt x="599" y="330"/>
                </a:lnTo>
                <a:lnTo>
                  <a:pt x="614" y="375"/>
                </a:lnTo>
                <a:lnTo>
                  <a:pt x="599" y="420"/>
                </a:lnTo>
                <a:lnTo>
                  <a:pt x="554" y="420"/>
                </a:lnTo>
                <a:lnTo>
                  <a:pt x="554" y="435"/>
                </a:lnTo>
                <a:lnTo>
                  <a:pt x="509" y="495"/>
                </a:lnTo>
                <a:lnTo>
                  <a:pt x="509" y="600"/>
                </a:lnTo>
                <a:lnTo>
                  <a:pt x="539" y="585"/>
                </a:lnTo>
                <a:lnTo>
                  <a:pt x="569" y="600"/>
                </a:lnTo>
                <a:lnTo>
                  <a:pt x="614" y="630"/>
                </a:lnTo>
                <a:lnTo>
                  <a:pt x="644" y="585"/>
                </a:lnTo>
                <a:lnTo>
                  <a:pt x="689" y="600"/>
                </a:lnTo>
                <a:lnTo>
                  <a:pt x="734" y="615"/>
                </a:lnTo>
                <a:lnTo>
                  <a:pt x="764" y="600"/>
                </a:lnTo>
                <a:lnTo>
                  <a:pt x="824" y="585"/>
                </a:lnTo>
                <a:lnTo>
                  <a:pt x="883" y="645"/>
                </a:lnTo>
                <a:lnTo>
                  <a:pt x="913" y="645"/>
                </a:lnTo>
                <a:lnTo>
                  <a:pt x="943" y="615"/>
                </a:lnTo>
                <a:lnTo>
                  <a:pt x="1033" y="615"/>
                </a:lnTo>
                <a:lnTo>
                  <a:pt x="1063" y="674"/>
                </a:lnTo>
                <a:lnTo>
                  <a:pt x="1123" y="674"/>
                </a:lnTo>
                <a:lnTo>
                  <a:pt x="1153" y="764"/>
                </a:lnTo>
                <a:lnTo>
                  <a:pt x="1183" y="794"/>
                </a:lnTo>
                <a:lnTo>
                  <a:pt x="1213" y="824"/>
                </a:lnTo>
                <a:lnTo>
                  <a:pt x="1228" y="869"/>
                </a:lnTo>
                <a:lnTo>
                  <a:pt x="1213" y="929"/>
                </a:lnTo>
                <a:close/>
              </a:path>
            </a:pathLst>
          </a:custGeom>
          <a:solidFill>
            <a:srgbClr val="ff9933"/>
          </a:solidFill>
          <a:ln w="19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793960" y="3444840"/>
            <a:ext cx="1841400" cy="973080"/>
          </a:xfrm>
          <a:prstGeom prst="foldedCorner">
            <a:avLst>
              <a:gd name="adj" fmla="val 23254"/>
            </a:avLst>
          </a:prstGeom>
          <a:solidFill>
            <a:srgbClr val="ff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Umowa </a:t>
            </a:r>
            <a:br>
              <a:rPr sz="1300"/>
            </a:br>
            <a:r>
              <a:rPr b="1" i="1" lang="pl-PL" sz="1300" spc="-1" strike="noStrike">
                <a:solidFill>
                  <a:srgbClr val="5f5f5f"/>
                </a:solidFill>
                <a:latin typeface="Arial"/>
              </a:rPr>
              <a:t>sprzedaży energii</a:t>
            </a:r>
            <a:endParaRPr b="0" lang="en-US" sz="13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164120" y="3000240"/>
            <a:ext cx="287280" cy="28764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1" name=""/>
          <p:cNvCxnSpPr>
            <a:stCxn id="402" idx="6"/>
            <a:endCxn id="403" idx="2"/>
          </p:cNvCxnSpPr>
          <p:nvPr/>
        </p:nvCxnSpPr>
        <p:spPr>
          <a:xfrm flipV="1">
            <a:off x="3071880" y="4554000"/>
            <a:ext cx="1372320" cy="131040"/>
          </a:xfrm>
          <a:prstGeom prst="straightConnector1">
            <a:avLst/>
          </a:prstGeom>
          <a:ln w="44280">
            <a:solidFill>
              <a:srgbClr val="324496"/>
            </a:solidFill>
            <a:miter/>
            <a:headEnd len="lg" type="triangle" w="med"/>
            <a:tailEnd len="lg" type="triangle" w="med"/>
          </a:ln>
        </p:spPr>
      </p:cxnSp>
      <p:sp>
        <p:nvSpPr>
          <p:cNvPr id="404" name=""/>
          <p:cNvSpPr/>
          <p:nvPr/>
        </p:nvSpPr>
        <p:spPr>
          <a:xfrm>
            <a:off x="5638680" y="5110200"/>
            <a:ext cx="350532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Sprzedaw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B (Uczestnik Rynku Bilansując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72960" y="5554800"/>
            <a:ext cx="3098880" cy="54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URD, odbiorca energii</a:t>
            </a:r>
            <a:br>
              <a:rPr sz="1400"/>
            </a:br>
            <a:r>
              <a:rPr b="1" lang="pl-PL" sz="1400" spc="-1" strike="noStrike">
                <a:solidFill>
                  <a:srgbClr val="324496"/>
                </a:solidFill>
                <a:latin typeface="Arial"/>
              </a:rPr>
              <a:t>(Uczestnik Rynku Detalicznego)</a:t>
            </a:r>
            <a:endParaRPr b="0" lang="en-US" sz="1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6" name=""/>
          <p:cNvCxnSpPr>
            <a:stCxn id="402" idx="2"/>
            <a:endCxn id="405" idx="0"/>
          </p:cNvCxnSpPr>
          <p:nvPr/>
        </p:nvCxnSpPr>
        <p:spPr>
          <a:xfrm flipV="1" rot="10800000">
            <a:off x="1921680" y="4683600"/>
            <a:ext cx="862920" cy="87084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03" name=""/>
          <p:cNvSpPr/>
          <p:nvPr/>
        </p:nvSpPr>
        <p:spPr>
          <a:xfrm>
            <a:off x="4443480" y="441000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cxnSp>
        <p:nvCxnSpPr>
          <p:cNvPr id="407" name=""/>
          <p:cNvCxnSpPr>
            <a:stCxn id="403" idx="4"/>
            <a:endCxn id="404" idx="1"/>
          </p:cNvCxnSpPr>
          <p:nvPr/>
        </p:nvCxnSpPr>
        <p:spPr>
          <a:xfrm flipH="1" rot="16200000">
            <a:off x="4757400" y="4526640"/>
            <a:ext cx="710280" cy="1051560"/>
          </a:xfrm>
          <a:prstGeom prst="bentConnector2">
            <a:avLst/>
          </a:prstGeom>
          <a:ln w="19080">
            <a:solidFill>
              <a:srgbClr val="324496"/>
            </a:solidFill>
            <a:prstDash val="sysDot"/>
            <a:miter/>
          </a:ln>
        </p:spPr>
      </p:cxnSp>
      <p:sp>
        <p:nvSpPr>
          <p:cNvPr id="402" name=""/>
          <p:cNvSpPr/>
          <p:nvPr/>
        </p:nvSpPr>
        <p:spPr>
          <a:xfrm>
            <a:off x="2784600" y="454032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/>
              </a:gs>
              <a:gs pos="100000">
                <a:srgbClr val="004d6c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249640" y="3963960"/>
            <a:ext cx="287280" cy="287280"/>
          </a:xfrm>
          <a:prstGeom prst="ellipse">
            <a:avLst/>
          </a:prstGeom>
          <a:gradFill rotWithShape="0">
            <a:gsLst>
              <a:gs pos="0">
                <a:srgbClr val="00a8ec">
                  <a:alpha val="50196"/>
                </a:srgbClr>
              </a:gs>
              <a:gs pos="100000">
                <a:srgbClr val="004d6c">
                  <a:alpha val="50196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244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ożliwości współpracy z niezależnym sprzedawcą energii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982C-BDB2-470A-9598-F8B5D1AE5BF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>Gdańsk, 28 paź 2008</a:t>
            </a: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09:08:27Z</dcterms:created>
  <dc:creator>Jacek Weigel, Agata Matla</dc:creator>
  <dc:description/>
  <dc:language>en-US</dc:language>
  <cp:lastModifiedBy>JACEK WALSKI</cp:lastModifiedBy>
  <dcterms:modified xsi:type="dcterms:W3CDTF">2008-10-16T20:14:14Z</dcterms:modified>
  <cp:revision>9</cp:revision>
  <dc:subject>Seminarium Gdańsk 28.10.2008</dc:subject>
  <dc:title>Możliwości współpracy z niezależnym sprzedawcą energii.</dc:title>
</cp:coreProperties>
</file>