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A4EA-6747-41F8-8160-C3FD68660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474-A5E5-4E7A-9F11-20AC535F2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61EB-0A60-4183-8A71-529D7FF1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6025-D4FF-48F7-9AFE-9DC08711F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99AA-A60E-4E2D-B9E4-D94180524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41E8D-E556-489C-9CF8-4C5678CAF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0E67-849A-4821-9ED2-FAC51234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771B8-4BC2-490A-A0AD-33295F1B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450E1-3CE0-4B05-B317-351B039A0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6FDD6-28A5-43C8-999A-BA3260694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914E6-F400-4E45-ADA8-39ED16D3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4601-0E3A-4D83-848B-6B9D80A5A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3E099-C360-4E7A-A9AA-CD759E93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7AED-1F69-441E-BD05-7DE652870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4297-9809-4DF4-A66C-51314570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99E4-7B81-4B8D-807C-BBDEB11C0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DDAFA-B516-4AFB-B331-7B9DEAA15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C4ECA-57CB-4E1B-980C-4A3088032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6AE8-38CD-4C19-BB44-2560416FC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D5EE-C6D2-4BDE-9913-D23CAB43E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09CA-4026-4AD5-971D-C72ADCD2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33D7-55E1-4F43-8E95-5A602011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2BB9-CC38-48ED-A173-B5B0E370A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92FF2-9E59-4EF6-BF48-BE677B332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Click to edit the outline text format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econd Outline Level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Third Outline Level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Fourth Outline Level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8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Fifth Outline Level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ixth Outline Level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50021"/>
                </a:solidFill>
                <a:latin typeface="Times New Roman"/>
              </a:rPr>
              <a:t>Seventh Outline Level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C77B-DB0D-4A12-944B-BE09F1659B38}" type="datetime"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2BCD-6E31-4DFF-A4C7-EE69AFB877FF}" type="slidenum"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717480" cy="79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6920" y="843120"/>
            <a:ext cx="5793840" cy="12029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33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80720" y="426960"/>
            <a:ext cx="716148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9C84C-35DA-432A-96BA-A6790D3DC647}" type="datetime">
              <a:rPr b="0" lang="pl-PL" sz="1400" spc="-1" strike="noStrike">
                <a:solidFill>
                  <a:srgbClr val="ffffff"/>
                </a:solidFill>
                <a:latin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E6E3E-E60A-49C0-B299-99B660D719AA}" type="slidenum">
              <a:rPr b="0" lang="pl-P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1484280"/>
            <a:ext cx="91440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000" spc="-1" strike="noStrike">
                <a:solidFill>
                  <a:srgbClr val="800000"/>
                </a:solidFill>
                <a:latin typeface="Times New Roman"/>
              </a:rPr>
              <a:t>PLANOWANIE ENERGETYCZNE</a:t>
            </a:r>
            <a:br>
              <a:rPr sz="4000"/>
            </a:br>
            <a:r>
              <a:rPr b="1" lang="pl-PL" sz="1800" spc="-1" strike="noStrike">
                <a:solidFill>
                  <a:srgbClr val="800000"/>
                </a:solidFill>
                <a:latin typeface="Times New Roman"/>
              </a:rPr>
              <a:t> </a:t>
            </a:r>
            <a:br>
              <a:rPr sz="4000"/>
            </a:br>
            <a:r>
              <a:rPr b="1" lang="pl-PL" sz="4000" spc="-1" strike="noStrike">
                <a:solidFill>
                  <a:srgbClr val="800000"/>
                </a:solidFill>
                <a:latin typeface="Times New Roman"/>
              </a:rPr>
              <a:t>W GMINACH </a:t>
            </a:r>
            <a:br>
              <a:rPr sz="4000"/>
            </a:br>
            <a:br>
              <a:rPr sz="4000"/>
            </a:br>
            <a:r>
              <a:rPr b="1" lang="pl-PL" sz="4000" spc="-1" strike="noStrike">
                <a:solidFill>
                  <a:srgbClr val="800000"/>
                </a:solidFill>
                <a:latin typeface="Times New Roman"/>
              </a:rPr>
              <a:t>na przykładzie województwa pomorskiego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D12E-BCB8-486A-A2AE-D89999F35D9A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103604-94A4-477F-8F79-6E862F2D781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3640" y="9806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88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Strategiczne prognozowanie rozwoju gospodarki energetycznej na</a:t>
            </a:r>
            <a:r>
              <a:rPr b="1" lang="pl-PL" sz="2800" spc="-1" strike="noStrike">
                <a:solidFill>
                  <a:srgbClr val="a50021"/>
                </a:solidFill>
                <a:latin typeface="Times New Roman"/>
              </a:rPr>
              <a:t> szczeblu lokalnym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kreślają dokumenty: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889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a50021"/>
              </a:solidFill>
              <a:latin typeface="Times New Roman"/>
            </a:endParaRPr>
          </a:p>
          <a:p>
            <a:pPr lvl="1" marL="622440" indent="-35424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ojekt założeń do planu zaopatrzenia w ciepło, energię elektryczną i paliwa gazowe dla obszaru gminy”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622440" indent="-35424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egionalna Strategia Energetyki na lata 2007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÷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2025”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6224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a50021"/>
              </a:solidFill>
              <a:latin typeface="Times New Roman"/>
            </a:endParaRPr>
          </a:p>
          <a:p>
            <a:pPr marL="88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RSE określa podstawowe założenia polityki energetycznej województwa oraz stanowi podstawę do jej wdrażania w ramach realizacji „Strategii rozwoju województwa do roku 2025”.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3595-2A6D-4C51-A691-3DD0B5228A5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16323B-C41E-4F98-A3B3-2605B8DC5A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5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250560" y="764640"/>
            <a:ext cx="8713800" cy="518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a50021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Priorytety, cele strategiczne i kierunki działań gospodarki energetycznej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0000"/>
                </a:solidFill>
                <a:uFillTx/>
                <a:latin typeface="Times New Roman"/>
              </a:rPr>
              <a:t>Bezpieczeństwo energetyczne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- zapewnienie środków i możliwości efektywnego wytwarzania, przesyłania i dystrybucji energii odbiorcom, w sposób technicznie i ekonomicznie uzasadniony (niezawodność dostaw)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0000"/>
                </a:solidFill>
                <a:uFillTx/>
                <a:latin typeface="Times New Roman"/>
              </a:rPr>
              <a:t>Bezpieczeństwo ekologiczne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- ochrona środowiska przed negatywnymi skutkami działalności energetycznej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000000"/>
                </a:solidFill>
                <a:uFillTx/>
                <a:latin typeface="Times New Roman"/>
              </a:rPr>
              <a:t>Obniżenie zużycia nośników energii i paliw we wszystkich sektorach gospodarki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wzrost efektywności energetycznej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ykorzystania paliw i nośników energii pierwotnej, zwiększanie udziału produkcji energii w skojarzeniu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Zwiększenie udziału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energii pozyskiwanej z odnawialnych  źródeł energii (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OZE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) w ogólnym bilansie energetycznym województwa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34A7-8FFA-4DE1-8983-740818BA9EC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72B24D-CCCC-4202-B572-2F45B7CECA5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1483920"/>
            <a:ext cx="8458200" cy="40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onalna Strategia Energetyki do roku 2025 dla woj. pomorskiego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niżenie zapotrzebowania aktualnych i przyszłych odbiorców na: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23960" indent="-544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moc cieplną,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23960" indent="-544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ciepło,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723960" indent="-5446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1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paliwa pierwotne.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ok bazowy 2005)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9F0D-D570-4041-96CF-F7E488C999E1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045B90-8EDA-4A55-89D5-9FFF168AC820}" type="datetime1">
              <a:rPr lang="en-US"/>
              <a:t>07/28/26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333360"/>
            <a:ext cx="770436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Prognoza zużycia ciepła i paliw pierwotnych do roku 2025 wg RSE</a:t>
            </a:r>
            <a:r>
              <a:rPr b="0" lang="pl-PL" sz="2800" spc="-1" strike="noStrike">
                <a:solidFill>
                  <a:srgbClr val="a50021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1258920" y="1268280"/>
          <a:ext cx="7056360" cy="483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58920" y="1268280"/>
                    <a:ext cx="7056360" cy="48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D8A2-002D-4AF5-8190-37B6E185BF73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4E3A3B-91B1-45E7-9C97-76B65FA27A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5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971640" y="1197000"/>
          <a:ext cx="7488000" cy="50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97000"/>
                    <a:ext cx="748800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1187280" y="26028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Prognoza zapotrzebowania na energię łącznie dla woj. pomorskiego do roku 2025 (wg RS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58B1-5ED3-4600-B16A-A8ACECB121CE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1D9761-047E-4DED-8030-0F5A0E73512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806472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Prognoza zużycia ciepła i paliw pierwotnych wg dwóch różnych strategii energetycznych 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900000" y="1197000"/>
          <a:ext cx="7488360" cy="50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197000"/>
                    <a:ext cx="748836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4C2F-A15B-486E-8756-828C6A72BBEC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5D6FD3-E012-4F70-A430-26D31F9580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0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2000"/>
                            </p:stCondLst>
                            <p:childTnLst>
                              <p:par>
                                <p:cTn id="3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55640" y="1196640"/>
            <a:ext cx="7848720" cy="388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400" spc="-1" strike="noStrike">
                <a:solidFill>
                  <a:srgbClr val="800000"/>
                </a:solidFill>
                <a:latin typeface="Times New Roman"/>
              </a:rPr>
              <a:t>Planowanie energetyczne na poziomie gmin</a:t>
            </a:r>
            <a:r>
              <a:rPr b="1" lang="pl-PL" sz="4800" spc="-1" strike="noStrike">
                <a:solidFill>
                  <a:srgbClr val="800000"/>
                </a:solidFill>
                <a:latin typeface="Times New Roman"/>
              </a:rPr>
              <a:t> </a:t>
            </a:r>
            <a:br>
              <a:rPr sz="4800"/>
            </a:br>
            <a:r>
              <a:rPr b="1" lang="pl-P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pl-PL" sz="4000" spc="-1" strike="noStrike">
                <a:solidFill>
                  <a:srgbClr val="cc0000"/>
                </a:solidFill>
                <a:latin typeface="Times New Roman"/>
              </a:rPr>
              <a:t>„Projekt założeń </a:t>
            </a:r>
            <a:br>
              <a:rPr sz="4000"/>
            </a:br>
            <a:r>
              <a:rPr b="1" lang="pl-PL" sz="4000" spc="-1" strike="noStrike">
                <a:solidFill>
                  <a:srgbClr val="cc0000"/>
                </a:solidFill>
                <a:latin typeface="Times New Roman"/>
              </a:rPr>
              <a:t>do planu zaopatrzenia w ciepło, energię elektryczną i paliwa gazowe dla gmin”</a:t>
            </a:r>
            <a:br>
              <a:rPr sz="2400"/>
            </a:br>
            <a:endParaRPr b="1" lang="en-US" sz="40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348156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933720" y="2714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E10-1E51-478F-94F1-E1D44109EC4E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6EDC86-D50D-4F0D-97CD-8EF297F91E50}" type="datetime1">
              <a:rPr lang="en-US"/>
              <a:t>07/28/26</a:t>
            </a:fld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684000" y="1196640"/>
            <a:ext cx="7848360" cy="43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800000"/>
                </a:solidFill>
                <a:latin typeface="Times New Roman"/>
              </a:rPr>
              <a:t>Horyzont czasowy </a:t>
            </a:r>
            <a:endParaRPr b="1" lang="en-US" sz="36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000000"/>
                </a:solidFill>
                <a:latin typeface="Times New Roman"/>
              </a:rPr>
              <a:t>Plany energetyczne gmin opracowywane są zgodnie z harmonogramem: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lvl="1" marL="966960" indent="-5097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o 2010 r.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966960" indent="-5097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o 2015 r. 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966960" indent="-5097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o 2020 r.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966960" indent="-5097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105000"/>
              <a:buFont typeface="Wingding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do 2025 r.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20E0-3D84-4430-9133-6CBB2A4D6387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2140C-BBEB-44B6-AE3C-989A4AEDC086}" type="datetime1">
              <a:rPr lang="en-US"/>
              <a:t>07/28/26</a:t>
            </a:fld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500"/>
                            </p:stCondLst>
                            <p:childTnLst>
                              <p:par>
                                <p:cTn id="40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2500"/>
                            </p:stCondLst>
                            <p:childTnLst>
                              <p:par>
                                <p:cTn id="41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1000" fill="hold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3500"/>
                            </p:stCondLst>
                            <p:childTnLst>
                              <p:par>
                                <p:cTn id="419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10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539280" y="1125360"/>
            <a:ext cx="8458200" cy="501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Podstawowe części tematyczne „Projektu założeń …” 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zęść I  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ojekt założeń do planu zaopatrzenia w ciepło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zęść II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ojekt założeń do planu zaopatrzenia w energię elektryczną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zęść III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rojekt założeń do planu zaopatrzenia w paliwa gazow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zęść IV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żliwości współpracy gminy z sąsiednimi gminami w zakresie gospodarki energetycznej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zęść V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 zanieczyszczeń atmosfery spowodowany przez systemy energetyczn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zęść VI  „S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ariusze zaopatrzenia gminy w ciepło, energię elektryczną i paliwa gazow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” 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061E-9D46-4B78-8817-AA0A91FEB099}" type="slidenum">
              <a:t>1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CD1E8C-93FC-42F4-AD7F-8166426F7F82}" type="datetime1">
              <a:rPr lang="en-US"/>
              <a:t>07/28/26</a:t>
            </a:fld>
          </a:p>
        </p:txBody>
      </p:sp>
    </p:spTree>
  </p:cSld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0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23640" y="907560"/>
            <a:ext cx="845820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Podstawowe założenia</a:t>
            </a: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 planu energetycznego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9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9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ff0000"/>
                </a:solidFill>
                <a:uFillTx/>
                <a:latin typeface="Times New Roman"/>
              </a:rPr>
              <a:t>Bezpieczeństwo energetyczne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- zapewnienie środków i możliwości efektywnego wytwarzania, przesyłania i dystrybucji energii odbiorcom na terenie gminy,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sposób technicznie i ekonomicznie uzasadniony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ff0000"/>
                </a:solidFill>
                <a:uFillTx/>
                <a:latin typeface="Times New Roman"/>
              </a:rPr>
              <a:t>Wzrost efektywności energetycznej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- obniżenie zużycia nośników energii i paliw (efektywne wykorzystanie paliw)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Bezpieczeństwo ekologiczne gminy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- ochrona środowiska przed negatywnymi skutkami działalności energetycznej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 u="sng">
                <a:solidFill>
                  <a:srgbClr val="ff0000"/>
                </a:solidFill>
                <a:uFillTx/>
                <a:latin typeface="Times New Roman"/>
              </a:rPr>
              <a:t>Zwiększenie udziału energii pozyskiwanej z odnawialnych  źródeł energii (OZE)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w ogólnym bilansie energetycznym gminy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0ACA-3E64-42FD-99D5-6A66CAEBF784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5E12A5-7D6F-4171-8612-A5DBE70E0D53}" type="datetime1">
              <a:rPr lang="en-US"/>
              <a:t>07/28/26</a:t>
            </a:fld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0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000" y="981000"/>
            <a:ext cx="835164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Pakiet programu „3 x 20” przyjęty przez Radę UE w dniu 09.03.2007 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ff0000"/>
                </a:solidFill>
                <a:uFillTx/>
                <a:latin typeface="Times New Roman"/>
              </a:rPr>
              <a:t>Efektywność energetyczna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633240" indent="-366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zrost o 9% do roku 2016 (dyrektywa 2006/32/WE)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633240" indent="-366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wzrost o 20% do roku 2020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ff0000"/>
                </a:solidFill>
                <a:uFillTx/>
                <a:latin typeface="Times New Roman"/>
              </a:rPr>
              <a:t>Wzrost wykorzystania OZE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633240" indent="-366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20% udziału OZE w bilansie energii finalnej w roku 2020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633240" indent="-366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15% w niektórych krajach (w tym w Polsce)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ff0000"/>
                </a:solidFill>
                <a:uFillTx/>
                <a:latin typeface="Times New Roman"/>
              </a:rPr>
              <a:t>Redukcja emisji gazów cieplarnianych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633240" indent="-366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o 20% w roku 2020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985C-1619-4716-BA0A-2993B3FB174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7CA9F-7A15-42DD-8C3B-7FA2B689D4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500"/>
                            </p:stCondLst>
                            <p:childTnLst>
                              <p:par>
                                <p:cTn id="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1500"/>
                            </p:stCondLst>
                            <p:childTnLst>
                              <p:par>
                                <p:cTn id="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713800" cy="576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Kierunki działań 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Realizacja wieloetapowego programu termomodernizacyjnego w budownictwie mieszkaniowym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niżenie jednostkowego zużycia ciepła na ogrzewanie 1 m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ierzchni w sektorze budownictwa wielorodzinneg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z poziomu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170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÷</a:t>
            </a: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200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[kWh/m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rok]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90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÷</a:t>
            </a: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110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[kWh/m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rok];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sektorze budownictw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jedn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r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zinnego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z poziomu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200-240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[kWh/m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rok]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100</a:t>
            </a:r>
            <a:r>
              <a:rPr b="1" lang="en-US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÷</a:t>
            </a: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120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[kWh/m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rok] – w miastach;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230-270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[kWh/m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rok]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o </a:t>
            </a:r>
            <a:r>
              <a:rPr b="1" lang="pl-PL" sz="2000" spc="-1" strike="noStrike">
                <a:solidFill>
                  <a:srgbClr val="cc0000"/>
                </a:solidFill>
                <a:latin typeface="Times New Roman"/>
              </a:rPr>
              <a:t>140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[kWh/m</a:t>
            </a:r>
            <a:r>
              <a:rPr b="1" lang="pl-PL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rok] – na teren. wiejskich;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niżenie zużycia ciepła w sektorach usług publicznych i komercyjnych, w stosunku do roku bazowego (2006/7), o co najmniej: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30</a:t>
            </a:r>
            <a:r>
              <a:rPr b="1" lang="pl-PL" sz="2000" spc="-1" strike="noStrike">
                <a:solidFill>
                  <a:srgbClr val="cc0000"/>
                </a:solidFill>
                <a:latin typeface="Symbol"/>
                <a:ea typeface="Symbol"/>
              </a:rPr>
              <a:t></a:t>
            </a:r>
            <a:r>
              <a:rPr b="1" lang="pl-P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35%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roku 2025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niżenie zużycia ciepła w sektorze przemysłowym, w stosunku do roku bazowego (2006/2007), o co najmniej: 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lvl="1" marL="800280" indent="-343080">
              <a:spcBef>
                <a:spcPts val="499"/>
              </a:spcBef>
              <a:buClr>
                <a:srgbClr val="ff33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20</a:t>
            </a:r>
            <a:r>
              <a:rPr b="1" lang="pl-PL" sz="2000" spc="-1" strike="noStrike">
                <a:solidFill>
                  <a:srgbClr val="cc0000"/>
                </a:solidFill>
                <a:latin typeface="Symbol"/>
                <a:ea typeface="Symbol"/>
              </a:rPr>
              <a:t></a:t>
            </a:r>
            <a:r>
              <a:rPr b="1" lang="pl-PL" sz="20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30%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o roku 2025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19D3-BA34-480D-B891-881DEC5126E5}" type="slidenum">
              <a:t>2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0BACF-BF73-4891-B1C0-DE0DB1E5B611}" type="datetime1">
              <a:rPr lang="en-US"/>
              <a:t>07/28/26</a:t>
            </a:fld>
          </a:p>
        </p:txBody>
      </p:sp>
    </p:spTree>
  </p:cSld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fill="hold">
                            <p:stCondLst>
                              <p:cond delay="1000"/>
                            </p:stCondLst>
                            <p:childTnLst>
                              <p:par>
                                <p:cTn id="51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5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6" dur="10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 fill="hold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1000" fill="hold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1000" fill="hold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 fill="hold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1000" fill="hold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1000" fill="hold"/>
                                        <p:tgtEl>
                                          <p:spTgt spid="1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 fill="hold"/>
                                        <p:tgtEl>
                                          <p:spTgt spid="11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1000" fill="hold"/>
                                        <p:tgtEl>
                                          <p:spTgt spid="11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1000" fill="hold"/>
                                        <p:tgtEl>
                                          <p:spTgt spid="11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920" y="333000"/>
            <a:ext cx="8602560" cy="604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7296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Kierunki działań c.d.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72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a50021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niżenie zużycia energii pierwotnej w paliwach - działania modernizacyjne poprawiające sprawności przetwarzania, przesyłania i dystrybucji energii, w tym: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rawa sprawności przetwarzania energii w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EC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awodowych  - osiągnięcie optymalnych sprawności zgodnie z możliwościami technicznymi urządzeń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rawa sprawności przetwarzania energii w centralnych źródłach ciepła o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%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az poprawa sprawności przesyłu i dystrybucji ciepła o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</a:t>
            </a:r>
            <a:r>
              <a:rPr b="1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%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rawa sprawności przetwarzania energii w lokalnych źródłach ciepła o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2</a:t>
            </a:r>
            <a:r>
              <a:rPr b="1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%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1" lang="en-US" sz="2000" spc="-1" strike="noStrike">
              <a:solidFill>
                <a:srgbClr val="a50021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prawa sprawności przetwarzania energii w indywidualnych źródłach ciepła o 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</a:t>
            </a:r>
            <a:r>
              <a:rPr b="1" lang="pl-PL" sz="2000" spc="-1" strike="noStrike">
                <a:solidFill>
                  <a:srgbClr val="ff0000"/>
                </a:solidFill>
                <a:latin typeface="Symbol"/>
                <a:ea typeface="Symbol"/>
              </a:rPr>
              <a:t>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3%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0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niżenie łącznego zapotrzebowania na energię i paliwa pierwotne do roku 2025 aktualnych i przyszłych odbiorców zlokalizowanych na danym terenie, w stosunki do roku bazowego (2006/2007r.)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9F450-41FB-4156-9ED7-436125CC8683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C88A1C-A2E0-4BC0-9D87-B7DB4CABE6D7}" type="datetime1">
              <a:rPr lang="en-US"/>
              <a:t>07/28/26</a:t>
            </a:fld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8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9" dur="1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1000"/>
                            </p:stCondLst>
                            <p:childTnLst>
                              <p:par>
                                <p:cTn id="60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80520" y="836640"/>
            <a:ext cx="845820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Kierunki działań c.d.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2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większenie, w perspektywie lat 201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0 i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działu produkcji energii ze źródeł odnawialnych do poziomu: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/ w miastach: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41400" indent="-3808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4,0-4,5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roku 20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41400" indent="-3808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9,0-12,0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roku 20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b/ w gminach wiejskich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41400" indent="-3808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22,0-25,0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roku 20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41400" indent="-3808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30,0-33,0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 roku 20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BAB1-ACC6-4FA8-975E-B60D861E4619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5D4992-F7A1-42B3-B365-2CC3518D84AC}" type="datetime1">
              <a:rPr lang="en-US"/>
              <a:t>07/28/26</a:t>
            </a:fld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fill="hold">
                      <p:stCondLst>
                        <p:cond delay="indefinite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250560" y="1125360"/>
            <a:ext cx="8675640" cy="468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134604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Kierunki działań c.d.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134604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2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134604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niżenie emisji zanieczyszczeń z instalacji energetycznych w następującej relacji: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4604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a/ w miastach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533520" indent="-3542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34604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10-15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ku 20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35-40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do roku 2020;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533520" indent="-3542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34604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15-17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ku 20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0,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50-55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do roku 2020;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134604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/ w gminach wiejskich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533520" indent="-3542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34604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30-35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ku 201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50-55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do roku 2020;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533520" indent="-35424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346040"/>
                <a:tab algn="l" pos="49276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SO</a:t>
            </a:r>
            <a:r>
              <a:rPr b="1" lang="pl-P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40-50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ku 2010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70-75%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do roku 2020;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7E7F0-FFDB-44BF-9801-CA283E769246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F63448-6557-4490-8219-F19453523CF2}" type="datetime1">
              <a:rPr lang="en-US"/>
              <a:t>07/28/26</a:t>
            </a:fld>
          </a:p>
        </p:txBody>
      </p:sp>
    </p:spTree>
  </p:cSld>
  <p:timing>
    <p:tnLst>
      <p:par>
        <p:cTn id="655" dur="indefinite" restart="never" nodeType="tmRoot">
          <p:childTnLst>
            <p:seq>
              <p:cTn id="656" dur="indefinite" nodeType="mainSeq">
                <p:childTnLst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1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1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12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80520" y="836640"/>
            <a:ext cx="8458200" cy="540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448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Korelacja „Projektu założeń …” z kierunkami działań przyjętymi w RSE</a:t>
            </a:r>
            <a:endParaRPr b="1" lang="en-US" sz="3200" spc="-1" strike="noStrike">
              <a:solidFill>
                <a:srgbClr val="a50021"/>
              </a:solidFill>
              <a:latin typeface="Times New Roman"/>
            </a:endParaRPr>
          </a:p>
          <a:p>
            <a:pPr marL="3448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1" lang="en-US" sz="1200" spc="-1" strike="noStrike">
              <a:solidFill>
                <a:srgbClr val="a50021"/>
              </a:solidFill>
              <a:latin typeface="Times New Roman"/>
            </a:endParaRPr>
          </a:p>
          <a:p>
            <a:pPr marL="344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.  Zwiększenie, w perspektywie lat 2010</a:t>
            </a:r>
            <a:r>
              <a:rPr b="1" lang="pl-PL" sz="2400" spc="-1" strike="noStrike">
                <a:solidFill>
                  <a:srgbClr val="000000"/>
                </a:solidFill>
                <a:latin typeface="Symbol"/>
                <a:ea typeface="Symbol"/>
              </a:rPr>
              <a:t>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5, udziału produkcji energii ze źródeł odnawialnych do poziomu: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60840" indent="-44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8%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roku 2010;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60840" indent="-44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1%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roku 2013;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60840" indent="-44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%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roku 2025.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marL="344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.  Obniżenie emisji zanieczyszczeń z instalacji energetycznych w następującej relacji: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60840" indent="-44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35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ku 201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3,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53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÷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55%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do roku 2025;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60840" indent="-44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SO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52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-//-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68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÷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70%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-//-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  <a:p>
            <a:pPr lvl="1" marL="960840" indent="-442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19684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NO</a:t>
            </a:r>
            <a:r>
              <a:rPr b="1" lang="pl-PL" sz="2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38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%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  -//-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52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÷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54%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-//-</a:t>
            </a:r>
            <a:endParaRPr b="1" lang="en-US" sz="2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822F-DD83-4BCE-A4FF-8C010B3018D7}" type="slidenum">
              <a:t>2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51A5F-3CC7-4CDE-865D-8EC5854A8945}" type="datetime1">
              <a:rPr lang="en-US"/>
              <a:t>07/28/26</a:t>
            </a:fld>
          </a:p>
        </p:txBody>
      </p:sp>
    </p:spTree>
  </p:cSld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fill="hold">
                      <p:stCondLst>
                        <p:cond delay="0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5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500"/>
                            </p:stCondLst>
                            <p:childTnLst>
                              <p:par>
                                <p:cTn id="7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0" dur="5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2500"/>
                            </p:stCondLst>
                            <p:childTnLst>
                              <p:par>
                                <p:cTn id="7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1" fill="hold">
                            <p:stCondLst>
                              <p:cond delay="3000"/>
                            </p:stCondLst>
                            <p:childTnLst>
                              <p:par>
                                <p:cTn id="7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1000" fill="hold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4000"/>
                            </p:stCondLst>
                            <p:childTnLst>
                              <p:par>
                                <p:cTn id="7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4500"/>
                            </p:stCondLst>
                            <p:childTnLst>
                              <p:par>
                                <p:cTn id="7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0"/>
                            </p:stCondLst>
                            <p:childTnLst>
                              <p:par>
                                <p:cTn id="74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12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95280" y="2205000"/>
            <a:ext cx="842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800000"/>
                </a:solidFill>
                <a:latin typeface="Times New Roman"/>
              </a:rPr>
              <a:t>Rezultaty realizacji „Projektu założeń …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800000"/>
                </a:solidFill>
                <a:latin typeface="Times New Roman"/>
              </a:rPr>
              <a:t>zmiana struktury udziału paliw w pokryciu potrzeb cieplny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5BB3-8B9E-4016-9AA7-D007F654704B}" type="slidenum">
              <a:t>2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945E6D-4E98-45E7-94B3-B2C1925DCE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fill="hold">
                      <p:stCondLst>
                        <p:cond delay="0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Przykładowa s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ruktur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udziału paliw i nośników energii w produkcji ciepła na terenie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miny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 miejskiej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27040" y="1676520"/>
          <a:ext cx="8077320" cy="398088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6602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zaj paliwa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2007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aliwa stałe (węgiel i ko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60,0-63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45,0-48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aliwa gazow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8,0-30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3,0-35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Odnawialne źródła energ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,5-2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9,0-11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6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Olej opałow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4,0-4,5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,5-2,5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3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Energia elektryczna i in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,0-4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7,0-7,5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BA04-4B2B-4D59-8621-95C4CA9B16EB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F86789-3B37-45FC-973B-82D749696194}" type="datetime1">
              <a:rPr lang="en-US"/>
              <a:t>07/28/26</a:t>
            </a:fld>
          </a:p>
        </p:txBody>
      </p:sp>
    </p:spTree>
  </p:cSld>
  <p:timing>
    <p:tnLst>
      <p:par>
        <p:cTn id="759" dur="indefinite" restart="never" nodeType="tmRoot">
          <p:childTnLst>
            <p:seq>
              <p:cTn id="760" dur="indefinite" nodeType="mainSeq">
                <p:childTnLst>
                  <p:par>
                    <p:cTn id="761" fill="hold">
                      <p:stCondLst>
                        <p:cond delay="0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00"/>
                            </p:stCondLst>
                            <p:childTnLst>
                              <p:par>
                                <p:cTn id="76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Przykładowa s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ruktur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udziału paliw i nośników energii w produkcji ciepła na terenie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miny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 miejskiej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8360" y="1052640"/>
          <a:ext cx="828036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C248-3F38-4E3E-A07E-4ACD8CC4E696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0C734E-76DF-4AF5-B8D3-EC3F9F72BC68}" type="datetime1">
              <a:rPr lang="en-US"/>
              <a:t>07/28/26</a:t>
            </a:fld>
          </a:p>
        </p:txBody>
      </p:sp>
    </p:spTree>
  </p:cSld>
  <p:timing>
    <p:tnLst>
      <p:par>
        <p:cTn id="775" dur="indefinite" restart="never" nodeType="tmRoot">
          <p:childTnLst>
            <p:seq>
              <p:cTn id="776" dur="indefinite" nodeType="mainSeq">
                <p:childTnLst>
                  <p:par>
                    <p:cTn id="777" fill="hold">
                      <p:stCondLst>
                        <p:cond delay="0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500"/>
                            </p:stCondLst>
                            <p:childTnLst>
                              <p:par>
                                <p:cTn id="78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69608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Przykładowa s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ruktur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udziału paliw i nośników energii w produkcji ciepła na terenie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miny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 m-w</a:t>
            </a:r>
            <a:r>
              <a:rPr b="1" lang="pl-PL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457200" y="1828800"/>
          <a:ext cx="8077320" cy="3828960"/>
        </p:xfrm>
        <a:graphic>
          <a:graphicData uri="http://schemas.openxmlformats.org/drawingml/2006/table">
            <a:tbl>
              <a:tblPr/>
              <a:tblGrid>
                <a:gridCol w="2692440"/>
                <a:gridCol w="2692440"/>
                <a:gridCol w="2692440"/>
              </a:tblGrid>
              <a:tr h="6350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zaj paliwa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2007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2025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aliwa stałe (węgiel i ko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5,0-70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5,0-44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aliwa gazow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10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8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30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Odnawialne źródła energ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3,0-18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2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30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Olej opałow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5,0-11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4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Energia elektryczna i in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3,5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7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9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D92EF-194D-4FF9-836D-7FACCA268C29}" type="slidenum">
              <a:t>2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A649A5-EE5F-4DB3-ABDE-BFDC28C3EF94}" type="datetime1">
              <a:rPr lang="en-US"/>
              <a:t>07/28/26</a:t>
            </a:fld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0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Przykładowa s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ruktur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udziału paliw i nośników energii w produkcji ciepła na terenie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miny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 m-w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468360" y="1052640"/>
          <a:ext cx="828036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B420-D320-4ADB-BE27-6FCD83C55240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D9769F-7614-4165-A23E-E233DA13C412}" type="datetime1">
              <a:rPr lang="en-US"/>
              <a:t>07/28/26</a:t>
            </a:fld>
          </a:p>
        </p:txBody>
      </p:sp>
    </p:spTree>
  </p:cSld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848720" cy="46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Efektywność energetyczna wg założeń UE</a:t>
            </a:r>
            <a:endParaRPr b="1" lang="en-US" sz="3200" spc="-1" strike="noStrike">
              <a:solidFill>
                <a:srgbClr val="ffffcc"/>
              </a:solidFill>
              <a:latin typeface="Arial Narrow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49409"/>
          <a:stretch/>
        </p:blipFill>
        <p:spPr>
          <a:xfrm>
            <a:off x="609480" y="1041480"/>
            <a:ext cx="8077320" cy="5024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2B7A3-2838-47B7-BA62-E4493A657C76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87AB8-450D-4469-B596-9A5AE808CFEB}" type="datetime1">
              <a:rPr lang="en-US"/>
              <a:t>07/28/26</a:t>
            </a:fld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9640" y="47628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Przykładowa s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ruktur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udziału paliw i nośników energii w produkcji ciepła na terenie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miny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 wiejskiej</a:t>
            </a:r>
            <a:r>
              <a:rPr b="1" lang="pl-PL" sz="36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1" lang="en-US" sz="36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39640" y="1844640"/>
          <a:ext cx="8148240" cy="3832200"/>
        </p:xfrm>
        <a:graphic>
          <a:graphicData uri="http://schemas.openxmlformats.org/drawingml/2006/table">
            <a:tbl>
              <a:tblPr/>
              <a:tblGrid>
                <a:gridCol w="2715840"/>
                <a:gridCol w="2716200"/>
                <a:gridCol w="2716200"/>
              </a:tblGrid>
              <a:tr h="635040"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dzaj paliwa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/2007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-2025</a:t>
                      </a:r>
                      <a:r>
                        <a:rPr b="1" lang="pl-PL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aliwa stałe (węgiel i koks)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9,0-72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,0-33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Paliwa gazowe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10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12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24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26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Odnawialne źródła energii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8,0-9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32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37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504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Olej opałow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5,0-6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0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1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2160" rIns="92160" tIns="46080" bIns="4608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Energia elektryczna i inn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4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5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2160" rIns="92160" tIns="46080" bIns="4608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7,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</a:rPr>
                        <a:t>-8,0</a:t>
                      </a:r>
                      <a:r>
                        <a:rPr b="1" lang="pl-PL" sz="2000" spc="-1" strike="noStrike">
                          <a:solidFill>
                            <a:srgbClr val="a50021"/>
                          </a:solidFill>
                          <a:latin typeface="Times New Roman"/>
                          <a:ea typeface="Times New Roman"/>
                        </a:rPr>
                        <a:t>%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2160" marR="92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BDEC6-A3CE-42D3-9FE7-4FC99172769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E91444-4C2B-4D09-A446-A545D0C311C9}" type="datetime1">
              <a:rPr lang="en-US"/>
              <a:t>07/28/26</a:t>
            </a:fld>
          </a:p>
        </p:txBody>
      </p:sp>
    </p:spTree>
  </p:cSld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0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2920" y="189000"/>
            <a:ext cx="7632720" cy="79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Przykładowa s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ruktur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a</a:t>
            </a:r>
            <a:r>
              <a:rPr b="1" lang="pl-PL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udziału paliw i nośników energii w produkcji ciepła na terenie 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gminy</a:t>
            </a:r>
            <a:r>
              <a:rPr b="1" lang="pl-PL" sz="2400" spc="-1" strike="noStrike">
                <a:solidFill>
                  <a:srgbClr val="ff0000"/>
                </a:solidFill>
                <a:latin typeface="Times New Roman"/>
              </a:rPr>
              <a:t> wiejskiej</a:t>
            </a:r>
            <a:endParaRPr b="1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68360" y="1052640"/>
          <a:ext cx="828036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52640"/>
                    <a:ext cx="828036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C497-6537-4867-98CA-E9A17550F6AA}" type="slidenum">
              <a:t>3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A4F85A-6DD4-4A6B-BCDB-10B4CED36D63}" type="datetime1">
              <a:rPr lang="en-US"/>
              <a:t>07/28/26</a:t>
            </a:fld>
          </a:p>
        </p:txBody>
      </p:sp>
    </p:spTree>
  </p:cSld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0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4" fill="hold">
                            <p:stCondLst>
                              <p:cond delay="500"/>
                            </p:stCondLst>
                            <p:childTnLst>
                              <p:par>
                                <p:cTn id="84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" name=""/>
          <p:cNvGraphicFramePr/>
          <p:nvPr/>
        </p:nvGraphicFramePr>
        <p:xfrm>
          <a:off x="971640" y="1197000"/>
          <a:ext cx="7488000" cy="50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97000"/>
                    <a:ext cx="748800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" name=""/>
          <p:cNvSpPr/>
          <p:nvPr/>
        </p:nvSpPr>
        <p:spPr>
          <a:xfrm>
            <a:off x="1476360" y="404640"/>
            <a:ext cx="691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Gminy miejskie – scenariusz optymistycz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89F1-921E-44BE-BB71-D17F3D124245}" type="slidenum">
              <a:t>3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3726AB-7875-4A58-AE1C-902464F445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500"/>
                            </p:stCondLst>
                            <p:childTnLst>
                              <p:par>
                                <p:cTn id="8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fill="hold">
                            <p:stCondLst>
                              <p:cond delay="1000"/>
                            </p:stCondLst>
                            <p:childTnLst>
                              <p:par>
                                <p:cTn id="8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5" fill="hold">
                            <p:stCondLst>
                              <p:cond delay="1500"/>
                            </p:stCondLst>
                            <p:childTnLst>
                              <p:par>
                                <p:cTn id="86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8" fill="hold">
                            <p:stCondLst>
                              <p:cond delay="2500"/>
                            </p:stCondLst>
                            <p:childTnLst>
                              <p:par>
                                <p:cTn id="86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971640" y="1197000"/>
          <a:ext cx="7488000" cy="50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97000"/>
                    <a:ext cx="748800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"/>
          <p:cNvSpPr/>
          <p:nvPr/>
        </p:nvSpPr>
        <p:spPr>
          <a:xfrm>
            <a:off x="1476360" y="404640"/>
            <a:ext cx="691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Gminy m-w – scenariusz optymistyczn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A81FB-EA75-4FF7-BA62-A4E96806610E}" type="slidenum">
              <a:t>3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E5915D-C3E6-4452-9DD2-185954DC3F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1" dur="indefinite" restart="never" nodeType="tmRoot">
          <p:childTnLst>
            <p:seq>
              <p:cTn id="872" dur="indefinite" nodeType="mainSeq">
                <p:childTnLst>
                  <p:par>
                    <p:cTn id="873" fill="hold">
                      <p:stCondLst>
                        <p:cond delay="0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9" fill="hold">
                            <p:stCondLst>
                              <p:cond delay="500"/>
                            </p:stCondLst>
                            <p:childTnLst>
                              <p:par>
                                <p:cTn id="8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5" fill="hold">
                            <p:stCondLst>
                              <p:cond delay="1500"/>
                            </p:stCondLst>
                            <p:childTnLst>
                              <p:par>
                                <p:cTn id="88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8" fill="hold">
                            <p:stCondLst>
                              <p:cond delay="2500"/>
                            </p:stCondLst>
                            <p:childTnLst>
                              <p:par>
                                <p:cTn id="88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971640" y="1197000"/>
          <a:ext cx="7488000" cy="50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97000"/>
                    <a:ext cx="748800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476360" y="404640"/>
            <a:ext cx="691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Gminy m-w – minimalnego rozwoju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2B8E-4BA8-4FED-A8AC-5888A2903250}" type="slidenum">
              <a:t>3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204AD1-C950-4D3A-89BA-724F98D46E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0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9" fill="hold">
                            <p:stCondLst>
                              <p:cond delay="500"/>
                            </p:stCondLst>
                            <p:childTnLst>
                              <p:par>
                                <p:cTn id="9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fill="hold">
                            <p:stCondLst>
                              <p:cond delay="1000"/>
                            </p:stCondLst>
                            <p:childTnLst>
                              <p:par>
                                <p:cTn id="9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fill="hold">
                            <p:stCondLst>
                              <p:cond delay="1500"/>
                            </p:stCondLst>
                            <p:childTnLst>
                              <p:par>
                                <p:cTn id="90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fill="hold">
                            <p:stCondLst>
                              <p:cond delay="2500"/>
                            </p:stCondLst>
                            <p:childTnLst>
                              <p:par>
                                <p:cTn id="90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971640" y="1197000"/>
          <a:ext cx="7488000" cy="5054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197000"/>
                    <a:ext cx="7488000" cy="505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1476360" y="404640"/>
            <a:ext cx="6913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Gminy m-w – bez termomodernizacj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F5EF-F775-4F84-89C9-0CF565E0428C}" type="slidenum">
              <a:t>3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5351D-C8F5-4A1B-B6FC-1F2C5D57992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0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500"/>
                            </p:stCondLst>
                            <p:childTnLst>
                              <p:par>
                                <p:cTn id="9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2" fill="hold">
                            <p:stCondLst>
                              <p:cond delay="1000"/>
                            </p:stCondLst>
                            <p:childTnLst>
                              <p:par>
                                <p:cTn id="9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15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1116000" y="1125360"/>
          <a:ext cx="748836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125360"/>
                    <a:ext cx="748836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900000" y="189000"/>
            <a:ext cx="7848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Scenariusze rozwoju </a:t>
            </a:r>
            <a:br>
              <a:rPr sz="3200"/>
            </a:b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Wskaźniki ceny jednostkowej ciepła [zł/GJ] do roku 202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28F-3F37-43FB-AD54-46DB892A72A9}" type="slidenum">
              <a:t>3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C85D69-39C8-4CA8-BC4D-7B297E01190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0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9" fill="hold">
                            <p:stCondLst>
                              <p:cond delay="500"/>
                            </p:stCondLst>
                            <p:childTnLst>
                              <p:par>
                                <p:cTn id="9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1000"/>
                            </p:stCondLst>
                            <p:childTnLst>
                              <p:par>
                                <p:cTn id="9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fill="hold">
                            <p:stCondLst>
                              <p:cond delay="1500"/>
                            </p:stCondLst>
                            <p:childTnLst>
                              <p:par>
                                <p:cTn id="946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8" fill="hold">
                            <p:stCondLst>
                              <p:cond delay="2500"/>
                            </p:stCondLst>
                            <p:childTnLst>
                              <p:par>
                                <p:cTn id="949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323640" y="1988640"/>
            <a:ext cx="8458200" cy="374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812880" indent="-4572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Kompleksy agroenergetyczne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812880" indent="-4572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Źródła ciepła opalane biomasą i biogazem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812880" indent="-4572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Agregaty kogeneracyjne wykorzystujące biopaliwa i wspomagane paliwem gazowym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812880" indent="-4572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Instalacje solarne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812880" indent="-4572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mpy ciepła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  <a:p>
            <a:pPr lvl="1" marL="812880" indent="-4572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Farmy wiatrowe i małe elektrownie wiatrowe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9640" y="1125360"/>
            <a:ext cx="813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Zwiększenie</a:t>
            </a: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pl-PL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udziału produkcji energii z</a:t>
            </a: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 OZE</a:t>
            </a:r>
            <a:r>
              <a:rPr b="1" lang="pl-PL" sz="1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2152-9139-4D2A-9209-DD44D92FB36A}" type="slidenum">
              <a:t>3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198966-B108-4FD6-A772-DFF532B02DB2}" type="datetime1">
              <a:rPr lang="en-US"/>
              <a:t>07/28/26</a:t>
            </a:fld>
          </a:p>
        </p:txBody>
      </p:sp>
    </p:spTree>
  </p:cSld>
  <p:timing>
    <p:tnLst>
      <p:par>
        <p:cTn id="955" dur="indefinite" restart="never" nodeType="tmRoot">
          <p:childTnLst>
            <p:seq>
              <p:cTn id="956" dur="indefinite" nodeType="mainSeq">
                <p:childTnLst>
                  <p:par>
                    <p:cTn id="957" fill="hold">
                      <p:stCondLst>
                        <p:cond delay="0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4" fill="hold">
                            <p:stCondLst>
                              <p:cond delay="500"/>
                            </p:stCondLst>
                            <p:childTnLst>
                              <p:par>
                                <p:cTn id="96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fill="hold">
                            <p:stCondLst>
                              <p:cond delay="1500"/>
                            </p:stCondLst>
                            <p:childTnLst>
                              <p:par>
                                <p:cTn id="97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10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2500"/>
                            </p:stCondLst>
                            <p:childTnLst>
                              <p:par>
                                <p:cTn id="97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7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8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9" fill="hold">
                            <p:stCondLst>
                              <p:cond delay="3500"/>
                            </p:stCondLst>
                            <p:childTnLst>
                              <p:par>
                                <p:cTn id="98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10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4" fill="hold">
                            <p:stCondLst>
                              <p:cond delay="4500"/>
                            </p:stCondLst>
                            <p:childTnLst>
                              <p:par>
                                <p:cTn id="98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5500"/>
                            </p:stCondLst>
                            <p:childTnLst>
                              <p:par>
                                <p:cTn id="990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1000" fill="hold"/>
                                        <p:tgtEl>
                                          <p:spTgt spid="1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116000" y="1890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Relacje cenowe nośników energii (2008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403280" y="728640"/>
          <a:ext cx="6408720" cy="5702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728640"/>
                    <a:ext cx="640872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2587-CB5E-49F4-AB4D-39EE47F24EE6}" type="slidenum">
              <a:t>3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D23695-596E-45CB-B34E-659F4A35518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4" dur="indefinite" restart="never" nodeType="tmRoot">
          <p:childTnLst>
            <p:seq>
              <p:cTn id="995" dur="indefinite" nodeType="mainSeq">
                <p:childTnLst>
                  <p:par>
                    <p:cTn id="996" fill="hold">
                      <p:stCondLst>
                        <p:cond delay="0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0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490160" cy="40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Koszt wytworzenia 1 GJ w 2008r (50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÷</a:t>
            </a: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200 kW)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763640" y="692280"/>
          <a:ext cx="5991120" cy="58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692280"/>
                    <a:ext cx="599112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57AF-4737-44FE-8AB3-A1E9522515A9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7FE780-9CA9-456E-8CCB-FAC651253A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7" dur="indefinite" restart="never" nodeType="tmRoot">
          <p:childTnLst>
            <p:seq>
              <p:cTn id="1008" dur="indefinite" nodeType="mainSeq">
                <p:childTnLst>
                  <p:par>
                    <p:cTn id="1009" fill="hold">
                      <p:stCondLst>
                        <p:cond delay="0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500"/>
                            </p:stCondLst>
                            <p:childTnLst>
                              <p:par>
                                <p:cTn id="10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304920"/>
            <a:ext cx="7863120" cy="46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Zużycie energii końcowej w wybranych krajach UE (PJ) 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89" name=""/>
          <p:cNvSpPr/>
          <p:nvPr/>
        </p:nvSpPr>
        <p:spPr>
          <a:xfrm>
            <a:off x="1544400" y="623736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800000"/>
                </a:solidFill>
                <a:latin typeface="Times New Roman"/>
              </a:rPr>
              <a:t>źródło: Eurost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403280" y="852480"/>
          <a:ext cx="6624720" cy="538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852480"/>
                    <a:ext cx="6624720" cy="538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CC88-8AB9-445A-A3A9-0553875A1E0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3D11D4-0CEB-4619-B3B2-EEB3CA2066D4}" type="datetime1">
              <a:rPr lang="en-US"/>
              <a:t>07/28/26</a:t>
            </a:fld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71640" y="259920"/>
            <a:ext cx="7632720" cy="40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Koszt wytworzenia 1 GJ w 2008r (0,3</a:t>
            </a:r>
            <a:r>
              <a:rPr b="1" lang="en-US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÷</a:t>
            </a: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0,9 MW)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763640" y="692280"/>
          <a:ext cx="5991120" cy="5829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692280"/>
                    <a:ext cx="5991120" cy="582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D796-3B75-4973-8FDF-E08FADA4A29C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BB5EC2-851F-4D3E-AD7E-472DD0DE7E8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2" dur="indefinite" restart="never" nodeType="tmRoot">
          <p:childTnLst>
            <p:seq>
              <p:cTn id="1023" dur="indefinite" nodeType="mainSeq">
                <p:childTnLst>
                  <p:par>
                    <p:cTn id="1024" fill="hold">
                      <p:stCondLst>
                        <p:cond delay="0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556000" y="1052640"/>
            <a:ext cx="619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3600" spc="-1" strike="noStrike">
                <a:solidFill>
                  <a:srgbClr val="006600"/>
                </a:solidFill>
                <a:latin typeface="Times New Roman"/>
              </a:rPr>
              <a:t>Najtaniej kosztuje energia …, której nie wytworzono w celu pokrycia zbędnych str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42920" y="5013360"/>
            <a:ext cx="3313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990000"/>
                </a:solidFill>
                <a:latin typeface="Times New Roman"/>
              </a:rPr>
              <a:t>Tadeusz Żure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71640" y="3933720"/>
            <a:ext cx="678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800000"/>
                </a:solidFill>
                <a:latin typeface="Times New Roman"/>
              </a:rPr>
              <a:t>Dziękujemy za uwagę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18C27-5922-4F80-8C94-D30C7C2D214B}" type="slidenum">
              <a:t>4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A32BBD-3414-46C8-85C2-641230B3913C}" type="datetime1">
              <a:rPr lang="en-US"/>
              <a:t>07/28/26</a:t>
            </a:fld>
          </a:p>
        </p:txBody>
      </p:sp>
    </p:spTree>
  </p:cSld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10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0" dur="1000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71280" y="188640"/>
            <a:ext cx="7791480" cy="765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Zużycie energii końcowej w wybranych krajach UE (PJ)</a:t>
            </a:r>
            <a:endParaRPr b="1" lang="en-US" sz="28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93" name=""/>
          <p:cNvSpPr/>
          <p:nvPr/>
        </p:nvSpPr>
        <p:spPr>
          <a:xfrm>
            <a:off x="1544400" y="6237360"/>
            <a:ext cx="138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400" spc="-1" strike="noStrike">
                <a:solidFill>
                  <a:srgbClr val="800000"/>
                </a:solidFill>
                <a:latin typeface="Times New Roman"/>
              </a:rPr>
              <a:t>źródło: Eurosta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403280" y="907920"/>
          <a:ext cx="6624720" cy="5462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907920"/>
                    <a:ext cx="662472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7982-67DA-45A8-A051-406B93586CF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E31313-1796-4DB3-83D0-BC7F4C4593DA}" type="datetime1">
              <a:rPr lang="en-US"/>
              <a:t>07/28/26</a:t>
            </a:fld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981000"/>
            <a:ext cx="845820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rategiczne prognozowanie rozwoju gospodarki energetycznej i programowanie działań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800" spc="-1" strike="noStrike">
                <a:solidFill>
                  <a:srgbClr val="ff0000"/>
                </a:solidFill>
                <a:latin typeface="Times New Roman"/>
              </a:rPr>
              <a:t>na poziomie kraju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 określają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70120" indent="-41292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wa „Prawo energetyczne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”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kst jednolity (Dz.U. nr 89 z 2006 r., poz. 625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70120" indent="-41292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yka energetyczna Polski do 2025 roku”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, d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kument przyjęty przez Radę Ministrów w styczniu 2005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r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70120" indent="-41292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„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lityka energetyczna Polski do 2030 roku”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, wersja nr 2; </a:t>
            </a:r>
            <a:r>
              <a:rPr b="1" lang="pl-P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sterstwo Gospodarki (X.2008r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1ED83-C214-457B-8280-B4B1001D7F9A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063586-5D61-468C-B9C6-E0DC12FBB9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11280" y="620640"/>
            <a:ext cx="8242200" cy="561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533520" indent="-354240">
              <a:spcBef>
                <a:spcPts val="700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Polityka energetyczna Polski do roku 2030</a:t>
            </a: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 (projekt z dnia 04.09.2008) wersja nr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4"/>
              </a:spcBef>
              <a:tabLst>
                <a:tab algn="l" pos="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533520" indent="-35424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Poprawa efektywności energetycznej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3520" indent="-35424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Wzrost bezpieczeństwa energetyczneg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9640" indent="-366840">
              <a:spcBef>
                <a:spcPts val="499"/>
              </a:spcBef>
              <a:buClr>
                <a:srgbClr val="cc0000"/>
              </a:buClr>
              <a:buSzPct val="90000"/>
              <a:buFont typeface="Times New Roman"/>
              <a:buChar char="•"/>
              <a:tabLst>
                <a:tab algn="l" pos="44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Cele i działania w zakresie wzrostu bezpieczeństwa energetyczneg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9640" indent="-366840">
              <a:spcBef>
                <a:spcPts val="499"/>
              </a:spcBef>
              <a:buClr>
                <a:srgbClr val="cc0000"/>
              </a:buClr>
              <a:buSzPct val="90000"/>
              <a:buFont typeface="Times New Roman"/>
              <a:buChar char="•"/>
              <a:tabLst>
                <a:tab algn="l" pos="44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odukcja i przesył en elektrycznej i ciepł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9640" indent="-366840">
              <a:spcBef>
                <a:spcPts val="499"/>
              </a:spcBef>
              <a:buClr>
                <a:srgbClr val="cc0000"/>
              </a:buClr>
              <a:buSzPct val="90000"/>
              <a:buFont typeface="Times New Roman"/>
              <a:buChar char="•"/>
              <a:tabLst>
                <a:tab algn="l" pos="4446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zewidywane efekty działań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533520" indent="-35424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Rozwój wykorzystania odnawialnych źródeł energii, w tym biopaliw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3520" indent="-35424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Rozwój konkurencyjnych rynków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533520" indent="-354240">
              <a:spcBef>
                <a:spcPts val="700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Ograniczenie oddziaływania na środowisk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4614-912E-4F87-931F-051383A2BFA6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5653DD-BBBD-44C9-BD53-67435F1F5AF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500"/>
                            </p:stCondLst>
                            <p:childTnLst>
                              <p:par>
                                <p:cTn id="14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500"/>
                            </p:stCondLst>
                            <p:childTnLst>
                              <p:par>
                                <p:cTn id="1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3500"/>
                            </p:stCondLst>
                            <p:childTnLst>
                              <p:par>
                                <p:cTn id="1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4500"/>
                            </p:stCondLst>
                            <p:childTnLst>
                              <p:par>
                                <p:cTn id="16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5500"/>
                            </p:stCondLst>
                            <p:childTnLst>
                              <p:par>
                                <p:cTn id="16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500"/>
                            </p:stCondLst>
                            <p:childTnLst>
                              <p:par>
                                <p:cTn id="1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68360" y="981000"/>
            <a:ext cx="8313840" cy="52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177840" indent="-177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Polityka energetyczna Polski – Strategia do roku 2030</a:t>
            </a:r>
            <a:r>
              <a:rPr b="1" lang="pl-PL" sz="2800" spc="-1" strike="noStrike">
                <a:solidFill>
                  <a:srgbClr val="800000"/>
                </a:solidFill>
                <a:latin typeface="Times New Roman"/>
              </a:rPr>
              <a:t> (projekt z dnia 31.07.2008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177840" indent="-177840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66840">
              <a:spcBef>
                <a:spcPts val="601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odstawowe cele polityki energetycznej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9640" indent="-30240">
              <a:spcBef>
                <a:spcPts val="499"/>
              </a:spcBef>
              <a:buClr>
                <a:srgbClr val="cc0000"/>
              </a:buClr>
              <a:buSzPct val="8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ezpieczeństwo energetyczne kraj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9640" indent="-30240">
              <a:spcBef>
                <a:spcPts val="499"/>
              </a:spcBef>
              <a:buClr>
                <a:srgbClr val="cc0000"/>
              </a:buClr>
              <a:buSzPct val="8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zrost konkurencyjności gospodarki i jej efektywności energetycznej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079640" indent="-30240">
              <a:spcBef>
                <a:spcPts val="499"/>
              </a:spcBef>
              <a:buClr>
                <a:srgbClr val="cc0000"/>
              </a:buClr>
              <a:buSzPct val="85000"/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chrona środowisk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6684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Efektywność energetyczn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- obniżenie energochłonności gospodarki w Polsce (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584 ktoe/1000 EUR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) do poziomu UE-15 z 2005 roku (</a:t>
            </a:r>
            <a:r>
              <a:rPr b="1" lang="pl-PL" sz="2000" spc="-1" strike="noStrike">
                <a:solidFill>
                  <a:srgbClr val="ff0000"/>
                </a:solidFill>
                <a:latin typeface="Times New Roman"/>
              </a:rPr>
              <a:t>184 ktoe/1000 EUR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23960" indent="-366840">
              <a:spcBef>
                <a:spcPts val="499"/>
              </a:spcBef>
              <a:buClr>
                <a:srgbClr val="cc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Odnawialne źródła energii, w tym biopaliwa 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– wzrost OZE w bilansie energii finalnej do poziomu 15% w 2020r oraz do 20% w 2030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1EAA-F445-46D4-A41D-657B9FD9CFDC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52FE74-3B8B-4637-8B2F-02DD552E01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95280" y="1341360"/>
            <a:ext cx="8424720" cy="28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4800" spc="-1" strike="noStrike">
                <a:solidFill>
                  <a:srgbClr val="800000"/>
                </a:solidFill>
                <a:latin typeface="Times New Roman"/>
              </a:rPr>
              <a:t>Planowanie energetyczne </a:t>
            </a:r>
            <a:br>
              <a:rPr sz="4800"/>
            </a:br>
            <a:r>
              <a:rPr b="1" lang="pl-PL" sz="4800" spc="-1" strike="noStrike">
                <a:solidFill>
                  <a:srgbClr val="800000"/>
                </a:solidFill>
                <a:latin typeface="Times New Roman"/>
              </a:rPr>
              <a:t>na poziomie województwa  </a:t>
            </a:r>
            <a:br>
              <a:rPr sz="3600"/>
            </a:b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79E6-D353-4F6A-83BE-EEA3B01642F3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814021-2474-4925-94CB-C9888C71CC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W</cp:lastModifiedBy>
  <dcterms:modified xsi:type="dcterms:W3CDTF">2008-10-30T20:01:09Z</dcterms:modified>
  <cp:revision>820</cp:revision>
  <dc:subject/>
  <dc:title>Prezentacja programu PowerPoint</dc:title>
</cp:coreProperties>
</file>