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78A-E004-4AE8-8BF0-816D3641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CD6-8FDA-4B81-B899-993B39BC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A59-DBED-419D-9DA7-F98D4C09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ABC-1382-4384-A0B6-56A9B0F4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472E-DF0E-44B0-81D6-F7E56206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A321-9A1C-4B5E-9D50-43A7D383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D697-C7C4-4BA9-B726-650B1C03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DCDC-F7C6-4A0C-9B85-B40E6A12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C484-5969-4A49-A8D9-211CACD0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BDEC-A9C9-4788-8475-1257C4FF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8968-9DA4-4849-ADE9-DA9075C3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8D8-9FEE-4B11-904F-5CE869B7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9485-4A8E-42F8-8BA3-21BEE4B5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646B-45F3-40A9-9042-9D7A9C4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84C5-FB43-42C5-8D52-64459BC0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8AA6-675F-4FE2-95EC-F4D7C66B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F6A-154B-42EE-9A74-F2E09490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3B9-32B9-4A9E-9327-71008E10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DF-360F-4373-8AD7-6AA55071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608-82A9-4EFE-8774-CC380D06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4AA-31E4-4B1F-8863-F2E6CD27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D2C-5647-4767-89B3-10D6AF67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4D4-6489-4CC1-9C94-ABEBC2D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19F-42E9-42D9-80B6-3AB6CB7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1287-DA9A-4608-9984-CC5250867C0D}" type="datetime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2E3-E3E0-43D3-8A77-1E1B0E9B7478}" type="slidenum"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17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426960"/>
            <a:ext cx="7161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BD8D-5618-4108-A453-C0F1971AFC55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329-61C1-4B5B-8E88-96812C55F4C8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8428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800000"/>
                </a:solidFill>
                <a:latin typeface="Times New Roman"/>
              </a:rPr>
              <a:t>PLANOWANIE ENERGETYCZNE</a:t>
            </a:r>
            <a:br>
              <a:rPr sz="4000"/>
            </a:br>
            <a:r>
              <a:rPr b="1" lang="pl-PL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pl-PL" sz="4000" spc="-1" strike="noStrike">
                <a:solidFill>
                  <a:srgbClr val="800000"/>
                </a:solidFill>
                <a:latin typeface="Times New Roman"/>
              </a:rPr>
              <a:t>W GMINACH </a:t>
            </a:r>
            <a:br>
              <a:rPr sz="4000"/>
            </a:br>
            <a:br>
              <a:rPr sz="4000"/>
            </a:br>
            <a:r>
              <a:rPr b="1" lang="pl-PL" sz="4000" spc="-1" strike="noStrike">
                <a:solidFill>
                  <a:srgbClr val="800000"/>
                </a:solidFill>
                <a:latin typeface="Times New Roman"/>
              </a:rPr>
              <a:t>na przykładzie województwa pomorskie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06A-D667-4395-9AAD-43AAD0AF7A59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27900-9A46-4AD8-A8DC-F3BBC61EB1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trategiczne prognozowanie rozwoju gospodarki energetycznej na</a:t>
            </a:r>
            <a:r>
              <a:rPr b="1" lang="pl-PL" sz="2800" spc="-1" strike="noStrike">
                <a:solidFill>
                  <a:srgbClr val="a50021"/>
                </a:solidFill>
                <a:latin typeface="Times New Roman"/>
              </a:rPr>
              <a:t> szczeblu lokalnym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kreślają dokumenty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88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2440" indent="-35424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ciepło, energię elektryczną i paliwa gazowe dla obszaru gminy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2440" indent="-35424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egionalna Strategia Energetyki na lata 200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025”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2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a50021"/>
              </a:solidFill>
              <a:latin typeface="Times New Roman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RSE określa podstawowe założenia polityki energetycznej województwa oraz stanowi podstawę do jej wdrażania w ramach realizacji „Strategii rozwoju województwa do roku 2025”.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4C7-B726-4AAB-B73B-A8D820F400E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B0945-0EC2-48A2-A6E4-ECD821CBD5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Priorytety, cele strategiczne i kierunki działań gospodarki energetycznej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Times New Roman"/>
              </a:rPr>
              <a:t>Bezpieczeństwo energetyczn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- zapewnienie środków i możliwości efektywnego wytwarzania, przesyłania i dystrybucji energii odbiorcom, w sposób technicznie i ekonomicznie uzasadniony (niezawodność dostaw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Times New Roman"/>
              </a:rPr>
              <a:t>Bezpieczeństwo ekologiczn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- ochrona środowiska przed negatywnymi skutkami działalności energetycznej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niżenie zużycia nośników energii i paliw we wszystkich sektorach gospodark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zrost efektywności energetycznej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orzystania paliw i nośników energii pierwotnej, zwiększanie udziału produkcji energii w skojarzeniu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Zwiększenie udziału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energii pozyskiwanej z odnawialnych  źródeł energii (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OZ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) w ogólnym bilansie energetycznym województwa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2D8-F153-4BFB-9388-8F6A05910D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613EA-80EF-4548-BBF8-AB76130F4E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4582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na Strategia Energetyki do roku 2025 dla woj. pomorskiego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apotrzebowania aktualnych i przyszłych odbiorców na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3960" indent="-544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oc cieplną,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3960" indent="-544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epło,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3960" indent="-544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liwa pierwotne.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k bazowy 2005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108-ADD4-447C-A5E5-0B29754B769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16F36-2849-4336-9CE7-403F873AC21F}" type="datetime1">
              <a:rPr lang="en-US"/>
              <a:t>07/29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704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rognoza zużycia ciepła i paliw pierwotnych do roku 2025 wg RSE</a:t>
            </a:r>
            <a:r>
              <a:rPr b="0" lang="pl-PL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1268280"/>
          <a:ext cx="705636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705636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8E9-E1A4-4767-B9B8-98B43F179B7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976FB-6216-42C8-A8C7-5146018B05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87280" y="260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ognoza zapotrzebowania na energię łącznie dla woj. pomorskiego do roku 2025 (wg R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A96-8ABC-416F-AA39-23AFB33367E6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FC3DA-3745-4AEC-96FD-25D130559D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06472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Prognoza zużycia ciepła i paliw pierwotnych wg dwóch różnych strategii energetycznych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0000" y="1197000"/>
          <a:ext cx="748836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48836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702-5BE4-42B0-83A4-5B9C01FFC1F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E975C-75EE-4421-9CF8-E60E0B85FE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84872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800000"/>
                </a:solidFill>
                <a:latin typeface="Times New Roman"/>
              </a:rPr>
              <a:t>Planowanie energetyczne na poziomie gmin</a:t>
            </a:r>
            <a:r>
              <a:rPr b="1" lang="pl-PL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l-PL" sz="4000" spc="-1" strike="noStrike">
                <a:solidFill>
                  <a:srgbClr val="cc0000"/>
                </a:solidFill>
                <a:latin typeface="Times New Roman"/>
              </a:rPr>
              <a:t>„Projekt założeń </a:t>
            </a:r>
            <a:br>
              <a:rPr sz="4000"/>
            </a:br>
            <a:r>
              <a:rPr b="1" lang="pl-PL" sz="4000" spc="-1" strike="noStrike">
                <a:solidFill>
                  <a:srgbClr val="cc0000"/>
                </a:solidFill>
                <a:latin typeface="Times New Roman"/>
              </a:rPr>
              <a:t>do planu zaopatrzenia w ciepło, energię elektryczną i paliwa gazowe dla gmin”</a:t>
            </a:r>
            <a:br>
              <a:rPr sz="2400"/>
            </a:b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348156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337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7F8-661B-4394-982C-F83B09E71B7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13CAA-0A74-40E4-A5DF-13EA1532A022}" type="datetime1">
              <a:rPr lang="en-US"/>
              <a:t>07/29/26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Horyzont czasowy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lany energetyczne gmin opracowywane są zgodnie z harmonogramem: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10 r.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15 r.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20 r.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25 r.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C97-75A5-4BC7-9174-72A514B7182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0C3CC-0F2D-4539-B872-89F9259799C0}" type="datetime1">
              <a:rPr lang="en-US"/>
              <a:t>07/29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45820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Podstawowe części tematyczne „Projektu założeń …”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ciepł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I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energię elektryczną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II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paliwa gazo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V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żliwości współpracy gminy z sąsiednimi gminami w zakresie gospodarki energetycznej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V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 zanieczyszczeń atmosfery spowodowany przez systemy energetyczn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VI  „S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ariusze zaopatrzenia gminy w ciepło, energię elektryczną i paliwa gazo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” 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112-E529-4E98-B220-C7FFDAB61D2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AA10A-D839-4E17-9C8C-CC7DDF3B921F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458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odstawowe założenia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 planu energetycznego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9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Bezpieczeństwo energetyczn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- zapewnienie środków i możliwości efektywnego wytwarzania, przesyłania i dystrybucji energii odbiorcom na terenie gminy,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sposób technicznie i ekonomicznie uzasadniony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Wzrost efektywności energetycznej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- obniżenie zużycia nośników energii i paliw (efektywne wykorzystanie paliw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zpieczeństwo ekologiczne gminy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- ochrona środowiska przed negatywnymi skutkami działalności energetycznej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Zwiększenie udziału energii pozyskiwanej z odnawialnych  źródeł energii (OZE)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w ogólnym bilansie energetycznym gminy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3EF-40B0-42EA-9780-4F62ED20886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11676-0BB0-4076-8B7A-B9DF44E9C9EF}" type="datetime1">
              <a:rPr lang="en-US"/>
              <a:t>07/29/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akiet programu „3 x 20” przyjęty przez Radę UE w dniu 09.03.2007 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fektywność energetyczn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zrost o 9% do roku 2016 (dyrektywa 2006/32/WE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zrost o 20% do roku 2020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Times New Roman"/>
              </a:rPr>
              <a:t>Wzrost wykorzystania OZ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0% udziału OZE w bilansie energii finalnej w roku 2020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5% w niektórych krajach (w tym w Polsce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dukcja emisji gazów cieplarnianych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 20% w roku 2020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05B-5D1D-4DD1-BA2C-F35BA76C85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72603-6E17-44DE-8C3F-A80BB4267B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ealizacja wieloetapowego programu termomodernizacyjnego w budownictwie mieszkaniowym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jednostkowego zużycia ciepła na ogrzewanie 1 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ierzchni w sektorze budownictwa wielorodzinneg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z poziomu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70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÷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20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90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÷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1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sektorze budownictw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ed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nneg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z poziomu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200-24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00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÷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2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 – w miastach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230-27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40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 – na teren. wiejskich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użycia ciepła w sektorach usług publicznych i komercyjnych, w stosunku do roku bazowego (2006/7), o co najmniej: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0</a:t>
            </a:r>
            <a:r>
              <a:rPr b="1" lang="pl-PL" sz="2000" spc="-1" strike="noStrike">
                <a:solidFill>
                  <a:srgbClr val="cc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5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roku 2025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użycia ciepła w sektorze przemysłowym, w stosunku do roku bazowego (2006/2007), o co najmniej: 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</a:t>
            </a:r>
            <a:r>
              <a:rPr b="1" lang="pl-PL" sz="2000" spc="-1" strike="noStrike">
                <a:solidFill>
                  <a:srgbClr val="cc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0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roku 2025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1D0-C836-4B64-A5AB-2A46FF300A9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CC136-B073-4BBE-9838-654F188591AB}" type="datetime1">
              <a:rPr lang="en-US"/>
              <a:t>07/29/26</a:t>
            </a:fld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025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c.d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użycia energii pierwotnej w paliwach - działania modernizacyjne poprawiające sprawności przetwarzania, przesyłania i dystrybucji energii, w tym: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C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wodowych  - osiągnięcie optymalnych sprawności zgodnie z możliwościami technicznymi urządzeń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centralnych źródłach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z poprawa sprawności przesyłu i dystrybucji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lokalnych źródłach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indywidualnych źródłach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łącznego zapotrzebowania na energię i paliwa pierwotne do roku 2025 aktualnych i przyszłych odbiorców zlokalizowanych na danym terenie, w stosunki do roku bazowego (2006/2007r.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421-60F6-48A6-8682-613C7ACE5D0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86BD4-6C2A-41B3-A2FB-096134CD2A99}" type="datetime1">
              <a:rPr lang="en-US"/>
              <a:t>07/29/26</a:t>
            </a:fld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664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c.d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większenie, w perspektywie lat 201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0 i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działu produkcji energii ze źródeł odnawialnych do poziomu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/ w miastach: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4,0-4,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9,0-12,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/ w gminach wiejskich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22,0-25,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0,0-33,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447-677F-46D9-8101-29713FE8FBD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186B7-83AF-4F97-8F35-4ABA7C5A350B}" type="datetime1">
              <a:rPr lang="en-US"/>
              <a:t>07/29/26</a:t>
            </a:fld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67564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c.d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emisji zanieczyszczeń z instalacji energetycznych w następującej relacji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/ w miastach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10-1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5-40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15-17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0-55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w gminach wiejskich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0-3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0-55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40-5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70-75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4E8-EAE5-404D-96A1-4542EE5EB14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66F26-2D76-47B9-B4B1-AFE6B11BA0B8}" type="datetime1">
              <a:rPr lang="en-US"/>
              <a:t>07/29/26</a:t>
            </a:fld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83664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44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orelacja „Projektu założeń …” z kierunkami działań przyjętymi w RS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4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marL="344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Zwiększenie, w perspektywie lat 2010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5, udziału produkcji energii ze źródeł odnawialnych do poziomu: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oku 201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oku 2013;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oku 2025.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4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Obniżenie emisji zanieczyszczeń z instalacji energetycznych w następującej relacji: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5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 roku 2025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-//-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68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70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//-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8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-//-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4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//-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2E9-21A9-4604-BCF8-9C90758BFCE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877E8-F38F-457F-9E10-E59F79C7994E}" type="datetime1">
              <a:rPr lang="en-US"/>
              <a:t>07/29/26</a:t>
            </a:fld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000"/>
                            </p:stCondLst>
                            <p:childTnLst>
                              <p:par>
                                <p:cTn id="7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2205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Rezultaty realizacji „Projektu założeń 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zmiana struktury udziału paliw w pokryciu potrzeb ciepl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D97-B38A-4420-BB7E-29645B0DDB24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AA31D-FD47-49D7-9727-C3E78614A6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iejskiej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27040" y="1676520"/>
          <a:ext cx="8077320" cy="398088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6602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 paliw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2007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stałe (węgiel i ko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0,0-63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5,0-48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gazow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8,0-3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3,0-35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dnawialne źródła energ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,5-2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,0-11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lej opałow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,0-4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,5-2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Energia elektryczna i i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,0-4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,0-7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EB7-4B2E-46EE-B6ED-04F43BA146C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C8AAB-66A4-4C6E-BAE9-50DCF71A809A}" type="datetime1">
              <a:rPr lang="en-US"/>
              <a:t>07/29/26</a:t>
            </a:fld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iejskiej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052640"/>
          <a:ext cx="8280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E5E-D5B9-4782-B0ED-43965206404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43F4B-DD15-45EE-9007-09E8C22E9DB9}" type="datetime1">
              <a:rPr lang="en-US"/>
              <a:t>07/29/26</a:t>
            </a:fld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-w</a:t>
            </a: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077320" cy="382896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6350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 paliw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2007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025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stałe (węgiel i ko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7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44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gazow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1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dnawialne źródła energ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3,0-18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2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lej opałow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11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4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Energia elektryczna i i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9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1EB-F770-4BB1-BCF3-E4E3B95BA723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8FD6A-54B0-40BA-BF98-D38C015A1C78}" type="datetime1">
              <a:rPr lang="en-US"/>
              <a:t>07/29/26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-w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052640"/>
          <a:ext cx="8280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5C1-54B7-4457-BBB5-19E18D0E8D8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30652-789D-4D07-9029-0FE57DB426D7}" type="datetime1">
              <a:rPr lang="en-US"/>
              <a:t>07/29/26</a:t>
            </a:fld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Efektywność energetyczna wg założeń UE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49409"/>
          <a:stretch/>
        </p:blipFill>
        <p:spPr>
          <a:xfrm>
            <a:off x="609480" y="1041480"/>
            <a:ext cx="8077320" cy="50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670-AD7D-4208-9C5B-0E00BB6E615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FC8B0-5BC3-4EEA-A7E3-7B592A2F2646}" type="datetime1">
              <a:rPr lang="en-US"/>
              <a:t>07/29/26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wiejskiej</a:t>
            </a: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844640"/>
          <a:ext cx="8148240" cy="3832200"/>
        </p:xfrm>
        <a:graphic>
          <a:graphicData uri="http://schemas.openxmlformats.org/drawingml/2006/table">
            <a:tbl>
              <a:tblPr/>
              <a:tblGrid>
                <a:gridCol w="2715840"/>
                <a:gridCol w="2716200"/>
                <a:gridCol w="2716200"/>
              </a:tblGrid>
              <a:tr h="6350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 paliw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2007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025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stałe (węgiel i ko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,0-72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,0-33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gazow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12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4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26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dnawialne źródła energ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,0-9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2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7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lej opałow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6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1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Energia elektryczna i i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5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8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2E5-8D84-4DA6-9B40-13848C427F7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BAD86-FB1A-46FE-BC15-44480BDF67D3}" type="datetime1">
              <a:rPr lang="en-US"/>
              <a:t>07/29/26</a:t>
            </a:fld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wiejskiej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052640"/>
          <a:ext cx="8280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E26-3FC8-48C4-91AB-74732E58E48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05610-4EFA-4744-8D1C-85264360D5AD}" type="datetime1">
              <a:rPr lang="en-US"/>
              <a:t>07/29/26</a:t>
            </a:fld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iejskie – scenariusz optymistycz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7C4-8CB5-475C-9897-75E2331CB300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FDF3D-01D4-45AE-BDD8-DC48FA8407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-w – scenariusz optymistycz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BF5-83B4-4309-A17B-21FC684E55ED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F43B9-C1CE-42F7-BF70-F29EE34DF6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-w – minimalnego rozw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28C-CC61-4B70-83EF-6673E5EA1062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2D306-9313-44D7-A416-5DF6BF6FC7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-w – bez termomoderniz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D45-3621-407A-B8B0-E2767C966959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45C3E-3ABA-43A1-9DAD-8C47E70593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116000" y="1125360"/>
          <a:ext cx="748836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7488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900000" y="189000"/>
            <a:ext cx="784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Scenariusze rozwoju </a:t>
            </a:r>
            <a:br>
              <a:rPr sz="32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kaźniki ceny jednostkowej ciepła [zł/GJ] do roku 20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A11-2FF4-488C-AC4A-339BDC074EF4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30394-4343-43F9-91FB-6CBA9F6E6B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84582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mpleksy agroenergetyczn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Źródła ciepła opalane biomasą i biogazem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gregaty kogeneracyjne wykorzystujące biopaliwa i wspomagane paliwem gazowym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nstalacje solarn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mpy ciepł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Farmy wiatrowe i małe elektrownie wiatrow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125360"/>
            <a:ext cx="813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Zwiększenie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działu produkcji energii z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 OZE</a:t>
            </a:r>
            <a:r>
              <a:rPr b="1" lang="pl-PL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F84-1BC9-47A3-A447-81051859248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EABC5-DEF3-4159-ACE6-A1839E469221}" type="datetime1">
              <a:rPr lang="en-US"/>
              <a:t>07/29/26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500"/>
                            </p:stCondLst>
                            <p:childTnLst>
                              <p:par>
                                <p:cTn id="9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500"/>
                            </p:stCondLst>
                            <p:childTnLst>
                              <p:par>
                                <p:cTn id="9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500"/>
                            </p:stCondLst>
                            <p:childTnLst>
                              <p:par>
                                <p:cTn id="9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16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Relacje cenowe nośników energii (2008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03280" y="728640"/>
          <a:ext cx="64087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728640"/>
                    <a:ext cx="64087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249-DEB4-4FA6-9F4E-3694DB73A58A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A2797-CBE0-45FC-B97A-7D4A401583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0160" cy="4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Koszt wytworzenia 1 GJ w 2008r (50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÷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200 kW)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63640" y="692280"/>
          <a:ext cx="5991120" cy="58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92280"/>
                    <a:ext cx="5991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0F9-4C58-41CA-B41C-0FD1003192B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08627-5578-474F-B47F-8916166BD3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86312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Zużycie energii końcowej w wybranych krajach UE (PJ)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1544400" y="62373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800000"/>
                </a:solidFill>
                <a:latin typeface="Times New Roman"/>
              </a:rPr>
              <a:t>źródło: Euros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03280" y="852480"/>
          <a:ext cx="6624720" cy="53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52480"/>
                    <a:ext cx="662472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654-F6DC-4CDA-8AD6-82A73B7B9B2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A06F9-3E8E-4C4D-B084-FB6BC83A530E}" type="datetime1">
              <a:rPr lang="en-US"/>
              <a:t>07/29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632720" cy="4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Koszt wytworzenia 1 GJ w 2008r (0,3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÷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0,9 MW)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63640" y="692280"/>
          <a:ext cx="5991120" cy="58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92280"/>
                    <a:ext cx="5991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538-04A4-4AD9-95F7-B971A95CD46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D1486-A801-4DA1-AE9B-FAF520305A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105264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6600"/>
                </a:solidFill>
                <a:latin typeface="Times New Roman"/>
              </a:rPr>
              <a:t>Najtaniej kosztuje energia …, której nie wytworzono w celu pokrycia zbędnych str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50133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0000"/>
                </a:solidFill>
                <a:latin typeface="Times New Roman"/>
              </a:rPr>
              <a:t>Tadeusz Żu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39337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800000"/>
                </a:solidFill>
                <a:latin typeface="Times New Roman"/>
              </a:rPr>
              <a:t>Dziękujemy za uwag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137-F199-4A60-A2CC-67CD08FAD3AA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1A25E-403E-4F40-8616-41A1DCBD8062}" type="datetime1">
              <a:rPr lang="en-US"/>
              <a:t>07/29/26</a:t>
            </a:fld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148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Zużycie energii końcowej w wybranych krajach UE (PJ)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1544400" y="62373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800000"/>
                </a:solidFill>
                <a:latin typeface="Times New Roman"/>
              </a:rPr>
              <a:t>źródło: Euros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03280" y="907920"/>
          <a:ext cx="6624720" cy="546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62472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8BC-BC9C-472B-8E2B-E4708C60066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F17F5-12A1-4607-BE87-2039CD4F3D60}" type="datetime1">
              <a:rPr lang="en-US"/>
              <a:t>07/29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981000"/>
            <a:ext cx="84582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czne prognozowanie rozwoju gospodarki energetycznej i programowanie działań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na poziomie kraj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określaj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0120" indent="-41292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wa „Prawo energetyczne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st jednolity (Dz.U. nr 89 z 2006 r., poz. 62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0120" indent="-41292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yka energetyczna Polski do 2025 roku”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ument przyjęty przez Radę Ministrów w styczniu 2005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0120" indent="-41292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yka energetyczna Polski do 2030 roku”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, wersja nr 2;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stwo Gospodarki (X.2008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768-9A17-4A69-B54B-53AA41C21AE4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52486-73B2-4A3E-B2FA-B7317AA1CC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620640"/>
            <a:ext cx="82422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533520" indent="-354240"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olityka energetyczna Polski do roku 2030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 (projekt z dnia 04.09.2008) wersja n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prawa efektywności energetyczne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rost bezpieczeństwa energetyczn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66840">
              <a:spcBef>
                <a:spcPts val="499"/>
              </a:spcBef>
              <a:buClr>
                <a:srgbClr val="cc0000"/>
              </a:buClr>
              <a:buSzPct val="90000"/>
              <a:buFont typeface="Times New Roman"/>
              <a:buChar char="•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ele i działania w zakresie wzrostu bezpieczeństwa energetyczn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66840">
              <a:spcBef>
                <a:spcPts val="499"/>
              </a:spcBef>
              <a:buClr>
                <a:srgbClr val="cc0000"/>
              </a:buClr>
              <a:buSzPct val="90000"/>
              <a:buFont typeface="Times New Roman"/>
              <a:buChar char="•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odukcja i przesył en elektrycznej i ciepł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66840">
              <a:spcBef>
                <a:spcPts val="499"/>
              </a:spcBef>
              <a:buClr>
                <a:srgbClr val="cc0000"/>
              </a:buClr>
              <a:buSzPct val="90000"/>
              <a:buFont typeface="Times New Roman"/>
              <a:buChar char="•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widywane efekty działań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ozwój wykorzystania odnawialnych źródeł energii, w tym biopali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ozwój konkurencyjnych rynkó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graniczenie oddziaływania na środowis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2C7-7B62-4C9F-BBED-B1CBD21D85E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ED7C4-8C0F-4986-9A09-81B9A96276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3138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olityka energetyczna Polski – Strategia do roku 2030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 (projekt z dnia 31.07.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6684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dstawowe cele polityki energetyczne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0240">
              <a:spcBef>
                <a:spcPts val="499"/>
              </a:spcBef>
              <a:buClr>
                <a:srgbClr val="cc0000"/>
              </a:buClr>
              <a:buSzPct val="8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ezpieczeństwo energetyczne kr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0240">
              <a:spcBef>
                <a:spcPts val="499"/>
              </a:spcBef>
              <a:buClr>
                <a:srgbClr val="cc0000"/>
              </a:buClr>
              <a:buSzPct val="8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zrost konkurencyjności gospodarki i jej efektywności energetyczne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0240">
              <a:spcBef>
                <a:spcPts val="499"/>
              </a:spcBef>
              <a:buClr>
                <a:srgbClr val="cc0000"/>
              </a:buClr>
              <a:buSzPct val="8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chrona środowis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6684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fektywność energetycz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- obniżenie energochłonności gospodarki w Polsce (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584 ktoe/1000 EUR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) do poziomu UE-15 z 2005 roku (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184 ktoe/1000 EUR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6684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dnawialne źródła energii, w tym biopaliw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– wzrost OZE w bilansie energii finalnej do poziomu 15% w 2020r oraz do 20% w 2030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D33-0BAB-4C4C-8AA5-0FCEB2279D4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CFBC4-D4DE-4007-80AD-7B46AD9D72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341360"/>
            <a:ext cx="842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800000"/>
                </a:solidFill>
                <a:latin typeface="Times New Roman"/>
              </a:rPr>
              <a:t>Planowanie energetyczne </a:t>
            </a:r>
            <a:br>
              <a:rPr sz="4800"/>
            </a:br>
            <a:r>
              <a:rPr b="1" lang="pl-PL" sz="4800" spc="-1" strike="noStrike">
                <a:solidFill>
                  <a:srgbClr val="800000"/>
                </a:solidFill>
                <a:latin typeface="Times New Roman"/>
              </a:rPr>
              <a:t>na poziomie województwa 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D1B-3F5F-44C9-90C1-9B6A3FBF92F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2C887-927B-40E9-B471-DB2C966585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W</cp:lastModifiedBy>
  <dcterms:modified xsi:type="dcterms:W3CDTF">2008-10-30T20:01:09Z</dcterms:modified>
  <cp:revision>820</cp:revision>
  <dc:subject/>
  <dc:title>Prezentacja programu PowerPoint</dc:title>
</cp:coreProperties>
</file>