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8.jpeg" ContentType="image/jpeg"/>
  <Override PartName="/ppt/media/image20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3.png" ContentType="image/png"/>
  <Override PartName="/ppt/media/image44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.png" ContentType="image/png"/>
  <Override PartName="/ppt/media/image31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DF1F-88B5-445F-B2CC-EF460AB6278B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AD02F-86EC-4C5B-89B7-03AC4D045D6E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Symbol zastępczy numeru slajd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9BC1D-A041-4E3F-B027-69923775CECD}" type="slidenum">
              <a:rPr b="0" lang="pl-P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6CDDD-79FB-414A-ACC2-23163A0A4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F250-410D-49EE-BBC4-33BDA9F42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B219-83C2-45E1-87F2-6BB157D9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F064-8AEA-4293-A4B1-499CF76C9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A481-7FB5-4A9F-B553-F884D3A6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332F-A11D-47BD-BB99-80A641CF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71F7-84A9-43FF-8C7F-D799FBA4F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622D-4A23-4A9B-919B-45C842AE8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CC6-EEF5-471C-9A64-6B70A76F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AE8-EF06-49D3-BA3C-FB8E4C3C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7E56-08C2-4A10-96B8-E6301E4C7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948-18FB-46D6-B47A-75333B755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04B10-D4BC-4A11-8399-59C451207ABE}" type="datetime">
              <a:rPr b="0" lang="pl-PL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9507-9ACA-40C0-9896-C765ABF0B04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3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4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35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6.png"/><Relationship Id="rId21" Type="http://schemas.openxmlformats.org/officeDocument/2006/relationships/image" Target="../media/image37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38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39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40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41.png"/><Relationship Id="rId18" Type="http://schemas.openxmlformats.org/officeDocument/2006/relationships/image" Target="../media/image42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43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41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hyperlink" Target="http://monitoring.promar.com.pl/" TargetMode="External"/><Relationship Id="rId21" Type="http://schemas.openxmlformats.org/officeDocument/2006/relationships/image" Target="../media/image44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6.png"/><Relationship Id="rId19" Type="http://schemas.openxmlformats.org/officeDocument/2006/relationships/image" Target="../media/image16.png"/><Relationship Id="rId20" Type="http://schemas.openxmlformats.org/officeDocument/2006/relationships/image" Target="../media/image16.png"/><Relationship Id="rId21" Type="http://schemas.openxmlformats.org/officeDocument/2006/relationships/image" Target="../media/image16.png"/><Relationship Id="rId22" Type="http://schemas.openxmlformats.org/officeDocument/2006/relationships/image" Target="../media/image17.png"/><Relationship Id="rId23" Type="http://schemas.openxmlformats.org/officeDocument/2006/relationships/image" Target="../media/image18.jpe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<Relationship Id="rId2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image" Target="../media/image5.png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11.png"/><Relationship Id="rId25" Type="http://schemas.openxmlformats.org/officeDocument/2006/relationships/image" Target="../media/image12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image" Target="../media/image15.png"/><Relationship Id="rId32" Type="http://schemas.openxmlformats.org/officeDocument/2006/relationships/image" Target="../media/image19.png"/><Relationship Id="rId33" Type="http://schemas.openxmlformats.org/officeDocument/2006/relationships/image" Target="../media/image15.png"/><Relationship Id="rId34" Type="http://schemas.openxmlformats.org/officeDocument/2006/relationships/slideLayout" Target="../slideLayouts/slideLayout1.xml"/><Relationship Id="rId3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25.png"/><Relationship Id="rId22" Type="http://schemas.openxmlformats.org/officeDocument/2006/relationships/image" Target="../media/image13.png"/><Relationship Id="rId23" Type="http://schemas.openxmlformats.org/officeDocument/2006/relationships/image" Target="../media/image26.jpeg"/><Relationship Id="rId24" Type="http://schemas.openxmlformats.org/officeDocument/2006/relationships/image" Target="../media/image19.png"/><Relationship Id="rId2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2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9.png"/><Relationship Id="rId24" Type="http://schemas.openxmlformats.org/officeDocument/2006/relationships/image" Target="../media/image28.jpeg"/><Relationship Id="rId2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6.png"/><Relationship Id="rId14" Type="http://schemas.openxmlformats.org/officeDocument/2006/relationships/image" Target="../media/image16.png"/><Relationship Id="rId15" Type="http://schemas.openxmlformats.org/officeDocument/2006/relationships/image" Target="../media/image16.png"/><Relationship Id="rId16" Type="http://schemas.openxmlformats.org/officeDocument/2006/relationships/image" Target="../media/image30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3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31.png"/><Relationship Id="rId28" Type="http://schemas.openxmlformats.org/officeDocument/2006/relationships/image" Target="../media/image19.png"/><Relationship Id="rId2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6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3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32.png"/><Relationship Id="rId21" Type="http://schemas.openxmlformats.org/officeDocument/2006/relationships/image" Target="../media/image19.png"/><Relationship Id="rId2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9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image" Target="../media/image16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3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9.png"/><Relationship Id="rId2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731760" y="6356160"/>
            <a:ext cx="5411880" cy="50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0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Obraz 8" descr="reka-psdBezTla.png"/>
          <p:cNvPicPr/>
          <p:nvPr/>
        </p:nvPicPr>
        <p:blipFill>
          <a:blip r:embed="rId1"/>
          <a:stretch/>
        </p:blipFill>
        <p:spPr>
          <a:xfrm>
            <a:off x="142920" y="3429000"/>
            <a:ext cx="4968720" cy="3338640"/>
          </a:xfrm>
          <a:prstGeom prst="rect">
            <a:avLst/>
          </a:prstGeom>
          <a:ln w="0">
            <a:noFill/>
          </a:ln>
        </p:spPr>
      </p:pic>
      <p:sp>
        <p:nvSpPr>
          <p:cNvPr id="50" name="pole tekstowe 6"/>
          <p:cNvSpPr/>
          <p:nvPr/>
        </p:nvSpPr>
        <p:spPr>
          <a:xfrm>
            <a:off x="5411880" y="3000240"/>
            <a:ext cx="3274920" cy="280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404040"/>
                </a:solidFill>
                <a:latin typeface="Calibri"/>
              </a:rPr>
              <a:t>Jak oszczędzać energię przy użyciu PROM@R MONITORING SY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Ryszard Marcini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</a:rPr>
              <a:t>Prezes Zarząd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</a:rPr>
              <a:t>Gdańsk, 29 października 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ymbol zastępczy numeru slajdu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51C8C-F810-4C1A-B442-990D9A19F81E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Obraz 8" descr="logo_promar.png"/>
          <p:cNvPicPr/>
          <p:nvPr/>
        </p:nvPicPr>
        <p:blipFill>
          <a:blip r:embed="rId2"/>
          <a:stretch/>
        </p:blipFill>
        <p:spPr>
          <a:xfrm>
            <a:off x="3141720" y="1530360"/>
            <a:ext cx="2854440" cy="1022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C:\Users\Bartosz Marciniak\Documents\Work\PROMAR\Marketing&amp;PR\Grafika\MedalEuropejskiBezTla.png"/>
          <p:cNvPicPr/>
          <p:nvPr/>
        </p:nvPicPr>
        <p:blipFill>
          <a:blip r:embed="rId3"/>
          <a:stretch/>
        </p:blipFill>
        <p:spPr>
          <a:xfrm>
            <a:off x="7164360" y="69840"/>
            <a:ext cx="1174680" cy="1168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8" descr="C:\Users\Bartosz Marciniak\Documents\Work\PROMAR\Marketing&amp;PR\Logo\INNE\ZnakiEU\spo_wkp_rgb_znak.png"/>
          <p:cNvPicPr/>
          <p:nvPr/>
        </p:nvPicPr>
        <p:blipFill>
          <a:blip r:embed="rId4"/>
          <a:stretch/>
        </p:blipFill>
        <p:spPr>
          <a:xfrm>
            <a:off x="592200" y="216000"/>
            <a:ext cx="3678120" cy="9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809CE-5104-43C6-9D2D-5A821DAF5FB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9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9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9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9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9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9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0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0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02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3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4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5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6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7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08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09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10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11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4" descr=""/>
          <p:cNvPicPr/>
          <p:nvPr/>
        </p:nvPicPr>
        <p:blipFill>
          <a:blip r:embed="rId20"/>
          <a:srcRect l="0" t="19718" r="0" b="0"/>
          <a:stretch/>
        </p:blipFill>
        <p:spPr>
          <a:xfrm>
            <a:off x="1687680" y="1311120"/>
            <a:ext cx="6207120" cy="5369040"/>
          </a:xfrm>
          <a:prstGeom prst="rect">
            <a:avLst/>
          </a:prstGeom>
          <a:ln w="0">
            <a:noFill/>
          </a:ln>
        </p:spPr>
      </p:pic>
      <p:sp>
        <p:nvSpPr>
          <p:cNvPr id="313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19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6DD1-558F-4842-AA38-DDCF1F52517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23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24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25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26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27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28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29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30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31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2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3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4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5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6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37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38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39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40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" descr=""/>
          <p:cNvPicPr/>
          <p:nvPr/>
        </p:nvPicPr>
        <p:blipFill>
          <a:blip r:embed="rId20"/>
          <a:srcRect l="0" t="19408" r="0" b="0"/>
          <a:stretch/>
        </p:blipFill>
        <p:spPr>
          <a:xfrm>
            <a:off x="1687680" y="1274760"/>
            <a:ext cx="6279840" cy="5410080"/>
          </a:xfrm>
          <a:prstGeom prst="rect">
            <a:avLst/>
          </a:prstGeom>
          <a:ln w="0">
            <a:noFill/>
          </a:ln>
        </p:spPr>
      </p:pic>
      <p:sp>
        <p:nvSpPr>
          <p:cNvPr id="342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48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C205-A886-4683-985F-16A1E6B950D2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ZAL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52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3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4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55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56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57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58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59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60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1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2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3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4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5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6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67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368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69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grpSp>
        <p:nvGrpSpPr>
          <p:cNvPr id="370" name="Grupa 35"/>
          <p:cNvGrpSpPr/>
          <p:nvPr/>
        </p:nvGrpSpPr>
        <p:grpSpPr>
          <a:xfrm>
            <a:off x="1795320" y="1420920"/>
            <a:ext cx="7048800" cy="4892400"/>
            <a:chOff x="1795320" y="1420920"/>
            <a:chExt cx="7048800" cy="4892400"/>
          </a:xfrm>
        </p:grpSpPr>
        <p:pic>
          <p:nvPicPr>
            <p:cNvPr id="371" name="Diagram 32" descr=""/>
            <p:cNvPicPr/>
            <p:nvPr/>
          </p:nvPicPr>
          <p:blipFill>
            <a:blip r:embed="rId20"/>
            <a:stretch/>
          </p:blipFill>
          <p:spPr>
            <a:xfrm>
              <a:off x="1795320" y="1420920"/>
              <a:ext cx="7048800" cy="4608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4" descr="C:\Users\Bartosz Marciniak\Documents\Work\PROMAR\Marketing&amp;PR\Logo\PROMAR\logo_monitoring-PRZEZ.gif"/>
            <p:cNvPicPr/>
            <p:nvPr/>
          </p:nvPicPr>
          <p:blipFill>
            <a:blip r:embed="rId21"/>
            <a:stretch/>
          </p:blipFill>
          <p:spPr>
            <a:xfrm>
              <a:off x="4425120" y="5441400"/>
              <a:ext cx="1786320" cy="871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3" name="Prostokąt z rogami zaokrąglonymi z jednej strony 3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rostokąt z rogami zaokrąglonymi z jednej strony 3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rostokąt z rogami zaokrąglonymi z jednej strony 3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Obraz 8" descr="reka-psdBezTla.png"/>
          <p:cNvPicPr/>
          <p:nvPr/>
        </p:nvPicPr>
        <p:blipFill>
          <a:blip r:embed="rId2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379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C05B8-1084-407C-BED4-EB113C1B1CC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INNOWACYJNOŚ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383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84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85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86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387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388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389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390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391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2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3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4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5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6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397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398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725560" cy="60480"/>
          </a:xfrm>
          <a:prstGeom prst="rect">
            <a:avLst/>
          </a:prstGeom>
          <a:ln w="0">
            <a:noFill/>
          </a:ln>
        </p:spPr>
      </p:pic>
      <p:pic>
        <p:nvPicPr>
          <p:cNvPr id="399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00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0" descr=""/>
          <p:cNvPicPr/>
          <p:nvPr/>
        </p:nvPicPr>
        <p:blipFill>
          <a:blip r:embed="rId20"/>
          <a:stretch/>
        </p:blipFill>
        <p:spPr>
          <a:xfrm>
            <a:off x="2563920" y="1523880"/>
            <a:ext cx="5386320" cy="736560"/>
          </a:xfrm>
          <a:prstGeom prst="rect">
            <a:avLst/>
          </a:prstGeom>
          <a:ln w="0">
            <a:noFill/>
          </a:ln>
        </p:spPr>
      </p:pic>
      <p:sp>
        <p:nvSpPr>
          <p:cNvPr id="402" name="Prostokąt 8"/>
          <p:cNvSpPr/>
          <p:nvPr/>
        </p:nvSpPr>
        <p:spPr>
          <a:xfrm>
            <a:off x="1598760" y="2343240"/>
            <a:ext cx="7391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(…) Ogólnie oceniając profil działalności firmy PROMAR Sp. o.o. stwierdzam, ż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posiada ona cechy innowacyjności, które wiąże się zarówno z oferowany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systemem zdalnego monitorowania i zarządzania rozproszonymi obiekta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energetycznymi jakim są węzły ciepłownicze, kotłownie, instalacje wentyla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i klimatyzacyjne oraz ogrzewcze - występujące pod symbolem Prom@r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System (PMS)- jak i ze stosowanymi nowoczesnymi urządzeniami procesowy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raz oferowanym oprogramowaniem. (…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09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01F5-83DC-4B54-99D5-D5398FDD24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ADB61-6E8A-47F9-AFB0-D5FCBABED048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ZAUFALI NA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41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1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1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1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41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1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42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2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422" name="Łącznik prosty 18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3" name="Łącznik prosty 19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4" name="Łącznik prosty 20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5" name="Łącznik prosty 21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6" name="Łącznik prosty 22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7" name="Łącznik prosty 23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28" name="Łącznik prosty 24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29" name="Łącznik prosty 2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359080" cy="604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" descr=""/>
          <p:cNvPicPr/>
          <p:nvPr/>
        </p:nvPicPr>
        <p:blipFill>
          <a:blip r:embed="rId18"/>
          <a:stretch/>
        </p:blipFill>
        <p:spPr>
          <a:xfrm>
            <a:off x="1650960" y="1289160"/>
            <a:ext cx="7353360" cy="5067360"/>
          </a:xfrm>
          <a:prstGeom prst="rect">
            <a:avLst/>
          </a:prstGeom>
          <a:ln w="0">
            <a:noFill/>
          </a:ln>
        </p:spPr>
      </p:pic>
      <p:pic>
        <p:nvPicPr>
          <p:cNvPr id="431" name="Łącznik prosty 29" descr=""/>
          <p:cNvPicPr/>
          <p:nvPr/>
        </p:nvPicPr>
        <p:blipFill>
          <a:blip r:embed="rId19"/>
          <a:stretch/>
        </p:blipFill>
        <p:spPr>
          <a:xfrm>
            <a:off x="60480" y="2206800"/>
            <a:ext cx="1353960" cy="36360"/>
          </a:xfrm>
          <a:prstGeom prst="rect">
            <a:avLst/>
          </a:prstGeom>
          <a:ln w="0">
            <a:noFill/>
          </a:ln>
        </p:spPr>
      </p:pic>
      <p:pic>
        <p:nvPicPr>
          <p:cNvPr id="432" name="Łącznik prosty 30" descr=""/>
          <p:cNvPicPr/>
          <p:nvPr/>
        </p:nvPicPr>
        <p:blipFill>
          <a:blip r:embed="rId20"/>
          <a:stretch/>
        </p:blipFill>
        <p:spPr>
          <a:xfrm>
            <a:off x="60480" y="1695600"/>
            <a:ext cx="1353960" cy="36360"/>
          </a:xfrm>
          <a:prstGeom prst="rect">
            <a:avLst/>
          </a:prstGeom>
          <a:ln w="0">
            <a:noFill/>
          </a:ln>
        </p:spPr>
      </p:pic>
      <p:sp>
        <p:nvSpPr>
          <p:cNvPr id="433" name="Prostokąt z rogami zaokrąglonymi z jednej strony 26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rostokąt z rogami zaokrąglonymi z jednej strony 27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rostokąt z rogami zaokrąglonymi z jednej strony 28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rostokąt z rogami zaokrąglonymi z jednej strony 31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rostokąt z rogami zaokrąglonymi z jednej strony 32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39" name="pole tekstowe 34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04C2-3C50-4CEE-98EE-704FA470819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584BD-EA2E-48F6-B3FA-E6847C4F709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KONI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444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45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46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47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448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449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450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451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452" name="Łącznik prosty 18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3" name="Łącznik prosty 19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4" name="Łącznik prosty 20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5" name="Łącznik prosty 21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6" name="Łącznik prosty 22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7" name="Łącznik prosty 23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58" name="Łącznik prosty 24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459" name="Łącznik prosty 2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2359080" cy="60480"/>
          </a:xfrm>
          <a:prstGeom prst="rect">
            <a:avLst/>
          </a:prstGeom>
          <a:ln w="0">
            <a:noFill/>
          </a:ln>
        </p:spPr>
      </p:pic>
      <p:pic>
        <p:nvPicPr>
          <p:cNvPr id="460" name="Łącznik prosty 26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461" name="Łącznik prosty 27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462" name="Prostokąt 9"/>
          <p:cNvSpPr/>
          <p:nvPr/>
        </p:nvSpPr>
        <p:spPr>
          <a:xfrm>
            <a:off x="1760400" y="3370320"/>
            <a:ext cx="7266240" cy="17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Dostęp demo do systemu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http://monitoring.promar.com.pl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Login : 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1" lang="pl-PL" sz="3200" spc="-1" strike="noStrike">
                <a:solidFill>
                  <a:srgbClr val="404040"/>
                </a:solidFill>
                <a:latin typeface="Calibri"/>
              </a:rPr>
              <a:t>Hasło : prom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rostokąt 30" descr=""/>
          <p:cNvPicPr/>
          <p:nvPr/>
        </p:nvPicPr>
        <p:blipFill>
          <a:blip r:embed="rId21"/>
          <a:stretch/>
        </p:blipFill>
        <p:spPr>
          <a:xfrm>
            <a:off x="1663560" y="1468440"/>
            <a:ext cx="7205760" cy="1268280"/>
          </a:xfrm>
          <a:prstGeom prst="rect">
            <a:avLst/>
          </a:prstGeom>
          <a:ln w="0">
            <a:noFill/>
          </a:ln>
        </p:spPr>
      </p:pic>
      <p:sp>
        <p:nvSpPr>
          <p:cNvPr id="464" name="Prostokąt z rogami zaokrąglonymi z jednej strony 29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rostokąt z rogami zaokrąglonymi z jednej strony 31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rostokąt z rogami zaokrąglonymi z jednej strony 32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rostokąt z rogami zaokrąglonymi z jednej strony 33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rostokąt z rogami zaokrąglonymi z jednej strony 34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Obraz 8" descr="reka-psdBezTla.png"/>
          <p:cNvPicPr/>
          <p:nvPr/>
        </p:nvPicPr>
        <p:blipFill>
          <a:blip r:embed="rId2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470" name="pole tekstowe 36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12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HISTO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ymbol zastępczy numeru slajdu 5"/>
          <p:cNvSpPr/>
          <p:nvPr/>
        </p:nvSpPr>
        <p:spPr>
          <a:xfrm>
            <a:off x="6553080" y="6356520"/>
            <a:ext cx="2376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rostokąt z rogami zaokrąglonymi z jednej strony 32"/>
          <p:cNvSpPr/>
          <p:nvPr/>
        </p:nvSpPr>
        <p:spPr>
          <a:xfrm rot="10800000">
            <a:off x="1128240" y="1213920"/>
            <a:ext cx="1127160" cy="428760"/>
          </a:xfrm>
          <a:prstGeom prst="pi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rostokąt z rogami zaokrąglonymi z jednej strony 39" descr=""/>
          <p:cNvPicPr/>
          <p:nvPr/>
        </p:nvPicPr>
        <p:blipFill>
          <a:blip r:embed="rId1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59" name="Prostokąt z rogami zaokrąglonymi z jednej strony 41" descr=""/>
          <p:cNvPicPr/>
          <p:nvPr/>
        </p:nvPicPr>
        <p:blipFill>
          <a:blip r:embed="rId2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60" name="Prostokąt z rogami zaokrąglonymi z jednej strony 47" descr=""/>
          <p:cNvPicPr/>
          <p:nvPr/>
        </p:nvPicPr>
        <p:blipFill>
          <a:blip r:embed="rId3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61" name="Prostokąt z rogami zaokrąglonymi z jednej strony 48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62" name="Prostokąt z rogami zaokrąglonymi z jednej strony 49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63" name="Prostokąt z rogami zaokrąglonymi z jednej strony 50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64" name="Prostokąt z rogami zaokrąglonymi z jednej strony 51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65" name="Prostokąt z rogami zaokrąglonymi z jednej strony 52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66" name="Łącznik prosty 54" descr=""/>
          <p:cNvPicPr/>
          <p:nvPr/>
        </p:nvPicPr>
        <p:blipFill>
          <a:blip r:embed="rId9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67" name="Obraz 74" descr="logo_promar.png"/>
          <p:cNvPicPr/>
          <p:nvPr/>
        </p:nvPicPr>
        <p:blipFill>
          <a:blip r:embed="rId10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68" name="Prostokąt z rogami zaokrąglonymi z jednej strony 90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rostokąt z rogami zaokrąglonymi z jednej strony 91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rostokąt z rogami zaokrąglonymi z jednej strony 92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rostokąt z rogami zaokrąglonymi z jednej strony 93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rostokąt z rogami zaokrąglonymi z jednej strony 94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Łącznik prosty 101" descr=""/>
          <p:cNvPicPr/>
          <p:nvPr/>
        </p:nvPicPr>
        <p:blipFill>
          <a:blip r:embed="rId11"/>
          <a:stretch/>
        </p:blipFill>
        <p:spPr>
          <a:xfrm>
            <a:off x="23760" y="2189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4" name="Łącznik prosty 111" descr=""/>
          <p:cNvPicPr/>
          <p:nvPr/>
        </p:nvPicPr>
        <p:blipFill>
          <a:blip r:embed="rId12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75" name="Łącznik prosty 114" descr=""/>
          <p:cNvPicPr/>
          <p:nvPr/>
        </p:nvPicPr>
        <p:blipFill>
          <a:blip r:embed="rId13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6" name="Łącznik prosty 115" descr=""/>
          <p:cNvPicPr/>
          <p:nvPr/>
        </p:nvPicPr>
        <p:blipFill>
          <a:blip r:embed="rId14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7" name="Łącznik prosty 116" descr=""/>
          <p:cNvPicPr/>
          <p:nvPr/>
        </p:nvPicPr>
        <p:blipFill>
          <a:blip r:embed="rId15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78" name="Łącznik prosty 117" descr=""/>
          <p:cNvPicPr/>
          <p:nvPr/>
        </p:nvPicPr>
        <p:blipFill>
          <a:blip r:embed="rId16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79" name="Łącznik prosty 118" descr=""/>
          <p:cNvPicPr/>
          <p:nvPr/>
        </p:nvPicPr>
        <p:blipFill>
          <a:blip r:embed="rId17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sp>
        <p:nvSpPr>
          <p:cNvPr id="80" name="pole tekstowe 122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ole tekstowe 123"/>
          <p:cNvSpPr/>
          <p:nvPr/>
        </p:nvSpPr>
        <p:spPr>
          <a:xfrm>
            <a:off x="1468440" y="1214280"/>
            <a:ext cx="7675560" cy="50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PROMAR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jest firmą inżynierską znajdującą się na rynku Polskim od 1994 roku. Od początku istnienia firmy naszym nadrzędnym celem jest zaspakajanie potrzeb inwestorów  w sposób kompleksow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Nasze atu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Wykwalifikowana kadra specjalistów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Nowoczesny sprzę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Wykorzystanie najnowszych technologi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Dzięki temu jesteśmy w stanie :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buSzPct val="10283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Opracowywać, wytwarzać i dostarczać produktu najwyższej jakości,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       uwzględniający wszelkie życzenia i wymagania klie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Filozofia działania naszej firmy zawarta jest w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                      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	</a:t>
            </a:r>
            <a:r>
              <a:rPr b="0" lang="pl-PL" sz="1600" spc="-1" strike="noStrike">
                <a:solidFill>
                  <a:srgbClr val="404040"/>
                </a:solidFill>
                <a:latin typeface="Calibri"/>
                <a:ea typeface="Tahoma"/>
              </a:rPr>
              <a:t>          naszym motto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1600" spc="-1" strike="noStrike">
                <a:solidFill>
                  <a:srgbClr val="f8c400"/>
                </a:solidFill>
                <a:latin typeface="Calibri"/>
              </a:rPr>
              <a:t>	</a:t>
            </a:r>
            <a:r>
              <a:rPr b="1" lang="pl-PL" sz="2000" spc="-1" strike="noStrike">
                <a:solidFill>
                  <a:srgbClr val="f8c400"/>
                </a:solidFill>
                <a:latin typeface="Calibri"/>
              </a:rPr>
              <a:t>        </a:t>
            </a:r>
            <a:r>
              <a:rPr b="1" lang="pl-PL" sz="20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" descr="C:\Users\Bartosz Marciniak\Documents\Work\PROMAR\Marketing&amp;PR\Logo\INNE\gazele2007.png"/>
          <p:cNvPicPr/>
          <p:nvPr/>
        </p:nvPicPr>
        <p:blipFill>
          <a:blip r:embed="rId22"/>
          <a:stretch/>
        </p:blipFill>
        <p:spPr>
          <a:xfrm>
            <a:off x="7372440" y="2114640"/>
            <a:ext cx="1763640" cy="2209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C:\Users\Bartosz Marciniak\Documents\Work\PROMAR\Marketing&amp;PR\Kupione zdjęcia\Fotolia_3155289_M.jpg"/>
          <p:cNvPicPr/>
          <p:nvPr/>
        </p:nvPicPr>
        <p:blipFill>
          <a:blip r:embed="rId23"/>
          <a:stretch/>
        </p:blipFill>
        <p:spPr>
          <a:xfrm>
            <a:off x="1895400" y="5133960"/>
            <a:ext cx="2357640" cy="1573200"/>
          </a:xfrm>
          <a:prstGeom prst="rect">
            <a:avLst/>
          </a:prstGeom>
          <a:ln w="0">
            <a:noFill/>
          </a:ln>
        </p:spPr>
      </p:pic>
      <p:pic>
        <p:nvPicPr>
          <p:cNvPr id="84" name="Obraz 8" descr="reka-psdBezTla.png"/>
          <p:cNvPicPr/>
          <p:nvPr/>
        </p:nvPicPr>
        <p:blipFill>
          <a:blip r:embed="rId24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2D67-7AB3-4FBC-9BAD-D3530B5F3DD0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O 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Obraz 30" descr="logo_promar.png"/>
          <p:cNvPicPr/>
          <p:nvPr/>
        </p:nvPicPr>
        <p:blipFill>
          <a:blip r:embed="rId1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88" name="pole tekstowe 33"/>
          <p:cNvSpPr/>
          <p:nvPr/>
        </p:nvSpPr>
        <p:spPr>
          <a:xfrm>
            <a:off x="1468440" y="1214280"/>
            <a:ext cx="3322800" cy="27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Wentyl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Klimatyzacj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Ciepłownic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Zestawy hydroforow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Budownictwo ekolog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Układy automatyki i sterow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ole tekstowe 49"/>
          <p:cNvSpPr/>
          <p:nvPr/>
        </p:nvSpPr>
        <p:spPr>
          <a:xfrm>
            <a:off x="5364000" y="3160800"/>
            <a:ext cx="3322800" cy="337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Projektowan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Realizac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Serw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Eksploatac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Monitor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Audyty energety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7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Calibri"/>
              </a:rPr>
              <a:t>Doradztw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" descr=""/>
          <p:cNvPicPr/>
          <p:nvPr/>
        </p:nvPicPr>
        <p:blipFill>
          <a:blip r:embed="rId15"/>
          <a:stretch/>
        </p:blipFill>
        <p:spPr>
          <a:xfrm>
            <a:off x="4791240" y="1495440"/>
            <a:ext cx="3668400" cy="15699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16"/>
          <a:stretch/>
        </p:blipFill>
        <p:spPr>
          <a:xfrm>
            <a:off x="1614600" y="4233960"/>
            <a:ext cx="3349440" cy="1885680"/>
          </a:xfrm>
          <a:prstGeom prst="rect">
            <a:avLst/>
          </a:prstGeom>
          <a:ln w="0">
            <a:noFill/>
          </a:ln>
        </p:spPr>
      </p:pic>
      <p:pic>
        <p:nvPicPr>
          <p:cNvPr id="92" name="Łącznik prosty 55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262160" cy="60480"/>
          </a:xfrm>
          <a:prstGeom prst="rect">
            <a:avLst/>
          </a:prstGeom>
          <a:ln w="0">
            <a:noFill/>
          </a:ln>
        </p:spPr>
      </p:pic>
      <p:pic>
        <p:nvPicPr>
          <p:cNvPr id="93" name="Prostokąt z rogami zaokrąglonymi z jednej strony 66" descr=""/>
          <p:cNvPicPr/>
          <p:nvPr/>
        </p:nvPicPr>
        <p:blipFill>
          <a:blip r:embed="rId18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94" name="Prostokąt z rogami zaokrąglonymi z jednej strony 67" descr=""/>
          <p:cNvPicPr/>
          <p:nvPr/>
        </p:nvPicPr>
        <p:blipFill>
          <a:blip r:embed="rId19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95" name="Prostokąt z rogami zaokrąglonymi z jednej strony 68" descr=""/>
          <p:cNvPicPr/>
          <p:nvPr/>
        </p:nvPicPr>
        <p:blipFill>
          <a:blip r:embed="rId20"/>
          <a:stretch/>
        </p:blipFill>
        <p:spPr>
          <a:xfrm>
            <a:off x="-6480" y="1725480"/>
            <a:ext cx="1481400" cy="505080"/>
          </a:xfrm>
          <a:prstGeom prst="rect">
            <a:avLst/>
          </a:prstGeom>
          <a:ln w="0">
            <a:noFill/>
          </a:ln>
        </p:spPr>
      </p:pic>
      <p:pic>
        <p:nvPicPr>
          <p:cNvPr id="96" name="Prostokąt z rogami zaokrąglonymi z jednej strony 69" descr=""/>
          <p:cNvPicPr/>
          <p:nvPr/>
        </p:nvPicPr>
        <p:blipFill>
          <a:blip r:embed="rId21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97" name="Prostokąt z rogami zaokrąglonymi z jednej strony 70" descr=""/>
          <p:cNvPicPr/>
          <p:nvPr/>
        </p:nvPicPr>
        <p:blipFill>
          <a:blip r:embed="rId22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98" name="Prostokąt z rogami zaokrąglonymi z jednej strony 71" descr=""/>
          <p:cNvPicPr/>
          <p:nvPr/>
        </p:nvPicPr>
        <p:blipFill>
          <a:blip r:embed="rId23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99" name="Prostokąt z rogami zaokrąglonymi z jednej strony 72" descr=""/>
          <p:cNvPicPr/>
          <p:nvPr/>
        </p:nvPicPr>
        <p:blipFill>
          <a:blip r:embed="rId24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00" name="Prostokąt z rogami zaokrąglonymi z jednej strony 73" descr=""/>
          <p:cNvPicPr/>
          <p:nvPr/>
        </p:nvPicPr>
        <p:blipFill>
          <a:blip r:embed="rId25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01" name="Łącznik prosty 74" descr=""/>
          <p:cNvPicPr/>
          <p:nvPr/>
        </p:nvPicPr>
        <p:blipFill>
          <a:blip r:embed="rId26"/>
          <a:stretch/>
        </p:blipFill>
        <p:spPr>
          <a:xfrm>
            <a:off x="23760" y="2189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2" name="Łącznik prosty 75" descr=""/>
          <p:cNvPicPr/>
          <p:nvPr/>
        </p:nvPicPr>
        <p:blipFill>
          <a:blip r:embed="rId27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03" name="Łącznik prosty 76" descr=""/>
          <p:cNvPicPr/>
          <p:nvPr/>
        </p:nvPicPr>
        <p:blipFill>
          <a:blip r:embed="rId28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4" name="Łącznik prosty 77" descr=""/>
          <p:cNvPicPr/>
          <p:nvPr/>
        </p:nvPicPr>
        <p:blipFill>
          <a:blip r:embed="rId29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05" name="Łącznik prosty 78" descr=""/>
          <p:cNvPicPr/>
          <p:nvPr/>
        </p:nvPicPr>
        <p:blipFill>
          <a:blip r:embed="rId30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06" name="Łącznik prosty 79" descr=""/>
          <p:cNvPicPr/>
          <p:nvPr/>
        </p:nvPicPr>
        <p:blipFill>
          <a:blip r:embed="rId31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107" name="Prostokąt z rogami zaokrąglonymi z jednej strony 9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rostokąt z rogami zaokrąglonymi z jednej strony 9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rostokąt z rogami zaokrąglonymi z jednej strony 9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rostokąt z rogami zaokrąglonymi z jednej strony 9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rostokąt z rogami zaokrąglonymi z jednej strony 9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Obraz 8" descr="reka-psdBezTla.png"/>
          <p:cNvPicPr/>
          <p:nvPr/>
        </p:nvPicPr>
        <p:blipFill>
          <a:blip r:embed="rId32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13" name="pole tekstowe 9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Łącznik prosty 100" descr=""/>
          <p:cNvPicPr/>
          <p:nvPr/>
        </p:nvPicPr>
        <p:blipFill>
          <a:blip r:embed="rId33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7CFB7-B165-4AC6-932D-F406934C2444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P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18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19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20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64160"/>
            <a:ext cx="1481400" cy="504720"/>
          </a:xfrm>
          <a:prstGeom prst="rect">
            <a:avLst/>
          </a:prstGeom>
          <a:ln w="0">
            <a:noFill/>
          </a:ln>
        </p:spPr>
      </p:pic>
      <p:pic>
        <p:nvPicPr>
          <p:cNvPr id="121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22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23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24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25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26" name="pole tekstowe 21"/>
          <p:cNvSpPr/>
          <p:nvPr/>
        </p:nvSpPr>
        <p:spPr>
          <a:xfrm>
            <a:off x="1468440" y="1165320"/>
            <a:ext cx="7675560" cy="22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zym jest PROM@R MONITORING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la kogo jes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Jakie urządzenia współpracują z system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Innowacyjność rozwiązani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Łącznik prosty 22" descr=""/>
          <p:cNvPicPr/>
          <p:nvPr/>
        </p:nvPicPr>
        <p:blipFill>
          <a:blip r:embed="rId15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28" name="Łącznik prosty 23" descr=""/>
          <p:cNvPicPr/>
          <p:nvPr/>
        </p:nvPicPr>
        <p:blipFill>
          <a:blip r:embed="rId16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29" name="Łącznik prosty 24" descr=""/>
          <p:cNvPicPr/>
          <p:nvPr/>
        </p:nvPicPr>
        <p:blipFill>
          <a:blip r:embed="rId17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0" name="Łącznik prosty 25" descr=""/>
          <p:cNvPicPr/>
          <p:nvPr/>
        </p:nvPicPr>
        <p:blipFill>
          <a:blip r:embed="rId18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1" name="Łącznik prosty 26" descr=""/>
          <p:cNvPicPr/>
          <p:nvPr/>
        </p:nvPicPr>
        <p:blipFill>
          <a:blip r:embed="rId19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32" name="Łącznik prosty 27" descr=""/>
          <p:cNvPicPr/>
          <p:nvPr/>
        </p:nvPicPr>
        <p:blipFill>
          <a:blip r:embed="rId20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33" name="Łącznik prosty 28" descr=""/>
          <p:cNvPicPr/>
          <p:nvPr/>
        </p:nvPicPr>
        <p:blipFill>
          <a:blip r:embed="rId21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34" name="Łącznik prosty 29" descr=""/>
          <p:cNvPicPr/>
          <p:nvPr/>
        </p:nvPicPr>
        <p:blipFill>
          <a:blip r:embed="rId22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7" descr="C:\Users\Bartosz Marciniak\Documents\Work\PROMAR\Marketing&amp;PR\Kupione zdjęcia\Fotolia_730288_M.jpg"/>
          <p:cNvPicPr/>
          <p:nvPr/>
        </p:nvPicPr>
        <p:blipFill>
          <a:blip r:embed="rId23"/>
          <a:stretch/>
        </p:blipFill>
        <p:spPr>
          <a:xfrm>
            <a:off x="3476520" y="3489480"/>
            <a:ext cx="3797280" cy="2530440"/>
          </a:xfrm>
          <a:prstGeom prst="rect">
            <a:avLst/>
          </a:prstGeom>
          <a:ln w="0">
            <a:noFill/>
          </a:ln>
        </p:spPr>
      </p:pic>
      <p:sp>
        <p:nvSpPr>
          <p:cNvPr id="136" name="Prostokąt z rogami zaokrąglonymi z jednej strony 38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rostokąt z rogami zaokrąglonymi z jednej strony 39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rostokąt z rogami zaokrąglonymi z jednej strony 40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rostokąt z rogami zaokrąglonymi z jednej strony 41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rostokąt z rogami zaokrąglonymi z jednej strony 42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Obraz 8" descr="reka-psdBezTla.png"/>
          <p:cNvPicPr/>
          <p:nvPr/>
        </p:nvPicPr>
        <p:blipFill>
          <a:blip r:embed="rId24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42" name="pole tekstowe 44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E6807-043D-4499-BDF5-54A1027DFC2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FUNKC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4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4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4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4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5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5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5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5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54" name="pole tekstowe 21"/>
          <p:cNvSpPr/>
          <p:nvPr/>
        </p:nvSpPr>
        <p:spPr>
          <a:xfrm>
            <a:off x="1468440" y="1228680"/>
            <a:ext cx="76755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nitorowanie i sterowanie automatyką różnych produce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dczyt liczników : ciepła, wody, gazu, energii elektryczne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nitorowanie czujników : gazu, temperatury, wilgotności , obecności w         pomieszczeniu, ciśnienia it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Łącznik prosty 22" descr=""/>
          <p:cNvPicPr/>
          <p:nvPr/>
        </p:nvPicPr>
        <p:blipFill>
          <a:blip r:embed="rId13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6" name="Łącznik prosty 23" descr=""/>
          <p:cNvPicPr/>
          <p:nvPr/>
        </p:nvPicPr>
        <p:blipFill>
          <a:blip r:embed="rId14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57" name="Łącznik prosty 24" descr=""/>
          <p:cNvPicPr/>
          <p:nvPr/>
        </p:nvPicPr>
        <p:blipFill>
          <a:blip r:embed="rId15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8" name="Łącznik prosty 25" descr=""/>
          <p:cNvPicPr/>
          <p:nvPr/>
        </p:nvPicPr>
        <p:blipFill>
          <a:blip r:embed="rId16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59" name="Łącznik prosty 26" descr=""/>
          <p:cNvPicPr/>
          <p:nvPr/>
        </p:nvPicPr>
        <p:blipFill>
          <a:blip r:embed="rId17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60" name="Łącznik prosty 27" descr=""/>
          <p:cNvPicPr/>
          <p:nvPr/>
        </p:nvPicPr>
        <p:blipFill>
          <a:blip r:embed="rId18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61" name="Łącznik prosty 28" descr=""/>
          <p:cNvPicPr/>
          <p:nvPr/>
        </p:nvPicPr>
        <p:blipFill>
          <a:blip r:embed="rId19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62" name="Łącznik prosty 29" descr=""/>
          <p:cNvPicPr/>
          <p:nvPr/>
        </p:nvPicPr>
        <p:blipFill>
          <a:blip r:embed="rId20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63" name="Łącznik prosty 30" descr=""/>
          <p:cNvPicPr/>
          <p:nvPr/>
        </p:nvPicPr>
        <p:blipFill>
          <a:blip r:embed="rId21"/>
          <a:stretch/>
        </p:blipFill>
        <p:spPr>
          <a:xfrm>
            <a:off x="60480" y="1695600"/>
            <a:ext cx="1353960" cy="36360"/>
          </a:xfrm>
          <a:prstGeom prst="rect">
            <a:avLst/>
          </a:prstGeom>
          <a:ln w="0">
            <a:noFill/>
          </a:ln>
        </p:spPr>
      </p:pic>
      <p:pic>
        <p:nvPicPr>
          <p:cNvPr id="164" name="Łącznik prosty 31" descr=""/>
          <p:cNvPicPr/>
          <p:nvPr/>
        </p:nvPicPr>
        <p:blipFill>
          <a:blip r:embed="rId22"/>
          <a:stretch/>
        </p:blipFill>
        <p:spPr>
          <a:xfrm>
            <a:off x="60480" y="2206800"/>
            <a:ext cx="1353960" cy="36360"/>
          </a:xfrm>
          <a:prstGeom prst="rect">
            <a:avLst/>
          </a:prstGeom>
          <a:ln w="0">
            <a:noFill/>
          </a:ln>
        </p:spPr>
      </p:pic>
      <p:sp>
        <p:nvSpPr>
          <p:cNvPr id="165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Obraz 8" descr="reka-psdBezTla.png"/>
          <p:cNvPicPr/>
          <p:nvPr/>
        </p:nvPicPr>
        <p:blipFill>
          <a:blip r:embed="rId23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171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6" descr="C:\Users\Bartosz Marciniak\Documents\Work\PROMAR\Marketing&amp;PR\Konferencje\PREDA_GDAŃSK\Grafika\Fotolia_319329_M.jpg"/>
          <p:cNvPicPr/>
          <p:nvPr/>
        </p:nvPicPr>
        <p:blipFill>
          <a:blip r:embed="rId24"/>
          <a:srcRect l="0" t="0" r="0" b="49468"/>
          <a:stretch/>
        </p:blipFill>
        <p:spPr>
          <a:xfrm>
            <a:off x="3075120" y="3916440"/>
            <a:ext cx="4371840" cy="14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14E73-AC1D-4D3A-A70E-EF00ADBD5613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17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7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7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7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18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18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18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18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184" name="pole tekstowe 21"/>
          <p:cNvSpPr/>
          <p:nvPr/>
        </p:nvSpPr>
        <p:spPr>
          <a:xfrm>
            <a:off x="1468440" y="1200240"/>
            <a:ext cx="7675560" cy="40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AS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Firma PROMAR Sp. z o.o. zgodnie z umową o Świadczeniu Usług Promar Monitoring System Nr ../…/PMS/07 świadczy usługi monitoringu, eksploatacji i serwisu węzłów ciepln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ane urządzeń (3 węzły razem)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Moc cieplna zamówiona w  PEC = 1200,0 kW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bliczeniowe natężenie przepływu ustalone przez PEC  = 14,03 m3/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Taryfa w rozliczeniach za ciepło -  G.1.1.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Umowa z  klientem została podpisana w 2007 ro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Łącznik prosty 22" descr=""/>
          <p:cNvPicPr/>
          <p:nvPr/>
        </p:nvPicPr>
        <p:blipFill>
          <a:blip r:embed="rId17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6" name="Łącznik prosty 23" descr=""/>
          <p:cNvPicPr/>
          <p:nvPr/>
        </p:nvPicPr>
        <p:blipFill>
          <a:blip r:embed="rId18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87" name="Łącznik prosty 24" descr=""/>
          <p:cNvPicPr/>
          <p:nvPr/>
        </p:nvPicPr>
        <p:blipFill>
          <a:blip r:embed="rId19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8" name="Łącznik prosty 25" descr=""/>
          <p:cNvPicPr/>
          <p:nvPr/>
        </p:nvPicPr>
        <p:blipFill>
          <a:blip r:embed="rId20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89" name="Łącznik prosty 26" descr=""/>
          <p:cNvPicPr/>
          <p:nvPr/>
        </p:nvPicPr>
        <p:blipFill>
          <a:blip r:embed="rId21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90" name="Łącznik prosty 27" descr=""/>
          <p:cNvPicPr/>
          <p:nvPr/>
        </p:nvPicPr>
        <p:blipFill>
          <a:blip r:embed="rId22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1" name="Łącznik prosty 28" descr=""/>
          <p:cNvPicPr/>
          <p:nvPr/>
        </p:nvPicPr>
        <p:blipFill>
          <a:blip r:embed="rId23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192" name="Łącznik prosty 29" descr=""/>
          <p:cNvPicPr/>
          <p:nvPr/>
        </p:nvPicPr>
        <p:blipFill>
          <a:blip r:embed="rId24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193" name="Łącznik prosty 30" descr=""/>
          <p:cNvPicPr/>
          <p:nvPr/>
        </p:nvPicPr>
        <p:blipFill>
          <a:blip r:embed="rId25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4" name="Łącznik prosty 31" descr=""/>
          <p:cNvPicPr/>
          <p:nvPr/>
        </p:nvPicPr>
        <p:blipFill>
          <a:blip r:embed="rId26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2" descr=""/>
          <p:cNvPicPr/>
          <p:nvPr/>
        </p:nvPicPr>
        <p:blipFill>
          <a:blip r:embed="rId27"/>
          <a:srcRect l="0" t="0" r="0" b="66112"/>
          <a:stretch/>
        </p:blipFill>
        <p:spPr>
          <a:xfrm>
            <a:off x="1820880" y="4718160"/>
            <a:ext cx="6657840" cy="2003400"/>
          </a:xfrm>
          <a:prstGeom prst="rect">
            <a:avLst/>
          </a:prstGeom>
          <a:ln w="0">
            <a:noFill/>
          </a:ln>
        </p:spPr>
      </p:pic>
      <p:sp>
        <p:nvSpPr>
          <p:cNvPr id="196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Obraz 8" descr="reka-psdBezTla.png"/>
          <p:cNvPicPr/>
          <p:nvPr/>
        </p:nvPicPr>
        <p:blipFill>
          <a:blip r:embed="rId28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02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4A917-E113-4EFF-90AD-803EDA662D8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ytuł 1"/>
          <p:cNvSpPr/>
          <p:nvPr/>
        </p:nvSpPr>
        <p:spPr>
          <a:xfrm>
            <a:off x="0" y="-3240"/>
            <a:ext cx="9144000" cy="1214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0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0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0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0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1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1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1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1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214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5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16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7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18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19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20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21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22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23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4" name=""/>
          <p:cNvGraphicFramePr/>
          <p:nvPr/>
        </p:nvGraphicFramePr>
        <p:xfrm>
          <a:off x="1577880" y="1622520"/>
          <a:ext cx="7529760" cy="4763880"/>
        </p:xfrm>
        <a:graphic>
          <a:graphicData uri="http://schemas.openxmlformats.org/drawingml/2006/table">
            <a:tbl>
              <a:tblPr/>
              <a:tblGrid>
                <a:gridCol w="976320"/>
                <a:gridCol w="725400"/>
                <a:gridCol w="781200"/>
                <a:gridCol w="612720"/>
                <a:gridCol w="773280"/>
                <a:gridCol w="871560"/>
                <a:gridCol w="996840"/>
                <a:gridCol w="882720"/>
                <a:gridCol w="909720"/>
              </a:tblGrid>
              <a:tr h="5979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uruchomienia Promar Monitoring System – 09.2007 r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esią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użycie energii cieplnej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a temperatura zewnętrzn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liczeniowe zużycie dla zadanej Tz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óżnica pomiędz zużyciem obliczeniowym a rzeczywisty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centowa zmiana zużycia po zastosowaniu 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ysk/Strata (-) przy obecnej taryfi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</a:t>
                      </a:r>
                      <a:r>
                        <a:rPr b="1" lang="pl-PL" sz="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o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GJ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%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[ zł ]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ździer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71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ździernik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40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3,3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7,3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3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501,3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op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41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stopad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5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82,5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86,9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6,3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832,7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dz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2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udz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88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53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5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2,99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53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czeń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13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7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yczeń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9,7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26,2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16,5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138,7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89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uty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4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2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8,3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1,70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900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z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24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0,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zec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66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70,9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4,8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37,81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688,9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iec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77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wiecień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,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7,3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5,74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15,0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4328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średnie procentowe oszczędności wynikające z zastosowania 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6,72%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f2dddc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280">
                <a:tc gridSpan="9">
                  <a:txBody>
                    <a:bodyPr lIns="5760" rIns="5760" tIns="57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ZEM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z monitoringu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zon grzewcz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5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817,0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,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dbe5f1"/>
                    </a:solidFill>
                  </a:tcPr>
                </a:tc>
              </a:tr>
              <a:tr h="280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MS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936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zon grzewcz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7/200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85,6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928,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760" marR="5760">
                    <a:lnL w="288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sp>
        <p:nvSpPr>
          <p:cNvPr id="225" name="Prostokąt 34"/>
          <p:cNvSpPr/>
          <p:nvPr/>
        </p:nvSpPr>
        <p:spPr>
          <a:xfrm>
            <a:off x="1520280" y="1214280"/>
            <a:ext cx="306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indent="45072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20"/>
              </a:buBlip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Zestawienie porównawcz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rostokąt z rogami zaokrąglonymi z jednej strony 35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rostokąt z rogami zaokrąglonymi z jednej strony 36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rostokąt z rogami zaokrąglonymi z jednej strony 37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rostokąt z rogami zaokrąglonymi z jednej strony 38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32" name="pole tekstowe 40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F026-625D-4548-AA33-766E7C7FB65B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ytuł 1"/>
          <p:cNvSpPr/>
          <p:nvPr/>
        </p:nvSpPr>
        <p:spPr>
          <a:xfrm>
            <a:off x="0" y="0"/>
            <a:ext cx="9144000" cy="12142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36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37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38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39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40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41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42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43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pic>
        <p:nvPicPr>
          <p:cNvPr id="244" name="Łącznik prosty 22" descr=""/>
          <p:cNvPicPr/>
          <p:nvPr/>
        </p:nvPicPr>
        <p:blipFill>
          <a:blip r:embed="rId10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5" name="Łącznik prosty 23" descr=""/>
          <p:cNvPicPr/>
          <p:nvPr/>
        </p:nvPicPr>
        <p:blipFill>
          <a:blip r:embed="rId11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46" name="Łącznik prosty 24" descr=""/>
          <p:cNvPicPr/>
          <p:nvPr/>
        </p:nvPicPr>
        <p:blipFill>
          <a:blip r:embed="rId12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7" name="Łącznik prosty 25" descr=""/>
          <p:cNvPicPr/>
          <p:nvPr/>
        </p:nvPicPr>
        <p:blipFill>
          <a:blip r:embed="rId13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48" name="Łącznik prosty 26" descr=""/>
          <p:cNvPicPr/>
          <p:nvPr/>
        </p:nvPicPr>
        <p:blipFill>
          <a:blip r:embed="rId14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49" name="Łącznik prosty 27" descr=""/>
          <p:cNvPicPr/>
          <p:nvPr/>
        </p:nvPicPr>
        <p:blipFill>
          <a:blip r:embed="rId15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0" name="Łącznik prosty 28" descr=""/>
          <p:cNvPicPr/>
          <p:nvPr/>
        </p:nvPicPr>
        <p:blipFill>
          <a:blip r:embed="rId16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51" name="Łącznik prosty 29" descr=""/>
          <p:cNvPicPr/>
          <p:nvPr/>
        </p:nvPicPr>
        <p:blipFill>
          <a:blip r:embed="rId17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52" name="Łącznik prosty 30" descr=""/>
          <p:cNvPicPr/>
          <p:nvPr/>
        </p:nvPicPr>
        <p:blipFill>
          <a:blip r:embed="rId18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3" name="Łącznik prosty 31" descr=""/>
          <p:cNvPicPr/>
          <p:nvPr/>
        </p:nvPicPr>
        <p:blipFill>
          <a:blip r:embed="rId19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54" name="Wykres 32" descr=""/>
          <p:cNvPicPr/>
          <p:nvPr/>
        </p:nvPicPr>
        <p:blipFill>
          <a:blip r:embed="rId20"/>
          <a:stretch/>
        </p:blipFill>
        <p:spPr>
          <a:xfrm>
            <a:off x="1352520" y="1206360"/>
            <a:ext cx="7651800" cy="4299120"/>
          </a:xfrm>
          <a:prstGeom prst="rect">
            <a:avLst/>
          </a:prstGeom>
          <a:ln w="0">
            <a:noFill/>
          </a:ln>
        </p:spPr>
      </p:pic>
      <p:sp>
        <p:nvSpPr>
          <p:cNvPr id="255" name="Prostokąt z rogami zaokrąglonymi z jednej strony 33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rostokąt z rogami zaokrąglonymi z jednej strony 34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rostokąt z rogami zaokrąglonymi z jednej strony 35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rostokąt z rogami zaokrąglonymi z jednej strony 36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rostokąt z rogami zaokrąglonymi z jednej strony 37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Obraz 8" descr="reka-psdBezTla.png"/>
          <p:cNvPicPr/>
          <p:nvPr/>
        </p:nvPicPr>
        <p:blipFill>
          <a:blip r:embed="rId21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61" name="pole tekstowe 39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Tytuł 1"/>
          <p:cNvSpPr/>
          <p:nvPr/>
        </p:nvSpPr>
        <p:spPr>
          <a:xfrm>
            <a:off x="0" y="-3240"/>
            <a:ext cx="9144000" cy="121464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pl-PL" sz="2800" spc="-1" strike="noStrike">
                <a:solidFill>
                  <a:srgbClr val="404040"/>
                </a:solidFill>
                <a:latin typeface="Calibri"/>
              </a:rPr>
              <a:t>EFEK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ymbol zastępczy numeru slajdu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F7ED-B3FC-4BBF-A6F7-B53685583B6F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rostokąt z rogami zaokrąglonymi z jednej strony 6" descr=""/>
          <p:cNvPicPr/>
          <p:nvPr/>
        </p:nvPicPr>
        <p:blipFill>
          <a:blip r:embed="rId1"/>
          <a:stretch/>
        </p:blipFill>
        <p:spPr>
          <a:xfrm>
            <a:off x="-6480" y="1206360"/>
            <a:ext cx="1481400" cy="513000"/>
          </a:xfrm>
          <a:prstGeom prst="rect">
            <a:avLst/>
          </a:prstGeom>
          <a:ln w="0">
            <a:noFill/>
          </a:ln>
        </p:spPr>
      </p:pic>
      <p:pic>
        <p:nvPicPr>
          <p:cNvPr id="265" name="Prostokąt z rogami zaokrąglonymi z jednej strony 7" descr=""/>
          <p:cNvPicPr/>
          <p:nvPr/>
        </p:nvPicPr>
        <p:blipFill>
          <a:blip r:embed="rId2"/>
          <a:stretch/>
        </p:blipFill>
        <p:spPr>
          <a:xfrm>
            <a:off x="-6480" y="170640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66" name="Prostokąt z rogami zaokrąglonymi z jednej strony 8" descr=""/>
          <p:cNvPicPr/>
          <p:nvPr/>
        </p:nvPicPr>
        <p:blipFill>
          <a:blip r:embed="rId3"/>
          <a:stretch/>
        </p:blipFill>
        <p:spPr>
          <a:xfrm>
            <a:off x="-6480" y="220032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67" name="Prostokąt z rogami zaokrąglonymi z jednej strony 9" descr=""/>
          <p:cNvPicPr/>
          <p:nvPr/>
        </p:nvPicPr>
        <p:blipFill>
          <a:blip r:embed="rId4"/>
          <a:stretch/>
        </p:blipFill>
        <p:spPr>
          <a:xfrm>
            <a:off x="-6480" y="467532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68" name="Prostokąt z rogami zaokrąglonymi z jednej strony 10" descr=""/>
          <p:cNvPicPr/>
          <p:nvPr/>
        </p:nvPicPr>
        <p:blipFill>
          <a:blip r:embed="rId5"/>
          <a:stretch/>
        </p:blipFill>
        <p:spPr>
          <a:xfrm>
            <a:off x="-42840" y="4181400"/>
            <a:ext cx="1536840" cy="506520"/>
          </a:xfrm>
          <a:prstGeom prst="rect">
            <a:avLst/>
          </a:prstGeom>
          <a:ln w="0">
            <a:noFill/>
          </a:ln>
        </p:spPr>
      </p:pic>
      <p:pic>
        <p:nvPicPr>
          <p:cNvPr id="269" name="Prostokąt z rogami zaokrąglonymi z jednej strony 11" descr=""/>
          <p:cNvPicPr/>
          <p:nvPr/>
        </p:nvPicPr>
        <p:blipFill>
          <a:blip r:embed="rId6"/>
          <a:stretch/>
        </p:blipFill>
        <p:spPr>
          <a:xfrm>
            <a:off x="-6480" y="3687840"/>
            <a:ext cx="1481400" cy="506160"/>
          </a:xfrm>
          <a:prstGeom prst="rect">
            <a:avLst/>
          </a:prstGeom>
          <a:ln w="0">
            <a:noFill/>
          </a:ln>
        </p:spPr>
      </p:pic>
      <p:pic>
        <p:nvPicPr>
          <p:cNvPr id="270" name="Prostokąt z rogami zaokrąglonymi z jednej strony 12" descr=""/>
          <p:cNvPicPr/>
          <p:nvPr/>
        </p:nvPicPr>
        <p:blipFill>
          <a:blip r:embed="rId7"/>
          <a:stretch/>
        </p:blipFill>
        <p:spPr>
          <a:xfrm>
            <a:off x="-6480" y="3187800"/>
            <a:ext cx="1481400" cy="512640"/>
          </a:xfrm>
          <a:prstGeom prst="rect">
            <a:avLst/>
          </a:prstGeom>
          <a:ln w="0">
            <a:noFill/>
          </a:ln>
        </p:spPr>
      </p:pic>
      <p:pic>
        <p:nvPicPr>
          <p:cNvPr id="271" name="Prostokąt z rogami zaokrąglonymi z jednej strony 13" descr=""/>
          <p:cNvPicPr/>
          <p:nvPr/>
        </p:nvPicPr>
        <p:blipFill>
          <a:blip r:embed="rId8"/>
          <a:stretch/>
        </p:blipFill>
        <p:spPr>
          <a:xfrm>
            <a:off x="-6480" y="2693880"/>
            <a:ext cx="1481400" cy="506520"/>
          </a:xfrm>
          <a:prstGeom prst="rect">
            <a:avLst/>
          </a:prstGeom>
          <a:ln w="0">
            <a:noFill/>
          </a:ln>
        </p:spPr>
      </p:pic>
      <p:pic>
        <p:nvPicPr>
          <p:cNvPr id="272" name="Obraz 14" descr="logo_promar.png"/>
          <p:cNvPicPr/>
          <p:nvPr/>
        </p:nvPicPr>
        <p:blipFill>
          <a:blip r:embed="rId9"/>
          <a:stretch/>
        </p:blipFill>
        <p:spPr>
          <a:xfrm>
            <a:off x="6799320" y="263520"/>
            <a:ext cx="2008080" cy="719280"/>
          </a:xfrm>
          <a:prstGeom prst="rect">
            <a:avLst/>
          </a:prstGeom>
          <a:ln w="0">
            <a:noFill/>
          </a:ln>
        </p:spPr>
      </p:pic>
      <p:sp>
        <p:nvSpPr>
          <p:cNvPr id="273" name="pole tekstowe 21"/>
          <p:cNvSpPr/>
          <p:nvPr/>
        </p:nvSpPr>
        <p:spPr>
          <a:xfrm>
            <a:off x="1468440" y="1200240"/>
            <a:ext cx="7675560" cy="48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CASE STUD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Dla wyliczenia oszczędności/strat przy stosowaniu systemu PMS  wykorzystano uproszczony wzór na zapotrzebowanie ciepł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 = 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  gdzie 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 = tp-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Przykład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r = zapotrzebowanie na ciepło 11.2005r (rzeczywist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2o= zapotrzebowanie na ciepło 11.2008r (obliczeniow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 = 1141 [GJ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Δt1 = tp-tz1 = 20 – 6,3 = 13,7 [o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Δt2 = tp-tz2 = 20 – 2,2 = 17,8 [oC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1r=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1 → K*F = Q1/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Q2o=K*F*</a:t>
            </a:r>
            <a:r>
              <a:rPr b="1" lang="el-GR" sz="1400" spc="-1" strike="noStrike">
                <a:solidFill>
                  <a:srgbClr val="404040"/>
                </a:solidFill>
                <a:latin typeface="Calibri"/>
              </a:rPr>
              <a:t>Δ</a:t>
            </a:r>
            <a:r>
              <a:rPr b="1" lang="pl-PL" sz="1400" spc="-1" strike="noStrike">
                <a:solidFill>
                  <a:srgbClr val="404040"/>
                </a:solidFill>
                <a:latin typeface="Calibri"/>
              </a:rPr>
              <a:t>t2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04040"/>
                </a:solidFill>
                <a:latin typeface="Calibri"/>
              </a:rPr>
              <a:t>Q2o = Q1r/Δt1 *Δt2  = 1141/13,7*17,8 = 1482,47 [GJ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Oszczędności/straty w przykładowym miesiącu wynoszą 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Q2o-Q2r= 1482,47 – 795,5 = 686,97 [GJ]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404040"/>
                </a:solidFill>
                <a:latin typeface="Calibri"/>
              </a:rPr>
              <a:t>W przykładowym miesiącu korzyści wynikające z wdrożenia systemu PMS wyniosły 686,97 [GJ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33660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40404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Łącznik prosty 22" descr=""/>
          <p:cNvPicPr/>
          <p:nvPr/>
        </p:nvPicPr>
        <p:blipFill>
          <a:blip r:embed="rId13"/>
          <a:stretch/>
        </p:blipFill>
        <p:spPr>
          <a:xfrm>
            <a:off x="23760" y="11955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5" name="Łącznik prosty 23" descr=""/>
          <p:cNvPicPr/>
          <p:nvPr/>
        </p:nvPicPr>
        <p:blipFill>
          <a:blip r:embed="rId14"/>
          <a:stretch/>
        </p:blipFill>
        <p:spPr>
          <a:xfrm>
            <a:off x="23760" y="2682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76" name="Łącznik prosty 24" descr=""/>
          <p:cNvPicPr/>
          <p:nvPr/>
        </p:nvPicPr>
        <p:blipFill>
          <a:blip r:embed="rId15"/>
          <a:stretch/>
        </p:blipFill>
        <p:spPr>
          <a:xfrm>
            <a:off x="23760" y="317664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7" name="Łącznik prosty 25" descr=""/>
          <p:cNvPicPr/>
          <p:nvPr/>
        </p:nvPicPr>
        <p:blipFill>
          <a:blip r:embed="rId16"/>
          <a:stretch/>
        </p:blipFill>
        <p:spPr>
          <a:xfrm>
            <a:off x="-19080" y="367668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78" name="Łącznik prosty 26" descr=""/>
          <p:cNvPicPr/>
          <p:nvPr/>
        </p:nvPicPr>
        <p:blipFill>
          <a:blip r:embed="rId17"/>
          <a:stretch/>
        </p:blipFill>
        <p:spPr>
          <a:xfrm>
            <a:off x="23760" y="417024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79" name="Łącznik prosty 27" descr=""/>
          <p:cNvPicPr/>
          <p:nvPr/>
        </p:nvPicPr>
        <p:blipFill>
          <a:blip r:embed="rId18"/>
          <a:stretch/>
        </p:blipFill>
        <p:spPr>
          <a:xfrm>
            <a:off x="23760" y="466416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80" name="Łącznik prosty 28" descr=""/>
          <p:cNvPicPr/>
          <p:nvPr/>
        </p:nvPicPr>
        <p:blipFill>
          <a:blip r:embed="rId19"/>
          <a:stretch/>
        </p:blipFill>
        <p:spPr>
          <a:xfrm>
            <a:off x="23760" y="5157720"/>
            <a:ext cx="1354320" cy="36720"/>
          </a:xfrm>
          <a:prstGeom prst="rect">
            <a:avLst/>
          </a:prstGeom>
          <a:ln w="0">
            <a:noFill/>
          </a:ln>
        </p:spPr>
      </p:pic>
      <p:pic>
        <p:nvPicPr>
          <p:cNvPr id="281" name="Łącznik prosty 29" descr=""/>
          <p:cNvPicPr/>
          <p:nvPr/>
        </p:nvPicPr>
        <p:blipFill>
          <a:blip r:embed="rId20"/>
          <a:stretch/>
        </p:blipFill>
        <p:spPr>
          <a:xfrm>
            <a:off x="1328760" y="950760"/>
            <a:ext cx="1774800" cy="60480"/>
          </a:xfrm>
          <a:prstGeom prst="rect">
            <a:avLst/>
          </a:prstGeom>
          <a:ln w="0">
            <a:noFill/>
          </a:ln>
        </p:spPr>
      </p:pic>
      <p:pic>
        <p:nvPicPr>
          <p:cNvPr id="282" name="Łącznik prosty 30" descr=""/>
          <p:cNvPicPr/>
          <p:nvPr/>
        </p:nvPicPr>
        <p:blipFill>
          <a:blip r:embed="rId21"/>
          <a:stretch/>
        </p:blipFill>
        <p:spPr>
          <a:xfrm>
            <a:off x="23760" y="2206800"/>
            <a:ext cx="1354320" cy="36360"/>
          </a:xfrm>
          <a:prstGeom prst="rect">
            <a:avLst/>
          </a:prstGeom>
          <a:ln w="0">
            <a:noFill/>
          </a:ln>
        </p:spPr>
      </p:pic>
      <p:pic>
        <p:nvPicPr>
          <p:cNvPr id="283" name="Łącznik prosty 31" descr=""/>
          <p:cNvPicPr/>
          <p:nvPr/>
        </p:nvPicPr>
        <p:blipFill>
          <a:blip r:embed="rId22"/>
          <a:stretch/>
        </p:blipFill>
        <p:spPr>
          <a:xfrm>
            <a:off x="23760" y="1695600"/>
            <a:ext cx="1354320" cy="36360"/>
          </a:xfrm>
          <a:prstGeom prst="rect">
            <a:avLst/>
          </a:prstGeom>
          <a:ln w="0">
            <a:noFill/>
          </a:ln>
        </p:spPr>
      </p:pic>
      <p:sp>
        <p:nvSpPr>
          <p:cNvPr id="284" name="Prostokąt z rogami zaokrąglonymi z jednej strony 32"/>
          <p:cNvSpPr/>
          <p:nvPr/>
        </p:nvSpPr>
        <p:spPr>
          <a:xfrm rot="5400000">
            <a:off x="486000" y="4690080"/>
            <a:ext cx="49536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rostokąt z rogami zaokrąglonymi z jednej strony 33"/>
          <p:cNvSpPr/>
          <p:nvPr/>
        </p:nvSpPr>
        <p:spPr>
          <a:xfrm rot="5400000">
            <a:off x="485280" y="518616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rostokąt z rogami zaokrąglonymi z jednej strony 34"/>
          <p:cNvSpPr/>
          <p:nvPr/>
        </p:nvSpPr>
        <p:spPr>
          <a:xfrm rot="5400000">
            <a:off x="485280" y="49384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rostokąt z rogami zaokrąglonymi z jednej strony 35"/>
          <p:cNvSpPr/>
          <p:nvPr/>
        </p:nvSpPr>
        <p:spPr>
          <a:xfrm rot="5400000">
            <a:off x="458280" y="5848200"/>
            <a:ext cx="550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rostokąt z rogami zaokrąglonymi z jednej strony 36"/>
          <p:cNvSpPr/>
          <p:nvPr/>
        </p:nvSpPr>
        <p:spPr>
          <a:xfrm rot="5400000">
            <a:off x="485280" y="5491080"/>
            <a:ext cx="496800" cy="1468440"/>
          </a:xfrm>
          <a:prstGeom prst="pie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Obraz 8" descr="reka-psdBezTla.png"/>
          <p:cNvPicPr/>
          <p:nvPr/>
        </p:nvPicPr>
        <p:blipFill>
          <a:blip r:embed="rId23"/>
          <a:stretch/>
        </p:blipFill>
        <p:spPr>
          <a:xfrm>
            <a:off x="119160" y="5400720"/>
            <a:ext cx="1349280" cy="906480"/>
          </a:xfrm>
          <a:prstGeom prst="rect">
            <a:avLst/>
          </a:prstGeom>
          <a:ln w="0">
            <a:noFill/>
          </a:ln>
        </p:spPr>
      </p:pic>
      <p:sp>
        <p:nvSpPr>
          <p:cNvPr id="290" name="pole tekstowe 38"/>
          <p:cNvSpPr/>
          <p:nvPr/>
        </p:nvSpPr>
        <p:spPr>
          <a:xfrm>
            <a:off x="0" y="6307200"/>
            <a:ext cx="1468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404040"/>
                </a:solidFill>
                <a:latin typeface="Calibri"/>
              </a:rPr>
              <a:t>ENERGIA KONTROLOWA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19:33:57Z</dcterms:created>
  <dc:creator>Bartosz Marciniak</dc:creator>
  <dc:description/>
  <dc:language>en-US</dc:language>
  <cp:lastModifiedBy>JW</cp:lastModifiedBy>
  <dcterms:modified xsi:type="dcterms:W3CDTF">2008-10-30T20:06:22Z</dcterms:modified>
  <cp:revision>40</cp:revision>
  <dc:subject/>
  <dc:title>Slajd 1</dc:title>
</cp:coreProperties>
</file>