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8C08-206F-4BE0-9E98-27FC5AAC717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4683-1C84-4651-B511-0073A7F2FA7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BA96-FFE2-4C03-8913-E31F15493C7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1547-279D-452A-ADCC-D2AC205FD20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154A-EC1A-49F9-8D05-95D32642E9E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EC6E-CD69-482F-A4B2-395857623A4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E4D7-7F2E-4E07-85F0-68005CD099A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B4EA-AAA5-4002-BE70-A825EC5D22F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E624-1FE2-4D03-BC2B-CBFC7B802ED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F883-C203-4F75-B802-73B702C61CE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1241-172D-431E-A5DF-74ACFFA09A8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4334-DEFE-4154-AEAC-4B9C9CF3FDA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D61-62D7-4185-9FB4-12472427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180-2983-415E-8C75-83021483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DF9-9349-4041-89F3-EBE7E870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4BC-60C3-4F62-B397-61FEE256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C36E-91F8-416A-A8A2-F3F3FDED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F710-9A64-40A2-9378-B8B6FA18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1563-C920-4896-A807-E88ED5A2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1B98-6E47-4E3D-8ABD-356B7248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18BA-83FB-43D4-846D-FBA528B9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CD75-AF61-4DC6-9D75-CC4C5885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FFEE-848A-4ED5-9F91-79BF823E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5351-E28E-4F0B-B2EF-D73931BC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BF64-64E4-42F0-A493-D0DCB95F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EE41-8843-48E0-BEC2-6D62D14D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F455-DF4A-4975-930E-A52DB83C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D4F1-E756-46F4-AF1C-A9C2C079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7883-D897-46A4-BA63-3DF16B67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136-70E3-42CB-8C28-EBAEB589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978-F4E8-41F7-82B5-7C95A9CA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F6AA-CB8F-445F-B5B9-568DEF1D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47F-3C9B-407B-87ED-EAADEAC8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3CA-BB5A-4C54-B7E6-211F4CF0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C45-1AB4-4292-B018-97036E66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B3E-AB49-43D5-9B49-A0FAFB6F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3456-3168-49E6-B61A-0BCBE3B1EB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F525-6C2E-4DB6-9062-783EF98310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2920" y="3212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Racjonalizacja zużycia energii i optymalizacja kosztów w obiektach publicznych na przykładzie województwa kujawsko-pomorskiego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63280" y="4723920"/>
            <a:ext cx="6193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Wydział Infrastruktu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Urząd Marszałkowski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Województwa Kujawsko - Pomorskieg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dańsk, 29 października 2008 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1305000" cy="1441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84360" y="981000"/>
            <a:ext cx="547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92000" y="764640"/>
            <a:ext cx="54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Środki służące poprawie efektywności energetycznej w sektorze usłu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9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13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98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83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935000"/>
          <a:ext cx="9144000" cy="4923000"/>
        </p:xfrm>
        <a:graphic>
          <a:graphicData uri="http://schemas.openxmlformats.org/drawingml/2006/table">
            <a:tbl>
              <a:tblPr/>
              <a:tblGrid>
                <a:gridCol w="538200"/>
                <a:gridCol w="3313080"/>
                <a:gridCol w="4006800"/>
                <a:gridCol w="12859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wane środki popra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ektywności energetyczn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ziałanie w celu popra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ektywności energetyczn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odbiorcy końcowe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</a:tr>
              <a:tr h="92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większenie udziału w ryn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ooszczędnych produkt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używających energi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reślenie min. wymagań dla nowych produktów zużywających energię wprowadzanych do obr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wdrażanie Dyrektywy 2005/32/W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do 2016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 ciągł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80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oszczędnego gospodarowania energią w sektorze publiczny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bowiązanie administracji rządowej 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ejmowania działań energooszczędnych w ramach pełnienia przez nią wzorcowej ro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do 2016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 ciągł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cja usług energetyczn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ykonywanych przez E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obudzenie rynku dla firm usług energetycznych (ES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do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 Operacyjny Infrastruktura i Środowisko na lata 2007-2013 ora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alne Programy Operacyj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sparcie finansowe działań dotycząc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obniżenia energochłonności sektora publiczne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do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93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t z Globalnego Funduszu Ochrony Środowiska (GEF) – Proje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ektywności Energetyczn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sparcie finansowe przedsięwzięć 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zakresie termomodernizacji budynków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iejskich systemów grzewczych i sieci ciepln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do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0" y="55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116000" y="404640"/>
            <a:ext cx="300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43280" y="189000"/>
            <a:ext cx="5292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13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98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83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5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0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6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1989000"/>
          <a:ext cx="9144000" cy="4869000"/>
        </p:xfrm>
        <a:graphic>
          <a:graphicData uri="http://schemas.openxmlformats.org/drawingml/2006/table">
            <a:tbl>
              <a:tblPr/>
              <a:tblGrid>
                <a:gridCol w="623880"/>
                <a:gridCol w="2957400"/>
                <a:gridCol w="3824280"/>
                <a:gridCol w="173844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wane środki po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ektywności energety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ziałanie w celu po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ektywności energety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odbiorcy końcow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</a:tr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prowadzenie system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zarządzania ruchem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infrastrukturą transportow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ziałania mające na celu wzr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ektywności energetycznej w transporcie poprzez planowanie i koordynacj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rządzania ruchem i infrastruktur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ow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do 2016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 ciągł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17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mowanie system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transportu zrównoważon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oraz efektywn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ykorzystania paliw 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transporc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ziałania promujące wprowadze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ooszczędnych środków transpor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z ekologicznego sposobu jazd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do 2016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 ciągł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87280" y="404640"/>
            <a:ext cx="329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69228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Środki służące poprawie efektywności energetycznej w sektorze transpor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52909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Krajowy Plan Działań dotyczący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efektywności energetycznej (EEAP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42920" y="1773360"/>
          <a:ext cx="7632720" cy="44654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446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reślenie podmiotów objętych regulacją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ajowe cele w zakresie oszczędności energii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czanie oszczędności energii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wzorcową rolę sektora publicznego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owiązki dostawców energii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owiązki dostawców urządzeń zużywających energię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 białych certyfikatów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 dobrowolnych zobowiązań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 nadzoru i monitorowania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ajowe plany działania na rzecz efektywności energetycznej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187280" y="404640"/>
            <a:ext cx="300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03280" y="907560"/>
            <a:ext cx="54738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Wzorcowa rola sektora publicznego</a:t>
            </a: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95280" y="1773360"/>
          <a:ext cx="8497800" cy="49021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82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a Ministrów określi katalog działań obowiązkowych do przeprowadzenia przez jednostki sektora publicznego przy realizacji krajowego celu oszczędności energii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zmocniona zostanie rola gminnych planów energetycznych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 przepisach o zamówieniach publicznych zostaną wprowadzone regulacje dotyczące zakupów urządzeń o najwyższej uzasadnionej ekonomicznie klasie efektywności energetycznej oraz uwzględniania w realizowanych inwestycjach kryterium maksymalnej efektywności energetycznej przy założonym poziomie kosztów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ostanie wskazany organ administracji rządowej odpowiedzialny za wymianę najlepszych praktyk w powyższym zakresie pomiędzy jednostkami sektora publiczneg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dnostki sektora publicznego o podejmowanych działaniach w zakresie oszczędnego gospodarowania energią będą informować społeczeństw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rajowy organ nadzorujący (URE) będzie monitorował wypełnianie obowiązku na podstawie kryterium wyznaczonym w krajowych celach oszczędności energi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187280" y="40464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84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zęść 2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konomiczny aspekt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fektywności energetycznej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763280" y="4581000"/>
            <a:ext cx="49532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42920" y="620640"/>
            <a:ext cx="336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24000" y="980640"/>
            <a:ext cx="4825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Ustawa o finansach publicznych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806616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. 3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 Wydatki publiczne powinny być dokonywa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 sposób celowy i oszczędny, z zachowaniem zasady uzyskiwania najlepszych efektów z danych nakładów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16000" y="40464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76720" y="836280"/>
            <a:ext cx="3386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Zarządzanie energią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10360" y="1771920"/>
            <a:ext cx="7454160" cy="4770000"/>
            <a:chOff x="810360" y="1771920"/>
            <a:chExt cx="7454160" cy="4770000"/>
          </a:xfrm>
        </p:grpSpPr>
        <p:sp>
          <p:nvSpPr>
            <p:cNvPr id="184" name="_s54298"/>
            <p:cNvSpPr/>
            <p:nvPr/>
          </p:nvSpPr>
          <p:spPr>
            <a:xfrm flipH="1" flipV="1">
              <a:off x="3044880" y="3473280"/>
              <a:ext cx="749880" cy="39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54297"/>
            <p:cNvSpPr/>
            <p:nvPr/>
          </p:nvSpPr>
          <p:spPr>
            <a:xfrm>
              <a:off x="1357560" y="2473920"/>
              <a:ext cx="189972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eparta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Oświa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4278"/>
            <p:cNvSpPr/>
            <p:nvPr/>
          </p:nvSpPr>
          <p:spPr>
            <a:xfrm flipH="1">
              <a:off x="2676600" y="4386240"/>
              <a:ext cx="9392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54279"/>
            <p:cNvSpPr/>
            <p:nvPr/>
          </p:nvSpPr>
          <p:spPr>
            <a:xfrm>
              <a:off x="810360" y="4044960"/>
              <a:ext cx="189972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eparta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Majątk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Wojewódz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4280"/>
            <p:cNvSpPr/>
            <p:nvPr/>
          </p:nvSpPr>
          <p:spPr>
            <a:xfrm flipH="1">
              <a:off x="3708360" y="4803120"/>
              <a:ext cx="419040" cy="56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54281"/>
            <p:cNvSpPr/>
            <p:nvPr/>
          </p:nvSpPr>
          <p:spPr>
            <a:xfrm>
              <a:off x="2354040" y="5304240"/>
              <a:ext cx="189900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eparta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Kultu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54282"/>
            <p:cNvSpPr/>
            <p:nvPr/>
          </p:nvSpPr>
          <p:spPr>
            <a:xfrm>
              <a:off x="4947120" y="4801320"/>
              <a:ext cx="41292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54283"/>
            <p:cNvSpPr/>
            <p:nvPr/>
          </p:nvSpPr>
          <p:spPr>
            <a:xfrm>
              <a:off x="4824360" y="5302080"/>
              <a:ext cx="189900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eparta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Sport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54296"/>
            <p:cNvSpPr/>
            <p:nvPr/>
          </p:nvSpPr>
          <p:spPr>
            <a:xfrm>
              <a:off x="5455800" y="4384080"/>
              <a:ext cx="936000" cy="14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54295"/>
            <p:cNvSpPr/>
            <p:nvPr/>
          </p:nvSpPr>
          <p:spPr>
            <a:xfrm>
              <a:off x="6364800" y="4042800"/>
              <a:ext cx="1899720" cy="1238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eparta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Gospodar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54284"/>
            <p:cNvSpPr/>
            <p:nvPr/>
          </p:nvSpPr>
          <p:spPr>
            <a:xfrm flipV="1">
              <a:off x="5273280" y="3473280"/>
              <a:ext cx="750600" cy="38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54285"/>
            <p:cNvSpPr/>
            <p:nvPr/>
          </p:nvSpPr>
          <p:spPr>
            <a:xfrm>
              <a:off x="5814720" y="2471760"/>
              <a:ext cx="189900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eparta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dminist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54286"/>
            <p:cNvSpPr/>
            <p:nvPr/>
          </p:nvSpPr>
          <p:spPr>
            <a:xfrm flipV="1">
              <a:off x="4534560" y="3007800"/>
              <a:ext cx="0" cy="62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54287"/>
            <p:cNvSpPr/>
            <p:nvPr/>
          </p:nvSpPr>
          <p:spPr>
            <a:xfrm>
              <a:off x="3586320" y="1771920"/>
              <a:ext cx="189900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eparta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Zdrow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54292"/>
            <p:cNvSpPr/>
            <p:nvPr/>
          </p:nvSpPr>
          <p:spPr>
            <a:xfrm>
              <a:off x="3586320" y="3631680"/>
              <a:ext cx="1899000" cy="1237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ahoma"/>
                </a:rPr>
                <a:t>Budże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547560" cy="603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16000" y="333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716360" y="692280"/>
            <a:ext cx="39592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Zarządzanie energią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10360" y="1771920"/>
            <a:ext cx="7454160" cy="4770000"/>
            <a:chOff x="810360" y="1771920"/>
            <a:chExt cx="7454160" cy="4770000"/>
          </a:xfrm>
        </p:grpSpPr>
        <p:sp>
          <p:nvSpPr>
            <p:cNvPr id="203" name="_s52230"/>
            <p:cNvSpPr/>
            <p:nvPr/>
          </p:nvSpPr>
          <p:spPr>
            <a:xfrm flipH="1" flipV="1">
              <a:off x="3044880" y="3473280"/>
              <a:ext cx="749880" cy="39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52231"/>
            <p:cNvSpPr/>
            <p:nvPr/>
          </p:nvSpPr>
          <p:spPr>
            <a:xfrm>
              <a:off x="1357560" y="2473920"/>
              <a:ext cx="189972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ro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52232"/>
            <p:cNvSpPr/>
            <p:nvPr/>
          </p:nvSpPr>
          <p:spPr>
            <a:xfrm flipH="1">
              <a:off x="2676600" y="4386240"/>
              <a:ext cx="9392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52233"/>
            <p:cNvSpPr/>
            <p:nvPr/>
          </p:nvSpPr>
          <p:spPr>
            <a:xfrm>
              <a:off x="810360" y="4044960"/>
              <a:ext cx="189972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biek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omu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52234"/>
            <p:cNvSpPr/>
            <p:nvPr/>
          </p:nvSpPr>
          <p:spPr>
            <a:xfrm flipH="1">
              <a:off x="3708360" y="4803120"/>
              <a:ext cx="419040" cy="56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52235"/>
            <p:cNvSpPr/>
            <p:nvPr/>
          </p:nvSpPr>
          <p:spPr>
            <a:xfrm>
              <a:off x="2354040" y="5304240"/>
              <a:ext cx="189900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biek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rzę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52236"/>
            <p:cNvSpPr/>
            <p:nvPr/>
          </p:nvSpPr>
          <p:spPr>
            <a:xfrm>
              <a:off x="4947120" y="4801320"/>
              <a:ext cx="41292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52237"/>
            <p:cNvSpPr/>
            <p:nvPr/>
          </p:nvSpPr>
          <p:spPr>
            <a:xfrm>
              <a:off x="4824360" y="5302080"/>
              <a:ext cx="189900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środ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ultu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52238"/>
            <p:cNvSpPr/>
            <p:nvPr/>
          </p:nvSpPr>
          <p:spPr>
            <a:xfrm>
              <a:off x="5455800" y="4384080"/>
              <a:ext cx="936000" cy="14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52239"/>
            <p:cNvSpPr/>
            <p:nvPr/>
          </p:nvSpPr>
          <p:spPr>
            <a:xfrm>
              <a:off x="6364800" y="4042800"/>
              <a:ext cx="1899720" cy="1238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biek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łużb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drow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52240"/>
            <p:cNvSpPr/>
            <p:nvPr/>
          </p:nvSpPr>
          <p:spPr>
            <a:xfrm flipV="1">
              <a:off x="5273280" y="3473280"/>
              <a:ext cx="750600" cy="38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52241"/>
            <p:cNvSpPr/>
            <p:nvPr/>
          </p:nvSpPr>
          <p:spPr>
            <a:xfrm>
              <a:off x="5814720" y="2471760"/>
              <a:ext cx="189900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52242"/>
            <p:cNvSpPr/>
            <p:nvPr/>
          </p:nvSpPr>
          <p:spPr>
            <a:xfrm flipV="1">
              <a:off x="4534560" y="3007800"/>
              <a:ext cx="0" cy="62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52243"/>
            <p:cNvSpPr/>
            <p:nvPr/>
          </p:nvSpPr>
          <p:spPr>
            <a:xfrm>
              <a:off x="3586320" y="1771920"/>
              <a:ext cx="189900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biek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świat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52244"/>
            <p:cNvSpPr/>
            <p:nvPr/>
          </p:nvSpPr>
          <p:spPr>
            <a:xfrm>
              <a:off x="3586320" y="3631680"/>
              <a:ext cx="1899000" cy="1237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Budż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16000" y="404640"/>
            <a:ext cx="300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00360" y="692280"/>
            <a:ext cx="41749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Zarządzanie energią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9280" y="1773360"/>
            <a:ext cx="8785440" cy="4877640"/>
            <a:chOff x="179280" y="1773360"/>
            <a:chExt cx="8785440" cy="4877640"/>
          </a:xfrm>
        </p:grpSpPr>
        <p:cxnSp>
          <p:nvCxnSpPr>
            <p:cNvPr id="222" name="_s82949"/>
            <p:cNvCxnSpPr>
              <a:stCxn id="223" idx="1"/>
              <a:endCxn id="224" idx="2"/>
            </p:cNvCxnSpPr>
            <p:nvPr/>
          </p:nvCxnSpPr>
          <p:spPr>
            <a:xfrm rot="10800000">
              <a:off x="4571280" y="2659320"/>
              <a:ext cx="183600" cy="887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82950"/>
            <p:cNvCxnSpPr>
              <a:stCxn id="226" idx="3"/>
              <a:endCxn id="224" idx="2"/>
            </p:cNvCxnSpPr>
            <p:nvPr/>
          </p:nvCxnSpPr>
          <p:spPr>
            <a:xfrm flipV="1">
              <a:off x="4388760" y="2659320"/>
              <a:ext cx="183600" cy="887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82951"/>
            <p:cNvCxnSpPr>
              <a:stCxn id="228" idx="0"/>
              <a:endCxn id="229" idx="2"/>
            </p:cNvCxnSpPr>
            <p:nvPr/>
          </p:nvCxnSpPr>
          <p:spPr>
            <a:xfrm flipV="1">
              <a:off x="8416080" y="5320080"/>
              <a:ext cx="1800" cy="44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82952"/>
            <p:cNvCxnSpPr>
              <a:stCxn id="229" idx="0"/>
              <a:endCxn id="224" idx="2"/>
            </p:cNvCxnSpPr>
            <p:nvPr/>
          </p:nvCxnSpPr>
          <p:spPr>
            <a:xfrm flipV="1" rot="16200000">
              <a:off x="5606640" y="1623960"/>
              <a:ext cx="1774440" cy="3845160"/>
            </a:xfrm>
            <a:prstGeom prst="bentConnector3">
              <a:avLst>
                <a:gd name="adj1" fmla="val 62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1" name="_s82953"/>
            <p:cNvCxnSpPr>
              <a:stCxn id="232" idx="0"/>
              <a:endCxn id="233" idx="2"/>
            </p:cNvCxnSpPr>
            <p:nvPr/>
          </p:nvCxnSpPr>
          <p:spPr>
            <a:xfrm flipV="1">
              <a:off x="7136280" y="5320080"/>
              <a:ext cx="2160" cy="44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4" name="_s82954"/>
            <p:cNvCxnSpPr>
              <a:stCxn id="235" idx="0"/>
              <a:endCxn id="236" idx="2"/>
            </p:cNvCxnSpPr>
            <p:nvPr/>
          </p:nvCxnSpPr>
          <p:spPr>
            <a:xfrm flipV="1">
              <a:off x="5854680" y="5320080"/>
              <a:ext cx="2160" cy="44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82955"/>
            <p:cNvCxnSpPr>
              <a:stCxn id="238" idx="0"/>
              <a:endCxn id="239" idx="2"/>
            </p:cNvCxnSpPr>
            <p:nvPr/>
          </p:nvCxnSpPr>
          <p:spPr>
            <a:xfrm flipV="1">
              <a:off x="4574160" y="5320080"/>
              <a:ext cx="1800" cy="44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82956"/>
            <p:cNvCxnSpPr>
              <a:stCxn id="241" idx="0"/>
              <a:endCxn id="242" idx="2"/>
            </p:cNvCxnSpPr>
            <p:nvPr/>
          </p:nvCxnSpPr>
          <p:spPr>
            <a:xfrm flipV="1" rot="16200000">
              <a:off x="3070080" y="5540760"/>
              <a:ext cx="443880" cy="2160"/>
            </a:xfrm>
            <a:prstGeom prst="bentConnector3">
              <a:avLst>
                <a:gd name="adj1" fmla="val 2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3" name="_s82957"/>
            <p:cNvCxnSpPr>
              <a:stCxn id="244" idx="0"/>
              <a:endCxn id="245" idx="2"/>
            </p:cNvCxnSpPr>
            <p:nvPr/>
          </p:nvCxnSpPr>
          <p:spPr>
            <a:xfrm flipV="1">
              <a:off x="2009880" y="5320080"/>
              <a:ext cx="2160" cy="44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82958"/>
            <p:cNvCxnSpPr>
              <a:stCxn id="247" idx="0"/>
              <a:endCxn id="248" idx="2"/>
            </p:cNvCxnSpPr>
            <p:nvPr/>
          </p:nvCxnSpPr>
          <p:spPr>
            <a:xfrm flipV="1" rot="16200000">
              <a:off x="506880" y="5540760"/>
              <a:ext cx="443880" cy="2160"/>
            </a:xfrm>
            <a:prstGeom prst="bentConnector3">
              <a:avLst>
                <a:gd name="adj1" fmla="val 2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9" name="_s82959"/>
            <p:cNvCxnSpPr>
              <a:stCxn id="233" idx="0"/>
              <a:endCxn id="224" idx="2"/>
            </p:cNvCxnSpPr>
            <p:nvPr/>
          </p:nvCxnSpPr>
          <p:spPr>
            <a:xfrm flipV="1" rot="16200000">
              <a:off x="4966560" y="2264040"/>
              <a:ext cx="1774440" cy="2564640"/>
            </a:xfrm>
            <a:prstGeom prst="bentConnector3">
              <a:avLst>
                <a:gd name="adj1" fmla="val 62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82960"/>
            <p:cNvCxnSpPr>
              <a:stCxn id="236" idx="0"/>
              <a:endCxn id="224" idx="2"/>
            </p:cNvCxnSpPr>
            <p:nvPr/>
          </p:nvCxnSpPr>
          <p:spPr>
            <a:xfrm flipV="1" rot="16200000">
              <a:off x="4325760" y="2904840"/>
              <a:ext cx="1774440" cy="1283400"/>
            </a:xfrm>
            <a:prstGeom prst="bentConnector3">
              <a:avLst>
                <a:gd name="adj1" fmla="val 62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1" name="_s82961"/>
            <p:cNvCxnSpPr>
              <a:stCxn id="239" idx="0"/>
              <a:endCxn id="224" idx="2"/>
            </p:cNvCxnSpPr>
            <p:nvPr/>
          </p:nvCxnSpPr>
          <p:spPr>
            <a:xfrm flipV="1" rot="16200000">
              <a:off x="3686400" y="3545280"/>
              <a:ext cx="1774440" cy="2160"/>
            </a:xfrm>
            <a:prstGeom prst="bentConnector3">
              <a:avLst>
                <a:gd name="adj1" fmla="val 62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82962"/>
            <p:cNvCxnSpPr>
              <a:stCxn id="242" idx="0"/>
              <a:endCxn id="224" idx="2"/>
            </p:cNvCxnSpPr>
            <p:nvPr/>
          </p:nvCxnSpPr>
          <p:spPr>
            <a:xfrm flipH="1" flipV="1" rot="5400000">
              <a:off x="3044520" y="2905920"/>
              <a:ext cx="1774440" cy="1281600"/>
            </a:xfrm>
            <a:prstGeom prst="bentConnector3">
              <a:avLst>
                <a:gd name="adj1" fmla="val 62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3" name="_s82963"/>
            <p:cNvCxnSpPr>
              <a:stCxn id="245" idx="0"/>
              <a:endCxn id="224" idx="2"/>
            </p:cNvCxnSpPr>
            <p:nvPr/>
          </p:nvCxnSpPr>
          <p:spPr>
            <a:xfrm flipH="1" flipV="1" rot="5400000">
              <a:off x="2403720" y="2265480"/>
              <a:ext cx="1774440" cy="2562480"/>
            </a:xfrm>
            <a:prstGeom prst="bentConnector3">
              <a:avLst>
                <a:gd name="adj1" fmla="val 62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4" name="_s82964"/>
            <p:cNvCxnSpPr>
              <a:stCxn id="248" idx="0"/>
              <a:endCxn id="224" idx="2"/>
            </p:cNvCxnSpPr>
            <p:nvPr/>
          </p:nvCxnSpPr>
          <p:spPr>
            <a:xfrm flipH="1" flipV="1" rot="5400000">
              <a:off x="1762920" y="1624680"/>
              <a:ext cx="1774440" cy="3844080"/>
            </a:xfrm>
            <a:prstGeom prst="bentConnector3">
              <a:avLst>
                <a:gd name="adj1" fmla="val 62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82965"/>
            <p:cNvSpPr/>
            <p:nvPr/>
          </p:nvSpPr>
          <p:spPr>
            <a:xfrm>
              <a:off x="4022640" y="1773360"/>
              <a:ext cx="109836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rząd Marszałkowsk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ojewództw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ujawsko-Pomorskieg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82966"/>
            <p:cNvSpPr/>
            <p:nvPr/>
          </p:nvSpPr>
          <p:spPr>
            <a:xfrm>
              <a:off x="179280" y="4433760"/>
              <a:ext cx="109836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parta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dukacji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ortu i Turystyk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82967"/>
            <p:cNvSpPr/>
            <p:nvPr/>
          </p:nvSpPr>
          <p:spPr>
            <a:xfrm>
              <a:off x="1460520" y="4433760"/>
              <a:ext cx="109836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parta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ultur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 Dziedzictw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arodoweg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82968"/>
            <p:cNvSpPr/>
            <p:nvPr/>
          </p:nvSpPr>
          <p:spPr>
            <a:xfrm>
              <a:off x="2742120" y="4433760"/>
              <a:ext cx="109836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parta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frastruktur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82969"/>
            <p:cNvSpPr/>
            <p:nvPr/>
          </p:nvSpPr>
          <p:spPr>
            <a:xfrm>
              <a:off x="4023720" y="4433760"/>
              <a:ext cx="109836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parta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lnictwa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zwoju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bszarów Wiejskic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 Geodezj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82970"/>
            <p:cNvSpPr/>
            <p:nvPr/>
          </p:nvSpPr>
          <p:spPr>
            <a:xfrm>
              <a:off x="5305320" y="4433760"/>
              <a:ext cx="109836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parta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drowia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westycj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 Nadzoru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łaścicielskieg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82971"/>
            <p:cNvSpPr/>
            <p:nvPr/>
          </p:nvSpPr>
          <p:spPr>
            <a:xfrm>
              <a:off x="6586920" y="4433760"/>
              <a:ext cx="109728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parta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raw Społecznych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82972"/>
            <p:cNvSpPr/>
            <p:nvPr/>
          </p:nvSpPr>
          <p:spPr>
            <a:xfrm>
              <a:off x="180720" y="5764320"/>
              <a:ext cx="109692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82973"/>
            <p:cNvSpPr/>
            <p:nvPr/>
          </p:nvSpPr>
          <p:spPr>
            <a:xfrm>
              <a:off x="1461960" y="5764320"/>
              <a:ext cx="109692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82974"/>
            <p:cNvSpPr/>
            <p:nvPr/>
          </p:nvSpPr>
          <p:spPr>
            <a:xfrm>
              <a:off x="2743560" y="5764320"/>
              <a:ext cx="109692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82975"/>
            <p:cNvSpPr/>
            <p:nvPr/>
          </p:nvSpPr>
          <p:spPr>
            <a:xfrm>
              <a:off x="4025160" y="5764320"/>
              <a:ext cx="109692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 + 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82976"/>
            <p:cNvSpPr/>
            <p:nvPr/>
          </p:nvSpPr>
          <p:spPr>
            <a:xfrm>
              <a:off x="5306760" y="5764320"/>
              <a:ext cx="109692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82977"/>
            <p:cNvSpPr/>
            <p:nvPr/>
          </p:nvSpPr>
          <p:spPr>
            <a:xfrm>
              <a:off x="6586920" y="5764320"/>
              <a:ext cx="109728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82978"/>
            <p:cNvSpPr/>
            <p:nvPr/>
          </p:nvSpPr>
          <p:spPr>
            <a:xfrm>
              <a:off x="7867440" y="4433760"/>
              <a:ext cx="109728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parta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nowani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rategiczne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 Gospodarczeg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82979"/>
            <p:cNvSpPr/>
            <p:nvPr/>
          </p:nvSpPr>
          <p:spPr>
            <a:xfrm>
              <a:off x="7867440" y="5764320"/>
              <a:ext cx="109728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82980"/>
            <p:cNvSpPr/>
            <p:nvPr/>
          </p:nvSpPr>
          <p:spPr>
            <a:xfrm>
              <a:off x="3291480" y="3103560"/>
              <a:ext cx="109728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ółk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awa Handloweg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82981"/>
            <p:cNvSpPr/>
            <p:nvPr/>
          </p:nvSpPr>
          <p:spPr>
            <a:xfrm>
              <a:off x="4754880" y="3103560"/>
              <a:ext cx="109728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0">
              <a:noFill/>
            </a:ln>
            <a:effectLst>
              <a:outerShdw dist="153753" dir="2700000" blurRad="0" rotWithShape="0">
                <a:srgbClr val="1e79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95280" y="5300640"/>
            <a:ext cx="820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19280" y="595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1700280"/>
            <a:ext cx="3384720" cy="5445000"/>
          </a:xfrm>
          <a:custGeom>
            <a:avLst/>
            <a:gdLst>
              <a:gd name="textAreaLeft" fmla="*/ 453240 w 3384720"/>
              <a:gd name="textAreaRight" fmla="*/ 2931480 w 3384720"/>
              <a:gd name="textAreaTop" fmla="*/ 1139040 h 5445000"/>
              <a:gd name="textAreaBottom" fmla="*/ 3687120 h 544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37" stAng="-5400000" swAng="-5400000"/>
                <a:lnTo>
                  <a:pt x="0" y="10108"/>
                </a:lnTo>
                <a:arcTo wR="21600" hR="9037" stAng="10800000" swAng="-1241124"/>
                <a:lnTo>
                  <a:pt x="5565" y="18618"/>
                </a:lnTo>
                <a:lnTo>
                  <a:pt x="21600" y="18609"/>
                </a:lnTo>
                <a:lnTo>
                  <a:pt x="5565" y="12635"/>
                </a:lnTo>
                <a:lnTo>
                  <a:pt x="5565" y="15091"/>
                </a:lnTo>
                <a:arcTo wR="21600" hR="9037" stAng="9558876" swAng="1155764"/>
                <a:lnTo>
                  <a:pt x="38" y="9572"/>
                </a:lnTo>
                <a:arcTo wR="21600" hR="9037" stAng="-10714640" swAng="5314640"/>
                <a:close/>
              </a:path>
              <a:path fill="darkenLess" w="21600" h="21600">
                <a:moveTo>
                  <a:pt x="21600" y="0"/>
                </a:moveTo>
                <a:arcTo wR="21600" hR="9037" stAng="-5400000" swAng="-5400000"/>
                <a:lnTo>
                  <a:pt x="0" y="9037"/>
                </a:lnTo>
                <a:arcTo wR="21600" hR="9037" stAng="10800000" swAng="-85360"/>
                <a:lnTo>
                  <a:pt x="38" y="9572"/>
                </a:lnTo>
                <a:arcTo wR="21600" hR="9037" stAng="-10714640" swAng="5314640"/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76360" y="1484280"/>
            <a:ext cx="25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Zarządzani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218920" y="1628640"/>
            <a:ext cx="3313080" cy="5545440"/>
          </a:xfrm>
          <a:custGeom>
            <a:avLst/>
            <a:gdLst>
              <a:gd name="textAreaLeft" fmla="*/ 443880 w 3313080"/>
              <a:gd name="textAreaRight" fmla="*/ 2869200 w 3313080"/>
              <a:gd name="textAreaTop" fmla="*/ 1159920 h 5545440"/>
              <a:gd name="textAreaBottom" fmla="*/ 3755160 h 554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37" stAng="-5400000" swAng="-5400000"/>
                <a:lnTo>
                  <a:pt x="0" y="10108"/>
                </a:lnTo>
                <a:arcTo wR="21600" hR="9037" stAng="10800000" swAng="-1241124"/>
                <a:lnTo>
                  <a:pt x="5565" y="18618"/>
                </a:lnTo>
                <a:lnTo>
                  <a:pt x="21600" y="18609"/>
                </a:lnTo>
                <a:lnTo>
                  <a:pt x="5565" y="12635"/>
                </a:lnTo>
                <a:lnTo>
                  <a:pt x="5565" y="15091"/>
                </a:lnTo>
                <a:arcTo wR="21600" hR="9037" stAng="9558876" swAng="1155764"/>
                <a:lnTo>
                  <a:pt x="38" y="9572"/>
                </a:lnTo>
                <a:arcTo wR="21600" hR="9037" stAng="-10714640" swAng="5314640"/>
                <a:close/>
              </a:path>
              <a:path fill="darkenLess" w="21600" h="21600">
                <a:moveTo>
                  <a:pt x="21600" y="0"/>
                </a:moveTo>
                <a:arcTo wR="21600" hR="9037" stAng="-5400000" swAng="-5400000"/>
                <a:lnTo>
                  <a:pt x="0" y="9037"/>
                </a:lnTo>
                <a:arcTo wR="21600" hR="9037" stAng="10800000" swAng="-85360"/>
                <a:lnTo>
                  <a:pt x="38" y="9572"/>
                </a:lnTo>
                <a:arcTo wR="21600" hR="9037" stAng="-10714640" swAng="5314640"/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219640" y="1413000"/>
            <a:ext cx="280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Finansowani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5734080"/>
            <a:ext cx="8785440" cy="914400"/>
          </a:xfrm>
          <a:prstGeom prst="rect">
            <a:avLst/>
          </a:prstGeom>
          <a:solidFill>
            <a:srgbClr val="003366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4 jednost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58920" y="765000"/>
            <a:ext cx="38242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Zarządzanie energią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zarządzania i finansowania energetyki w rozproszeniu jest problemem także samorządu powiatowego, miejskiego, miejsko-gminnego i gminneg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cjonalizacja w samorządowym zarządzaniu energią musi oprzeć się na jego scentralizowaniu, które będzie gwarantowało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konomizację energetyki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acjonalizację zużycia energii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ymuszanie dbałości o środowisko naturalne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alizację energetycznych potrzeb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prowadzanie nowych technologii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ezpieczeństwo energetyczne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ergetyczną edukację społeczną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zęść 1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awny aspekt efektywności energetycznej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63280" y="4581000"/>
            <a:ext cx="49532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42920" y="620640"/>
            <a:ext cx="336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58920" y="620280"/>
            <a:ext cx="374508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Zarządzanie energią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358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ces zmi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aliz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udy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zetar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132000" y="1600200"/>
          <a:ext cx="5554800" cy="4967280"/>
        </p:xfrm>
        <a:graphic>
          <a:graphicData uri="http://schemas.openxmlformats.org/drawingml/2006/table">
            <a:tbl>
              <a:tblPr/>
              <a:tblGrid>
                <a:gridCol w="1727280"/>
                <a:gridCol w="3827520"/>
              </a:tblGrid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minar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adani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j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liza wewnętrzna koncepcj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ząt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zerwca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kceptacja koncepcji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niec Czerwca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racowanie procedu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zerwiec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piec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ruchomienie procedu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ebranie materiału analityczneg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racowanie danyc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opad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yzja o przeprowadzeniu audytów i sporządzeniu SIWZ dla procedury przetargowej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95640" y="692280"/>
            <a:ext cx="468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naliza elektroenergetyczn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3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Średnie możliwe ograniczenie kosztów z przeprowadzonych analiz elektroenergetycznych dla jednostki publicznej              w województwie kujawsko-pomorskim                              wynosi  6.400 zł, co stanowi 11 % kosztów energ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zacowany wynik finansowy dla wszystkich jednostek wynosi 410.000 z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*Analiza obejmuje rozwiązania bezinwestycyjn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11280" y="692280"/>
            <a:ext cx="432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naliza elektroenergetyczn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Średnie możliwe ograniczenie kosztów z przeprowadzonych analiz elektroenergetycznych dla jednostki publicznej              w województwie kujawsko-pomorskim                              wynosi  11.000 zł, co stanowi 20 % kosztów energ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zacowany wynik finansowy dla wszystkich jednostek wynosi 704.000 z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*Analiza obejmuje rozwiązania gdzie konieczna jest inwestycja (bez określenia stopy zwrotu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787640" y="404640"/>
            <a:ext cx="38732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naliza energetyczn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Średnie możliwe ograniczenie kosztów z przeprowadzonych analiz energetycznych dla jednostki publicznej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 województwie kujawsko-pomorskim                              wynosi  24.300 zł, co stanowi 28 % kosztów energ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zacowany wynik finansowy dla wszystkich jednostek wynosi 1.550.000 z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*Analiza obejmuje rozwiązania gdzie konieczna jest inwestycja (bez określenia stopy zwrotu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219640" y="765000"/>
            <a:ext cx="34560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Oszczędnośc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31640" y="2565000"/>
            <a:ext cx="7313400" cy="20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zacunkowa suma możliwych oszczędności                    w obiektach województwa kujawsko-pomorskiego wynosi około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660.000 z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63280" y="981000"/>
            <a:ext cx="7201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zewidywany wynik finansowy                             dla działań bezinwestycyjnych w elektroenergetyce 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370160" y="2133720"/>
          <a:ext cx="3489120" cy="4219560"/>
        </p:xfrm>
        <a:graphic>
          <a:graphicData uri="http://schemas.openxmlformats.org/drawingml/2006/table">
            <a:tbl>
              <a:tblPr/>
              <a:tblGrid>
                <a:gridCol w="1746000"/>
                <a:gridCol w="1743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zczędność [zł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6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5094360" y="2133720"/>
          <a:ext cx="3294000" cy="4219560"/>
        </p:xfrm>
        <a:graphic>
          <a:graphicData uri="http://schemas.openxmlformats.org/drawingml/2006/table">
            <a:tbl>
              <a:tblPr/>
              <a:tblGrid>
                <a:gridCol w="1647720"/>
                <a:gridCol w="1646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zczędność [zł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 txBox="1"/>
          <p:nvPr/>
        </p:nvSpPr>
        <p:spPr>
          <a:xfrm rot="20887800">
            <a:off x="971640" y="3068280"/>
            <a:ext cx="91454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1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arastająco     4.426.000     z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93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zacowany wynik finansowy - ogółe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370160" y="1827360"/>
          <a:ext cx="3417480" cy="4525920"/>
        </p:xfrm>
        <a:graphic>
          <a:graphicData uri="http://schemas.openxmlformats.org/drawingml/2006/table">
            <a:tbl>
              <a:tblPr/>
              <a:tblGrid>
                <a:gridCol w="1710000"/>
                <a:gridCol w="17074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zczędność [zł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26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40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00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094360" y="1827360"/>
          <a:ext cx="3509640" cy="4525920"/>
        </p:xfrm>
        <a:graphic>
          <a:graphicData uri="http://schemas.openxmlformats.org/drawingml/2006/table">
            <a:tbl>
              <a:tblPr/>
              <a:tblGrid>
                <a:gridCol w="1756080"/>
                <a:gridCol w="175356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zczędność [zł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40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00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50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 rot="20887800">
            <a:off x="1476360" y="2707920"/>
            <a:ext cx="91454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80000"/>
                    </a:gs>
                    <a:gs pos="50000">
                      <a:srgbClr val="800000">
                        <a:alpha val="80392"/>
                      </a:srgbClr>
                    </a:gs>
                    <a:gs pos="100000">
                      <a:srgbClr val="180000"/>
                    </a:gs>
                  </a:gsLst>
                  <a:lin ang="14214000"/>
                </a:gradFill>
                <a:latin typeface="Impact"/>
              </a:rPr>
              <a:t>Narastająco     24.560.000     z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80000"/>
                  </a:gs>
                  <a:gs pos="50000">
                    <a:srgbClr val="800000">
                      <a:alpha val="80392"/>
                    </a:srgbClr>
                  </a:gs>
                  <a:gs pos="100000">
                    <a:srgbClr val="180000"/>
                  </a:gs>
                </a:gsLst>
                <a:lin ang="14214000"/>
              </a:gradFill>
              <a:latin typeface="Impact"/>
              <a:ea typeface="Impact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2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zęść 3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lanowanie energetyczn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763280" y="4581000"/>
            <a:ext cx="49532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042920" y="620640"/>
            <a:ext cx="336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708360" y="765000"/>
            <a:ext cx="49752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Gminne planowanie energetyczn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403280" y="1844640"/>
          <a:ext cx="7301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44640"/>
                    <a:ext cx="7301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03640" y="549000"/>
            <a:ext cx="5240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Kujawsko – Pomorskie na tle Polsk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476360" y="1484280"/>
          <a:ext cx="6985080" cy="5187960"/>
        </p:xfrm>
        <a:graphic>
          <a:graphicData uri="http://schemas.openxmlformats.org/drawingml/2006/table">
            <a:tbl>
              <a:tblPr/>
              <a:tblGrid>
                <a:gridCol w="3959280"/>
                <a:gridCol w="30258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Wyszczególnie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Udzia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Podkarpac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Lubel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Podla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Lubu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Mazowiec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Dolnoślą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Wielkopol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Małopol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Łódz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Warmińsko-Mazur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Zachodniopomor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Świętokrzy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Ślą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Kujawsko-Pomor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pol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Pomor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Verdana"/>
                          <a:ea typeface="Tahoma"/>
                        </a:rPr>
                        <a:t>Pol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Verdana"/>
                          <a:ea typeface="Tahoma"/>
                        </a:rPr>
                        <a:t>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 txBox="1"/>
          <p:nvPr/>
        </p:nvSpPr>
        <p:spPr>
          <a:xfrm rot="16200000">
            <a:off x="-628560" y="5133600"/>
            <a:ext cx="2533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Źródło: AM PRED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Karta Energetyczna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Protokół Karty Energetycznej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o efektywności energetycznej                  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                                i odnośnych aspektach środowiska     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17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olska ratyfikowała Traktat Karty Energetycznej (TKE) oraz Protokół Karty Energetycznej o Efektywności Energetycznej i Odnośnych Aspektach Ochrony Środowiska (PEEREA) w 2000 roku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apisy TKE zobowiązują umawiające się strony do sformułowania polityki efektywności energetycznej wraz z odpowiednimi unormowaniami prawnymi i regulacyjnymi, obejmującymi m.in. efektywne funkcjonowanie mechanizmów rynkowych, łagodzenie barier dla efektywności energetycznej, mechanizmy finansowania inwestycji energetycznych, przejrzystość struktury prawnej i regulacyjnej, działania wspierające transfer technologii oraz rozwój wiedzy i świadomości społecznej w tej dziedzini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ele strategiczne powinny być sformułowane w kategoriach mierzalnych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116000" y="47628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11280" y="764640"/>
            <a:ext cx="4608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lanowanie energetyczn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04000" y="5084640"/>
            <a:ext cx="16002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Gmi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71640" y="1700280"/>
            <a:ext cx="1676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sk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484360" y="2852640"/>
            <a:ext cx="3448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ojewództw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219640" y="3933720"/>
            <a:ext cx="1724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wi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2037960" y="1974600"/>
            <a:ext cx="3627360" cy="5761080"/>
          </a:xfrm>
          <a:custGeom>
            <a:avLst/>
            <a:gdLst>
              <a:gd name="textAreaLeft" fmla="*/ 1567080 w 3627360"/>
              <a:gd name="textAreaRight" fmla="*/ 2761920 w 3627360"/>
              <a:gd name="textAreaTop" fmla="*/ 3863160 h 5761080"/>
              <a:gd name="textAreaBottom" fmla="*/ 4386960 h 5761080"/>
            </a:gdLst>
            <a:ahLst/>
            <a:rect l="textAreaLeft" t="textAreaTop" r="textAreaRight" b="textAreaBottom"/>
            <a:pathLst>
              <a:path w="21600" h="21600">
                <a:moveTo>
                  <a:pt x="0" y="19637"/>
                </a:moveTo>
                <a:lnTo>
                  <a:pt x="14484" y="19637"/>
                </a:lnTo>
                <a:lnTo>
                  <a:pt x="14484" y="9331"/>
                </a:lnTo>
                <a:lnTo>
                  <a:pt x="9331" y="9331"/>
                </a:lnTo>
                <a:lnTo>
                  <a:pt x="15466" y="0"/>
                </a:lnTo>
                <a:lnTo>
                  <a:pt x="21600" y="9331"/>
                </a:lnTo>
                <a:lnTo>
                  <a:pt x="16447" y="9331"/>
                </a:lnTo>
                <a:lnTo>
                  <a:pt x="164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>
              <a:alpha val="14000"/>
            </a:srgbClr>
          </a:solidFill>
          <a:ln w="177840">
            <a:solidFill>
              <a:srgbClr val="993366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ubCross"/>
          <p:cNvSpPr/>
          <p:nvPr/>
        </p:nvSpPr>
        <p:spPr>
          <a:xfrm rot="2471400">
            <a:off x="3492360" y="2565360"/>
            <a:ext cx="1576440" cy="1584360"/>
          </a:xfrm>
          <a:custGeom>
            <a:avLst/>
            <a:gdLst>
              <a:gd name="textAreaLeft" fmla="*/ 693360 w 1576440"/>
              <a:gd name="textAreaRight" fmla="*/ 883080 w 1576440"/>
              <a:gd name="textAreaTop" fmla="*/ 692280 h 1584360"/>
              <a:gd name="textAreaBottom" fmla="*/ 892080 h 1584360"/>
            </a:gdLst>
            <a:ahLst/>
            <a:rect l="textAreaLeft" t="textAreaTop" r="textAreaRight" b="textAreaBottom"/>
            <a:pathLst>
              <a:path w="21600" h="21600">
                <a:moveTo>
                  <a:pt x="9503" y="0"/>
                </a:moveTo>
              </a:path>
              <a:path w="21600" h="21600">
                <a:moveTo>
                  <a:pt x="9503" y="9438"/>
                </a:moveTo>
                <a:lnTo>
                  <a:pt x="0" y="9438"/>
                </a:lnTo>
                <a:lnTo>
                  <a:pt x="0" y="12162"/>
                </a:lnTo>
              </a:path>
              <a:path w="21600" h="21600">
                <a:moveTo>
                  <a:pt x="9503" y="12162"/>
                </a:moveTo>
                <a:lnTo>
                  <a:pt x="9503" y="21600"/>
                </a:lnTo>
                <a:lnTo>
                  <a:pt x="12097" y="21600"/>
                </a:lnTo>
              </a:path>
              <a:path w="21600" h="21600">
                <a:moveTo>
                  <a:pt x="12097" y="12162"/>
                </a:moveTo>
                <a:lnTo>
                  <a:pt x="21600" y="12162"/>
                </a:lnTo>
                <a:lnTo>
                  <a:pt x="21600" y="9438"/>
                </a:lnTo>
                <a:lnTo>
                  <a:pt x="12097" y="9438"/>
                </a:lnTo>
                <a:lnTo>
                  <a:pt x="12097" y="0"/>
                </a:lnTo>
              </a:path>
            </a:pathLst>
          </a:custGeom>
          <a:solidFill>
            <a:srgbClr val="ff0000">
              <a:alpha val="4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64000" y="3789360"/>
            <a:ext cx="1368720" cy="1419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859280" y="1989000"/>
            <a:ext cx="404820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ojewódzki Program</a:t>
            </a:r>
            <a:endParaRPr b="0" lang="en-US" sz="2800" spc="1" strike="noStrike">
              <a:ln w="25560">
                <a:solidFill>
                  <a:srgbClr val="8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2800" spc="1" strike="noStrike">
                <a:ln w="2556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zwoju Energetyki</a:t>
            </a:r>
            <a:endParaRPr b="0" lang="en-US" sz="2800" spc="1" strike="noStrike">
              <a:ln w="25560">
                <a:solidFill>
                  <a:srgbClr val="8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3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859280" y="765000"/>
            <a:ext cx="367344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Dziękuję za uwagę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124000" y="1700280"/>
            <a:ext cx="6335640" cy="468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8080">
                  <a:alpha val="62352"/>
                </a:srgbClr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KONTA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Tomasz Moracze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Dyre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Departamentu Infrastruk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Urząd Marszałk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Województwa Kujawsko-Pomorski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87-100 Toru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ul. M. Skłodowskiej-Curie 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tel. +48 56 656 11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gsm +48 693 160 8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fax +48 56 656 11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t.moraczewski@kujawsko-pomorskie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75247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lan działania w celu poprawy efektywności energetycznej we Wspólnocie Europejskiej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Dokument zainspirowany został głównie dążeniem do wypełnienia zobowiązań zawartych w protokole z Kioto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akreśla cele dodatkowe - zwiększenie ochrony środowiska, prowadzenie zrównoważonej polityki energetycznej i wzmocnienie bezpieczeństwa energetyczneg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ction Plan prezentuje zasady i środki, które pomogą usunąć bariery wykorzystania potencjału efektywności energetycznej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Zaproponowano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środki pozwalające zaprojektować zintegrowanie działań w zakresie efektywności energetycznej oraz polityk i programów nie energetycznych takich jak polityka transportowa, polityka przedsiębiorstw, polityka regionalna i miejska, polityka podatkowa i taryfowa, współpraca międzynarodowa, polityka i mechanizmy poszczególnych krajów Unii Europejskiej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środki pozwalające wzmocnić i poszerzyć obecną politykę i mechanizmy służące efektywności energetycznej, np. poprawa wydajności w transporcie, schematy etykietowania, umowy negocjowane i minimalne standardy efektywności energetycznej, dobrowolne zobowiązania w przemyśle, kogeneracja, upowszechnianie nowych technologii i badań naukowych, finansowanie przez trzecią stronę (TPF), rozpowszechnianie informacji, monitorowanie i ocena wynikó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nowe reguły i mechanizmy w zakresie efektywności energetycznej, np. publiczne upowszechnianie nowych technologii energooszczędnych w sektorach transportowym i mieszkaniowym, wdrażanie programów audytów energetycznych w przemyśle i budownictwie, rozpowszechnianie i wprowadzanie zasad wymiany dobrych prakty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42920" y="404640"/>
            <a:ext cx="300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1280" y="765000"/>
            <a:ext cx="5869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ogram Zapobiegający Zmianie Klimatu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la realizacji zainicjowanego w 2000 roku programu zaproponowano trzy grupy przedsięwzięć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o pierwszej grupy zaliczają się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yrektywa wdrażająca schemat handlu emisjami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yrektywa w sprawie efektywności energetycznej budynków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yrektywa w sprawie biopaliw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yrektywa w sprawie przetargów publicznych związanych z efektywnością energetyczn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rugą grupę przedsięwzięć, stanowią uregulowania prawne w postaci dyrektyw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 kogeneracji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 usługach energetycznych i minimalnych standardach wydajności energetycznej dla sprzętu elektrycznego; nowelizacja przepisów z zakresu efektywności energetycznej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spieranie inicjatyw z zakresu technologii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cjatywa programu silnikowego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sparcie poprawy infrastruktury badań nad projektami z zakresu zmian klimatycznyc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zecia kategoria to środki zaliczane jako potrzebne w przyszłych przedsięwzięciach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 tej grupy zaliczają się: promocja ciepła wytwarzanego z odnawialnych źródeł energii, dobrowolne umowy w przemyśle, zachęty podatkowe dla użytkowników samochodów oraz dalsza poprawa technologii paliw i pojazdów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42920" y="404640"/>
            <a:ext cx="293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3280" y="620640"/>
            <a:ext cx="57592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Zielona księga europejskiej strategii bezpieczeństwa energetyczneg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76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lem tego dokumentu było zainicjowanie debaty                        o bezpieczeństwie energetycznym, które zostało uznane za najważniejszy element niezależności polityczno-ekonomicznej 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bata powinna uwzględniać, fakt że aktualne zapotrzebowanie na energię pokrywane jest w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1% przez ropę naftową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2 % gaz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 % węgiel (kamienny, brunatny i torf)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5 % energię jądrową i w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 % przez odnawialne źródła energii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żeli nie zostaną podjęte zdecydowane kroki, to całościowy obraz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ergetyki w roku 2030 zdominowany będzie nadal przez paliwa kopalne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pę naftową (38 %)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az (29 %)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liwa stałe (19 %)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dnawialne źródła energii (8 %) i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ergię jądrową (zaledwie 6 %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03640" y="549000"/>
            <a:ext cx="536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Krajowy Plan Działań dotyczący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efektywności energetycznej (EEAP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89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kument przyjęty w czerwcu 2007 r. przez Ministerstwo Gospodarki  stanowi realizację zapisu art. 14 ust. 2 Dyrektywy 2006/32/WE Parlamentu Europejskiego i Rady z dnia 5 kwietnia 2006 r. w sprawie efektywności końcowego wykorzystania energii i usług energetycznych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Zaproponowane w ramach Krajowego Planu Działań środki                    i działania mają za zadani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siągnięcie celu indykatywnego oszczędności energii na poziomie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9% w roku 2016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siągnięcie celu pośredniego oszczędności energii na poziomi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% w roku 2010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87280" y="404640"/>
            <a:ext cx="29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5688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Środki służące poprawie efektywności energetycznej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13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Środki służące poprawie efektywności energetycznej w sektorze mieszkalnictwa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Środki służące poprawie efektywności energetycznej w sektorze usług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Środki służące poprawie efektywności energetycznej w sektorze przemysłu*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Środki służące poprawie efektywności energetycznej w sektorze transportu**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*   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z wyłączeniem instalacji objętych wspólnotowym systemem   handlu emisjami,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**   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z wyłączeniem lotnictwa i żeglugi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16000" y="404640"/>
            <a:ext cx="314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24360" y="404280"/>
            <a:ext cx="4968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13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2349360"/>
          <a:ext cx="9144000" cy="4508640"/>
        </p:xfrm>
        <a:graphic>
          <a:graphicData uri="http://schemas.openxmlformats.org/drawingml/2006/table">
            <a:tbl>
              <a:tblPr/>
              <a:tblGrid>
                <a:gridCol w="538200"/>
                <a:gridCol w="3041640"/>
                <a:gridCol w="3825720"/>
                <a:gridCol w="1738440"/>
              </a:tblGrid>
              <a:tr h="128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wane środki po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ektywności energety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ziałanie w celu po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ektywności energety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odbiorcy końcow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prowadzenie systemu oceny energetycznej budynk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ertyfikacja nowych i istniejąc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udynków mieszkalnych realizow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 wyniku wdrażania Dyrekty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002/91/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do 2016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 ciągł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dusz Termomoderniz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wadzenie przedsięwzię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termomodernizacyjnych d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udynków mieszkaln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 do 2016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 ciągł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wanie racjonaln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ykorzystania energii 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spodarstwach domow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Ogólnopolska kampania informacyj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a temat celowości i opłacalnoś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tosowania wyrobów najbardzi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fektywnych energetycz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do 2016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 ciągł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0" y="498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3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16000" y="404640"/>
            <a:ext cx="28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765000"/>
            <a:ext cx="65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Środki służące poprawie efektywności energetycznej w sektorze mieszkalnict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9:48:02Z</dcterms:created>
  <dc:creator>JACEK WALSKI</dc:creator>
  <dc:description/>
  <dc:language>en-US</dc:language>
  <cp:lastModifiedBy>JACEK WALSKI</cp:lastModifiedBy>
  <dcterms:modified xsi:type="dcterms:W3CDTF">2008-10-29T06:49:00Z</dcterms:modified>
  <cp:revision>23</cp:revision>
  <dc:subject/>
  <dc:title>Racjonalizacja zużycia energii i optymalizacja kosztów w obiektach publicznych na przykładzie województwa kujawsko-pomorskiego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29390025</vt:r8>
  </property>
  <property fmtid="{D5CDD505-2E9C-101B-9397-08002B2CF9AE}" pid="3" name="_AuthorEmail">
    <vt:lpwstr>preda@preda.pl</vt:lpwstr>
  </property>
  <property fmtid="{D5CDD505-2E9C-101B-9397-08002B2CF9AE}" pid="4" name="_AuthorEmailDisplayName">
    <vt:lpwstr>AM PREDA</vt:lpwstr>
  </property>
  <property fmtid="{D5CDD505-2E9C-101B-9397-08002B2CF9AE}" pid="5" name="_EmailSubject">
    <vt:lpwstr>do poprawek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