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CC53-030A-465A-82A0-D96F7352DD64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2877B-5E77-4A17-A405-E57AB442C2FA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79AD-0BB1-4938-BB23-790349EF923C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C5ED5-EC93-437F-9B6D-1523247EA4B0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18F4-D90E-4FB0-A3C1-7EB4E0700A2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34D5E-B335-4952-8229-99E56D956ED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9F07B-9942-41A9-AF83-81B3B01AF56D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47331-C8B6-4EE7-8BE9-D9CCD8F254BE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61A0B-01A7-4759-88A0-B4FA49467326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4D225-E61B-4E76-BB2B-ECE8030E7971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4894-00B4-4AA1-B20C-509C43042843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5079F-2207-4468-B5DF-8A80800EE4E8}" type="slidenum"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79360" y="70956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41400" y="4327560"/>
            <a:ext cx="501984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8C8D-291C-4B50-B150-67AE7294E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124A-131F-43D0-8373-601ED6C03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B070-8B0D-422A-B3C2-AF86D9F74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6102-1AE8-4B93-A4BF-189874D0C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6553-C0DD-4D12-A61A-D478B56F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5E712-B7B6-456F-B50C-AC8E73F7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5958-2211-4271-8DD0-629088795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5690-E8E8-44F4-9CC4-2F351BD9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A141D-00C1-46E8-A7CC-A75C2E31C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FE26-EA0E-46E2-96EC-3C9674F03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EFA8D-CF4D-48F8-A523-A2F64873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D104-AC55-48FD-85C1-8E6B6625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2A728-F56B-417F-BC22-5C2DCF11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FAE60-D38E-493B-B689-4266B4026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F4D0-3DA5-4B6A-9F6B-8BAA056E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E305F-5CF0-4966-AB67-09F47A61D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BCE46-D44B-4116-A966-59E4B6B39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F26B0-AC31-43E6-A93E-10A16E1BC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C813A-4276-4E18-9D52-20440069D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C0B3-C0FA-4041-B864-61B0B399B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F1C76-C01A-4CA7-9EB2-4B09571D9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27FE9-3C5E-4AF9-A0D3-D7270FC1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C10F-C1E4-4128-8673-56A1C49F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C667-5B14-44E6-8050-723D865F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CA0C3-4586-49B7-B2CF-1C5EC56CEE33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7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D09F3-F405-4011-883E-F5F535C7DD7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02920" y="321264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6666"/>
                </a:solidFill>
                <a:latin typeface="Arial"/>
              </a:rPr>
              <a:t>Racjonalizacja zużycia energii i optymalizacja kosztów w obiektach publicznych na przykładzie województwa kujawsko-pomorskiego</a:t>
            </a: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763280" y="4723920"/>
            <a:ext cx="6193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ydział Infrastruktur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Urząd Marszałkowski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Verdana"/>
              </a:rPr>
              <a:t>Województwa Kujawsko - Pomorskieg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dańsk, 29 października 2008 r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971640" y="692280"/>
            <a:ext cx="1305000" cy="1441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484360" y="981000"/>
            <a:ext cx="5473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00" y="764640"/>
            <a:ext cx="54723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 w sektorze usług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9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0" y="1935000"/>
          <a:ext cx="9144000" cy="4923000"/>
        </p:xfrm>
        <a:graphic>
          <a:graphicData uri="http://schemas.openxmlformats.org/drawingml/2006/table">
            <a:tbl>
              <a:tblPr/>
              <a:tblGrid>
                <a:gridCol w="538200"/>
                <a:gridCol w="3313080"/>
                <a:gridCol w="4006800"/>
                <a:gridCol w="1285920"/>
              </a:tblGrid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927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większenie udziału w rynk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ooszczędnych produktó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używających energi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reślenie min. wymagań dla nowych produktów zużywających energię wprowadzanych do obro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wdrażanie Dyrektywy 2005/32/W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80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gram oszczędnego gospodarowania energią w sektorze publiczny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obowiązanie administracji rządowej 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ejmowania działań energooszczędnych w ramach pełnienia przez nią wzorcowej rol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65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cja usług energetycz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nywanych przez E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obudzenie rynku dla firm usług energetycznych (ESC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do 20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869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gram Operacyjny Infrastruktura i Środowisko na lata 2007-2013 ora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gionalne Programy Operacyj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sparcie finansowe działań dotycząc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bniżenia energochłonności sektora publiczneg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93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rant z Globalnego Funduszu Ochrony Środowiska (GEF) – Projek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sparcie finansowe przedsięwzięć 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zakresie termomodernizacji budynków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miejskich systemów grzewczych i sieci cieplny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5 do 20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1600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843280" y="189000"/>
            <a:ext cx="52927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2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1265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55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201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67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1922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0" y="1989000"/>
          <a:ext cx="9144000" cy="4869000"/>
        </p:xfrm>
        <a:graphic>
          <a:graphicData uri="http://schemas.openxmlformats.org/drawingml/2006/table">
            <a:tbl>
              <a:tblPr/>
              <a:tblGrid>
                <a:gridCol w="623880"/>
                <a:gridCol w="2957400"/>
                <a:gridCol w="3824280"/>
                <a:gridCol w="1738440"/>
              </a:tblGrid>
              <a:tr h="1098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2016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prowadzenie system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zarządzania ruchem 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infrastrukturą transportow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a mające na celu wzr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 w transporcie poprzez planowanie i koordynacj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arządzania ruchem i infrastruktur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ransportową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175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mowanie system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ransportu zrównoważo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raz efektyw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ykorzystania paliw 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ransporc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a promujące wprowadze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nergooszczędnych środków transpor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raz ekologicznego sposobu jazdy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62" name=""/>
          <p:cNvSpPr/>
          <p:nvPr/>
        </p:nvSpPr>
        <p:spPr>
          <a:xfrm>
            <a:off x="0" y="44956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1187280" y="404640"/>
            <a:ext cx="329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03640" y="692280"/>
            <a:ext cx="594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 w sektorze transpor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276360" y="188640"/>
            <a:ext cx="52909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rajowy Plan Działań dotyczący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fektywności energetycznej (EEAP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042920" y="1773360"/>
          <a:ext cx="7632720" cy="4465440"/>
        </p:xfrm>
        <a:graphic>
          <a:graphicData uri="http://schemas.openxmlformats.org/drawingml/2006/table">
            <a:tbl>
              <a:tblPr/>
              <a:tblGrid>
                <a:gridCol w="7632720"/>
              </a:tblGrid>
              <a:tr h="4465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69800" indent="-469800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kreślenie podmiotów objętych regulacją,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 cele w zakresie oszczędności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liczanie oszczędności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wzorcową rolę sektora publicznego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wiązki dostawców energii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bowiązki dostawców urządzeń zużywających energię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białych certyfikatów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dobrowolnych zobowiązań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ystem nadzoru i monitorowania,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469800" indent="-469800">
                        <a:lnSpc>
                          <a:spcPct val="100000"/>
                        </a:lnSpc>
                        <a:buClr>
                          <a:srgbClr val="ff0000"/>
                        </a:buClr>
                        <a:buSzPct val="70000"/>
                        <a:buFont typeface="Wingdings" charset="2"/>
                        <a:buChar char=""/>
                        <a:tabLst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ajowe plany działania na rzecz efektywności energetycznej.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18728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203280" y="907560"/>
            <a:ext cx="547380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Wzorcowa rola sektora publicznego</a:t>
            </a:r>
            <a:r>
              <a:rPr b="1" lang="en-US" sz="34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300" spc="-1" strike="noStrike">
                <a:solidFill>
                  <a:srgbClr val="006666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95280" y="1773360"/>
          <a:ext cx="8497800" cy="4902120"/>
        </p:xfrm>
        <a:graphic>
          <a:graphicData uri="http://schemas.openxmlformats.org/drawingml/2006/table">
            <a:tbl>
              <a:tblPr/>
              <a:tblGrid>
                <a:gridCol w="8497800"/>
              </a:tblGrid>
              <a:tr h="82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ada Ministrów określi katalog działań obowiązkowych do przeprowadzenia przez jednostki sektora publicznego przy realizacji krajowego celu oszczędności energii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zmocniona zostanie rola gminnych planów energetycznych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W przepisach o zamówieniach publicznych zostaną wprowadzone regulacje dotyczące zakupów urządzeń o najwyższej uzasadnionej ekonomicznie klasie efektywności energetycznej oraz uwzględniania w realizowanych inwestycjach kryterium maksymalnej efektywności energetycznej przy założonym poziomie kosztów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ostanie wskazany organ administracji rządowej odpowiedzialny za wymianę najlepszych praktyk w powyższym zakresie pomiędzy jednostkami sektora publiczneg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ednostki sektora publicznego o podejmowanych działaniach w zakresie oszczędnego gospodarowania energią będą informować społeczeństwo.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5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rajowy organ nadzorujący (URE) będzie monitorował wypełnianie obowiązku na podstawie kryterium wyznaczonym w krajowych celach oszczędności energii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187280" y="404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1628640"/>
            <a:ext cx="784872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2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konomiczny aspekt </a:t>
            </a: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fektywności energetyczn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24000" y="980640"/>
            <a:ext cx="4825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Ustawa o finansach publicznych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55640" y="2923920"/>
            <a:ext cx="8066160" cy="31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rt. 35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Wydatki publiczne powinny być dokonywa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 sposób celowy i oszczędny, z zachowaniem zasady uzyskiwania najlepszych efektów z danych nakładów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1116000" y="40464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76720" y="836280"/>
            <a:ext cx="33861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810360" y="1771920"/>
            <a:ext cx="7454160" cy="4770000"/>
            <a:chOff x="810360" y="1771920"/>
            <a:chExt cx="7454160" cy="4770000"/>
          </a:xfrm>
        </p:grpSpPr>
        <p:sp>
          <p:nvSpPr>
            <p:cNvPr id="184" name="_s54298"/>
            <p:cNvSpPr/>
            <p:nvPr/>
          </p:nvSpPr>
          <p:spPr>
            <a:xfrm flipH="1" flipV="1">
              <a:off x="3044880" y="3473280"/>
              <a:ext cx="74988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_s54297"/>
            <p:cNvSpPr/>
            <p:nvPr/>
          </p:nvSpPr>
          <p:spPr>
            <a:xfrm>
              <a:off x="1357560" y="247392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Oświa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_s54278"/>
            <p:cNvSpPr/>
            <p:nvPr/>
          </p:nvSpPr>
          <p:spPr>
            <a:xfrm flipH="1">
              <a:off x="2676600" y="4386240"/>
              <a:ext cx="9392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_s54279"/>
            <p:cNvSpPr/>
            <p:nvPr/>
          </p:nvSpPr>
          <p:spPr>
            <a:xfrm>
              <a:off x="810360" y="404496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Majątku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Województw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_s54280"/>
            <p:cNvSpPr/>
            <p:nvPr/>
          </p:nvSpPr>
          <p:spPr>
            <a:xfrm flipH="1">
              <a:off x="3708360" y="4803120"/>
              <a:ext cx="419040" cy="5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_s54281"/>
            <p:cNvSpPr/>
            <p:nvPr/>
          </p:nvSpPr>
          <p:spPr>
            <a:xfrm>
              <a:off x="2354040" y="530424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Kult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_s54282"/>
            <p:cNvSpPr/>
            <p:nvPr/>
          </p:nvSpPr>
          <p:spPr>
            <a:xfrm>
              <a:off x="4947120" y="4801320"/>
              <a:ext cx="41292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_s54283"/>
            <p:cNvSpPr/>
            <p:nvPr/>
          </p:nvSpPr>
          <p:spPr>
            <a:xfrm>
              <a:off x="4824360" y="530208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Sport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54296"/>
            <p:cNvSpPr/>
            <p:nvPr/>
          </p:nvSpPr>
          <p:spPr>
            <a:xfrm>
              <a:off x="5455800" y="4384080"/>
              <a:ext cx="9360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_s54295"/>
            <p:cNvSpPr/>
            <p:nvPr/>
          </p:nvSpPr>
          <p:spPr>
            <a:xfrm>
              <a:off x="6364800" y="4042800"/>
              <a:ext cx="1899720" cy="1238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ospodark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_s54284"/>
            <p:cNvSpPr/>
            <p:nvPr/>
          </p:nvSpPr>
          <p:spPr>
            <a:xfrm flipV="1">
              <a:off x="5273280" y="3473280"/>
              <a:ext cx="750600" cy="38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54285"/>
            <p:cNvSpPr/>
            <p:nvPr/>
          </p:nvSpPr>
          <p:spPr>
            <a:xfrm>
              <a:off x="5814720" y="247176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Administracj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_s54286"/>
            <p:cNvSpPr/>
            <p:nvPr/>
          </p:nvSpPr>
          <p:spPr>
            <a:xfrm flipV="1">
              <a:off x="4534560" y="3007800"/>
              <a:ext cx="0" cy="62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_s54287"/>
            <p:cNvSpPr/>
            <p:nvPr/>
          </p:nvSpPr>
          <p:spPr>
            <a:xfrm>
              <a:off x="3586320" y="177192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Departamen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Zdrow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_s54292"/>
            <p:cNvSpPr/>
            <p:nvPr/>
          </p:nvSpPr>
          <p:spPr>
            <a:xfrm>
              <a:off x="3586320" y="3631680"/>
              <a:ext cx="1899000" cy="1237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ff"/>
                  </a:solidFill>
                  <a:latin typeface="Tahoma"/>
                </a:rPr>
                <a:t>Budżet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547560" cy="60336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16000" y="333360"/>
            <a:ext cx="280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716360" y="692280"/>
            <a:ext cx="395928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810360" y="1771920"/>
            <a:ext cx="7454160" cy="4770000"/>
            <a:chOff x="810360" y="1771920"/>
            <a:chExt cx="7454160" cy="4770000"/>
          </a:xfrm>
        </p:grpSpPr>
        <p:sp>
          <p:nvSpPr>
            <p:cNvPr id="203" name="_s52230"/>
            <p:cNvSpPr/>
            <p:nvPr/>
          </p:nvSpPr>
          <p:spPr>
            <a:xfrm flipH="1" flipV="1">
              <a:off x="3044880" y="3473280"/>
              <a:ext cx="749880" cy="391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_s52231"/>
            <p:cNvSpPr/>
            <p:nvPr/>
          </p:nvSpPr>
          <p:spPr>
            <a:xfrm>
              <a:off x="1357560" y="247392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rog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_s52232"/>
            <p:cNvSpPr/>
            <p:nvPr/>
          </p:nvSpPr>
          <p:spPr>
            <a:xfrm flipH="1">
              <a:off x="2676600" y="4386240"/>
              <a:ext cx="939240" cy="13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_s52233"/>
            <p:cNvSpPr/>
            <p:nvPr/>
          </p:nvSpPr>
          <p:spPr>
            <a:xfrm>
              <a:off x="810360" y="4044960"/>
              <a:ext cx="189972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omunal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_s52234"/>
            <p:cNvSpPr/>
            <p:nvPr/>
          </p:nvSpPr>
          <p:spPr>
            <a:xfrm flipH="1">
              <a:off x="3708360" y="4803120"/>
              <a:ext cx="419040" cy="563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_s52235"/>
            <p:cNvSpPr/>
            <p:nvPr/>
          </p:nvSpPr>
          <p:spPr>
            <a:xfrm>
              <a:off x="2354040" y="530424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urzędu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52236"/>
            <p:cNvSpPr/>
            <p:nvPr/>
          </p:nvSpPr>
          <p:spPr>
            <a:xfrm>
              <a:off x="4947120" y="4801320"/>
              <a:ext cx="412920" cy="565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_s52237"/>
            <p:cNvSpPr/>
            <p:nvPr/>
          </p:nvSpPr>
          <p:spPr>
            <a:xfrm>
              <a:off x="4824360" y="530208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środki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kultur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_s52238"/>
            <p:cNvSpPr/>
            <p:nvPr/>
          </p:nvSpPr>
          <p:spPr>
            <a:xfrm>
              <a:off x="5455800" y="4384080"/>
              <a:ext cx="936000" cy="140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52239"/>
            <p:cNvSpPr/>
            <p:nvPr/>
          </p:nvSpPr>
          <p:spPr>
            <a:xfrm>
              <a:off x="6364800" y="4042800"/>
              <a:ext cx="1899720" cy="123804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służby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zdrowi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_s52240"/>
            <p:cNvSpPr/>
            <p:nvPr/>
          </p:nvSpPr>
          <p:spPr>
            <a:xfrm flipV="1">
              <a:off x="5273280" y="3473280"/>
              <a:ext cx="750600" cy="389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52241"/>
            <p:cNvSpPr/>
            <p:nvPr/>
          </p:nvSpPr>
          <p:spPr>
            <a:xfrm>
              <a:off x="5814720" y="247176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52242"/>
            <p:cNvSpPr/>
            <p:nvPr/>
          </p:nvSpPr>
          <p:spPr>
            <a:xfrm flipV="1">
              <a:off x="4534560" y="3007800"/>
              <a:ext cx="0" cy="62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52243"/>
            <p:cNvSpPr/>
            <p:nvPr/>
          </p:nvSpPr>
          <p:spPr>
            <a:xfrm>
              <a:off x="3586320" y="1771920"/>
              <a:ext cx="1899000" cy="1237680"/>
            </a:xfrm>
            <a:prstGeom prst="ellipse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biekty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oświatow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52244"/>
            <p:cNvSpPr/>
            <p:nvPr/>
          </p:nvSpPr>
          <p:spPr>
            <a:xfrm>
              <a:off x="3586320" y="3631680"/>
              <a:ext cx="1899000" cy="1237680"/>
            </a:xfrm>
            <a:prstGeom prst="ellips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Budże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111600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00360" y="692280"/>
            <a:ext cx="4174920" cy="57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79280" y="1773360"/>
            <a:ext cx="8785440" cy="4877640"/>
            <a:chOff x="179280" y="1773360"/>
            <a:chExt cx="8785440" cy="4877640"/>
          </a:xfrm>
        </p:grpSpPr>
        <p:cxnSp>
          <p:nvCxnSpPr>
            <p:cNvPr id="222" name="_s82949"/>
            <p:cNvCxnSpPr>
              <a:stCxn id="223" idx="1"/>
              <a:endCxn id="224" idx="2"/>
            </p:cNvCxnSpPr>
            <p:nvPr/>
          </p:nvCxnSpPr>
          <p:spPr>
            <a:xfrm rot="10800000">
              <a:off x="4571280" y="2659320"/>
              <a:ext cx="183600" cy="8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5" name="_s82950"/>
            <p:cNvCxnSpPr>
              <a:stCxn id="226" idx="3"/>
              <a:endCxn id="224" idx="2"/>
            </p:cNvCxnSpPr>
            <p:nvPr/>
          </p:nvCxnSpPr>
          <p:spPr>
            <a:xfrm flipV="1">
              <a:off x="4388760" y="2659320"/>
              <a:ext cx="183600" cy="88740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27" name="_s82951"/>
            <p:cNvCxnSpPr>
              <a:stCxn id="228" idx="0"/>
              <a:endCxn id="229" idx="2"/>
            </p:cNvCxnSpPr>
            <p:nvPr/>
          </p:nvCxnSpPr>
          <p:spPr>
            <a:xfrm flipV="1">
              <a:off x="8416080" y="5320080"/>
              <a:ext cx="180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0" name="_s82952"/>
            <p:cNvCxnSpPr>
              <a:stCxn id="229" idx="0"/>
              <a:endCxn id="224" idx="2"/>
            </p:cNvCxnSpPr>
            <p:nvPr/>
          </p:nvCxnSpPr>
          <p:spPr>
            <a:xfrm flipV="1" rot="16200000">
              <a:off x="5606640" y="1623960"/>
              <a:ext cx="1774440" cy="384516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1" name="_s82953"/>
            <p:cNvCxnSpPr>
              <a:stCxn id="232" idx="0"/>
              <a:endCxn id="233" idx="2"/>
            </p:cNvCxnSpPr>
            <p:nvPr/>
          </p:nvCxnSpPr>
          <p:spPr>
            <a:xfrm flipV="1">
              <a:off x="71362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4" name="_s82954"/>
            <p:cNvCxnSpPr>
              <a:stCxn id="235" idx="0"/>
              <a:endCxn id="236" idx="2"/>
            </p:cNvCxnSpPr>
            <p:nvPr/>
          </p:nvCxnSpPr>
          <p:spPr>
            <a:xfrm flipV="1">
              <a:off x="58546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37" name="_s82955"/>
            <p:cNvCxnSpPr>
              <a:stCxn id="238" idx="0"/>
              <a:endCxn id="239" idx="2"/>
            </p:cNvCxnSpPr>
            <p:nvPr/>
          </p:nvCxnSpPr>
          <p:spPr>
            <a:xfrm flipV="1">
              <a:off x="4574160" y="5320080"/>
              <a:ext cx="180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0" name="_s82956"/>
            <p:cNvCxnSpPr>
              <a:stCxn id="241" idx="0"/>
              <a:endCxn id="242" idx="2"/>
            </p:cNvCxnSpPr>
            <p:nvPr/>
          </p:nvCxnSpPr>
          <p:spPr>
            <a:xfrm flipV="1" rot="16200000">
              <a:off x="3070080" y="5540760"/>
              <a:ext cx="443880" cy="2160"/>
            </a:xfrm>
            <a:prstGeom prst="bentConnector3">
              <a:avLst>
                <a:gd name="adj1" fmla="val 2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3" name="_s82957"/>
            <p:cNvCxnSpPr>
              <a:stCxn id="244" idx="0"/>
              <a:endCxn id="245" idx="2"/>
            </p:cNvCxnSpPr>
            <p:nvPr/>
          </p:nvCxnSpPr>
          <p:spPr>
            <a:xfrm flipV="1">
              <a:off x="2009880" y="5320080"/>
              <a:ext cx="2160" cy="44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6" name="_s82958"/>
            <p:cNvCxnSpPr>
              <a:stCxn id="247" idx="0"/>
              <a:endCxn id="248" idx="2"/>
            </p:cNvCxnSpPr>
            <p:nvPr/>
          </p:nvCxnSpPr>
          <p:spPr>
            <a:xfrm flipV="1" rot="16200000">
              <a:off x="506880" y="5540760"/>
              <a:ext cx="443880" cy="2160"/>
            </a:xfrm>
            <a:prstGeom prst="bentConnector3">
              <a:avLst>
                <a:gd name="adj1" fmla="val 25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9" name="_s82959"/>
            <p:cNvCxnSpPr>
              <a:stCxn id="233" idx="0"/>
              <a:endCxn id="224" idx="2"/>
            </p:cNvCxnSpPr>
            <p:nvPr/>
          </p:nvCxnSpPr>
          <p:spPr>
            <a:xfrm flipV="1" rot="16200000">
              <a:off x="4966560" y="2264040"/>
              <a:ext cx="1774440" cy="256464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0" name="_s82960"/>
            <p:cNvCxnSpPr>
              <a:stCxn id="236" idx="0"/>
              <a:endCxn id="224" idx="2"/>
            </p:cNvCxnSpPr>
            <p:nvPr/>
          </p:nvCxnSpPr>
          <p:spPr>
            <a:xfrm flipV="1" rot="16200000">
              <a:off x="4325760" y="2904840"/>
              <a:ext cx="1774440" cy="128340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1" name="_s82961"/>
            <p:cNvCxnSpPr>
              <a:stCxn id="239" idx="0"/>
              <a:endCxn id="224" idx="2"/>
            </p:cNvCxnSpPr>
            <p:nvPr/>
          </p:nvCxnSpPr>
          <p:spPr>
            <a:xfrm flipV="1" rot="16200000">
              <a:off x="3686400" y="3545280"/>
              <a:ext cx="1774440" cy="216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2" name="_s82962"/>
            <p:cNvCxnSpPr>
              <a:stCxn id="242" idx="0"/>
              <a:endCxn id="224" idx="2"/>
            </p:cNvCxnSpPr>
            <p:nvPr/>
          </p:nvCxnSpPr>
          <p:spPr>
            <a:xfrm flipH="1" flipV="1" rot="5400000">
              <a:off x="3044520" y="2905920"/>
              <a:ext cx="1774440" cy="128160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3" name="_s82963"/>
            <p:cNvCxnSpPr>
              <a:stCxn id="245" idx="0"/>
              <a:endCxn id="224" idx="2"/>
            </p:cNvCxnSpPr>
            <p:nvPr/>
          </p:nvCxnSpPr>
          <p:spPr>
            <a:xfrm flipH="1" flipV="1" rot="5400000">
              <a:off x="2403720" y="2265480"/>
              <a:ext cx="1774440" cy="256248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54" name="_s82964"/>
            <p:cNvCxnSpPr>
              <a:stCxn id="248" idx="0"/>
              <a:endCxn id="224" idx="2"/>
            </p:cNvCxnSpPr>
            <p:nvPr/>
          </p:nvCxnSpPr>
          <p:spPr>
            <a:xfrm flipH="1" flipV="1" rot="5400000">
              <a:off x="1762920" y="1624680"/>
              <a:ext cx="1774440" cy="3844080"/>
            </a:xfrm>
            <a:prstGeom prst="bentConnector3">
              <a:avLst>
                <a:gd name="adj1" fmla="val 625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24" name="_s82965"/>
            <p:cNvSpPr/>
            <p:nvPr/>
          </p:nvSpPr>
          <p:spPr>
            <a:xfrm>
              <a:off x="4022640" y="17733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Urząd Marszałkows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ojewództw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ujawsko-Pomorski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_s82966"/>
            <p:cNvSpPr/>
            <p:nvPr/>
          </p:nvSpPr>
          <p:spPr>
            <a:xfrm>
              <a:off x="17928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dukacji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ortu i Turysty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82967"/>
            <p:cNvSpPr/>
            <p:nvPr/>
          </p:nvSpPr>
          <p:spPr>
            <a:xfrm>
              <a:off x="14605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Kultu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Dziedzictw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arodow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82968"/>
            <p:cNvSpPr/>
            <p:nvPr/>
          </p:nvSpPr>
          <p:spPr>
            <a:xfrm>
              <a:off x="27421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frastruktury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82969"/>
            <p:cNvSpPr/>
            <p:nvPr/>
          </p:nvSpPr>
          <p:spPr>
            <a:xfrm>
              <a:off x="40237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lnictwa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Rozwoju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bszarów Wiejskich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Geodezj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82970"/>
            <p:cNvSpPr/>
            <p:nvPr/>
          </p:nvSpPr>
          <p:spPr>
            <a:xfrm>
              <a:off x="5305320" y="4433760"/>
              <a:ext cx="109836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Zdrowia,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westycji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Nadzoru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Właścicielski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82971"/>
            <p:cNvSpPr/>
            <p:nvPr/>
          </p:nvSpPr>
          <p:spPr>
            <a:xfrm>
              <a:off x="6586920" y="44337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raw Społecznych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_s82972"/>
            <p:cNvSpPr/>
            <p:nvPr/>
          </p:nvSpPr>
          <p:spPr>
            <a:xfrm>
              <a:off x="18072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82973"/>
            <p:cNvSpPr/>
            <p:nvPr/>
          </p:nvSpPr>
          <p:spPr>
            <a:xfrm>
              <a:off x="14619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82974"/>
            <p:cNvSpPr/>
            <p:nvPr/>
          </p:nvSpPr>
          <p:spPr>
            <a:xfrm>
              <a:off x="27435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82975"/>
            <p:cNvSpPr/>
            <p:nvPr/>
          </p:nvSpPr>
          <p:spPr>
            <a:xfrm>
              <a:off x="40251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 + 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82976"/>
            <p:cNvSpPr/>
            <p:nvPr/>
          </p:nvSpPr>
          <p:spPr>
            <a:xfrm>
              <a:off x="5306760" y="5764320"/>
              <a:ext cx="109692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82977"/>
            <p:cNvSpPr/>
            <p:nvPr/>
          </p:nvSpPr>
          <p:spPr>
            <a:xfrm>
              <a:off x="6586920" y="576432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82978"/>
            <p:cNvSpPr/>
            <p:nvPr/>
          </p:nvSpPr>
          <p:spPr>
            <a:xfrm>
              <a:off x="7867440" y="44337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epartament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lanowania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trategicznego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 Gospodarcz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82979"/>
            <p:cNvSpPr/>
            <p:nvPr/>
          </p:nvSpPr>
          <p:spPr>
            <a:xfrm>
              <a:off x="7867440" y="576432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82980"/>
            <p:cNvSpPr/>
            <p:nvPr/>
          </p:nvSpPr>
          <p:spPr>
            <a:xfrm>
              <a:off x="3291480" y="31035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półki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awa Handlowego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82981"/>
            <p:cNvSpPr/>
            <p:nvPr/>
          </p:nvSpPr>
          <p:spPr>
            <a:xfrm>
              <a:off x="4754880" y="3103560"/>
              <a:ext cx="1097280" cy="886680"/>
            </a:xfrm>
            <a:prstGeom prst="roundRect">
              <a:avLst>
                <a:gd name="adj" fmla="val 16667"/>
              </a:avLst>
            </a:prstGeom>
            <a:solidFill>
              <a:srgbClr val="33cccc"/>
            </a:solidFill>
            <a:ln w="0">
              <a:noFill/>
            </a:ln>
            <a:effectLst>
              <a:outerShdw dist="153753" dir="2700000" blurRad="0" rotWithShape="0">
                <a:srgbClr val="1e797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spcBef>
                  <a:spcPts val="2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395280" y="5300640"/>
            <a:ext cx="8209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619280" y="595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39640" y="1700280"/>
            <a:ext cx="3384720" cy="5445000"/>
          </a:xfrm>
          <a:custGeom>
            <a:avLst/>
            <a:gdLst>
              <a:gd name="textAreaLeft" fmla="*/ 453240 w 3384720"/>
              <a:gd name="textAreaRight" fmla="*/ 2931480 w 3384720"/>
              <a:gd name="textAreaTop" fmla="*/ 1139040 h 5445000"/>
              <a:gd name="textAreaBottom" fmla="*/ 3687120 h 5445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7" stAng="-5400000" swAng="-5400000"/>
                <a:lnTo>
                  <a:pt x="0" y="10108"/>
                </a:lnTo>
                <a:arcTo wR="21600" hR="9037" stAng="10800000" swAng="-1241124"/>
                <a:lnTo>
                  <a:pt x="5565" y="18618"/>
                </a:lnTo>
                <a:lnTo>
                  <a:pt x="21600" y="18609"/>
                </a:lnTo>
                <a:lnTo>
                  <a:pt x="5565" y="12635"/>
                </a:lnTo>
                <a:lnTo>
                  <a:pt x="5565" y="15091"/>
                </a:lnTo>
                <a:arcTo wR="21600" hR="9037" stAng="9558876" swAng="1155764"/>
                <a:lnTo>
                  <a:pt x="38" y="9572"/>
                </a:lnTo>
                <a:arcTo wR="21600" hR="9037" stAng="-10714640" swAng="5314640"/>
                <a:close/>
              </a:path>
              <a:path fill="darkenLess" w="21600" h="21600">
                <a:moveTo>
                  <a:pt x="21600" y="0"/>
                </a:moveTo>
                <a:arcTo wR="21600" hR="9037" stAng="-5400000" swAng="-5400000"/>
                <a:lnTo>
                  <a:pt x="0" y="9037"/>
                </a:lnTo>
                <a:arcTo wR="21600" hR="9037" stAng="10800000" swAng="-85360"/>
                <a:lnTo>
                  <a:pt x="38" y="9572"/>
                </a:lnTo>
                <a:arcTo wR="21600" hR="9037" stAng="-10714640" swAng="5314640"/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476360" y="1484280"/>
            <a:ext cx="25243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Zarządzani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5218920" y="1628640"/>
            <a:ext cx="3313080" cy="5545440"/>
          </a:xfrm>
          <a:custGeom>
            <a:avLst/>
            <a:gdLst>
              <a:gd name="textAreaLeft" fmla="*/ 443880 w 3313080"/>
              <a:gd name="textAreaRight" fmla="*/ 2869200 w 3313080"/>
              <a:gd name="textAreaTop" fmla="*/ 1159920 h 5545440"/>
              <a:gd name="textAreaBottom" fmla="*/ 3755160 h 5545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37" stAng="-5400000" swAng="-5400000"/>
                <a:lnTo>
                  <a:pt x="0" y="10108"/>
                </a:lnTo>
                <a:arcTo wR="21600" hR="9037" stAng="10800000" swAng="-1241124"/>
                <a:lnTo>
                  <a:pt x="5565" y="18618"/>
                </a:lnTo>
                <a:lnTo>
                  <a:pt x="21600" y="18609"/>
                </a:lnTo>
                <a:lnTo>
                  <a:pt x="5565" y="12635"/>
                </a:lnTo>
                <a:lnTo>
                  <a:pt x="5565" y="15091"/>
                </a:lnTo>
                <a:arcTo wR="21600" hR="9037" stAng="9558876" swAng="1155764"/>
                <a:lnTo>
                  <a:pt x="38" y="9572"/>
                </a:lnTo>
                <a:arcTo wR="21600" hR="9037" stAng="-10714640" swAng="5314640"/>
                <a:close/>
              </a:path>
              <a:path fill="darkenLess" w="21600" h="21600">
                <a:moveTo>
                  <a:pt x="21600" y="0"/>
                </a:moveTo>
                <a:arcTo wR="21600" hR="9037" stAng="-5400000" swAng="-5400000"/>
                <a:lnTo>
                  <a:pt x="0" y="9037"/>
                </a:lnTo>
                <a:arcTo wR="21600" hR="9037" stAng="10800000" swAng="-85360"/>
                <a:lnTo>
                  <a:pt x="38" y="9572"/>
                </a:lnTo>
                <a:arcTo wR="21600" hR="9037" stAng="-10714640" swAng="5314640"/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5219640" y="1413000"/>
            <a:ext cx="280980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Finansowanie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5734080"/>
            <a:ext cx="8785440" cy="914400"/>
          </a:xfrm>
          <a:prstGeom prst="rect">
            <a:avLst/>
          </a:prstGeom>
          <a:solidFill>
            <a:srgbClr val="003366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64 jednostk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77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" dur="770" fill="hold"/>
                                        <p:tgtEl>
                                          <p:spTgt spid="25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" dur="77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77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770" fill="hold"/>
                                        <p:tgtEl>
                                          <p:spTgt spid="26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" dur="77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858920" y="765000"/>
            <a:ext cx="3824280" cy="6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roblem zarządzania i finansowania energetyki w rozproszeniu jest problemem także samorządu powiatowego, miejskiego, miejsko-gminnego i gminneg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acjonalizacja w samorządowym zarządzaniu energią musi oprzeć się na jego scentralizowaniu, które będzie gwarantowało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konomizację energetyk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acjonalizację zużycia energi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ymuszanie dbałości o środowisko naturalne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realizację energetycznych potrzeb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wprowadzanie nowych technologii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bezpieczeństwo energetyczne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energetyczną edukację społeczną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1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rawny aspekt efektywności energetycznej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858920" y="620280"/>
            <a:ext cx="3745080" cy="52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arządzanie energią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26560" y="1844640"/>
            <a:ext cx="3589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oces zmian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naliza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Audyt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Przetar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132000" y="1600200"/>
          <a:ext cx="5554800" cy="4967280"/>
        </p:xfrm>
        <a:graphic>
          <a:graphicData uri="http://schemas.openxmlformats.org/drawingml/2006/table">
            <a:tbl>
              <a:tblPr/>
              <a:tblGrid>
                <a:gridCol w="1727280"/>
                <a:gridCol w="3827520"/>
              </a:tblGrid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rminarz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adani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aj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aliza wewnętrzna koncepcji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ocząt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erwca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kceptacja koncepcji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Koniec Czerwca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racowanie procedury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zerwiec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piec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ruchomienie procedur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Zebranie materiału analitycznego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w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racowanie danych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stopad 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yzja o przeprowadzeniu audytów i sporządzeniu SIWZ dla procedury przetargowej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995640" y="692280"/>
            <a:ext cx="4680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lektro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11280" y="2276640"/>
            <a:ext cx="8316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lektroenergetycznych dla jednostki publicznej              w województwie kujawsko-pomorskim                              wynosi  6.400 zł, co stanowi 11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410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bezinwestycyjne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211280" y="692280"/>
            <a:ext cx="43210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lektro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lektroenergetycznych dla jednostki publicznej              w województwie kujawsko-pomorskim                              wynosi  11.000 zł, co stanowi 20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704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gdzie konieczna jest inwestycja (bez określenia stopy zwrotu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787640" y="404640"/>
            <a:ext cx="387324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Analiza energetyczna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31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Średnie możliwe ograniczenie kosztów z przeprowadzonych analiz energetycznych dla jednostki publicznej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 województwie kujawsko-pomorskim                              wynosi  24.300 zł, co stanowi 28 % kosztów energi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zacowany wynik finansowy dla wszystkich jednostek wynosi 1.550.000 z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Verdana"/>
              </a:rPr>
              <a:t>*Analiza obejmuje rozwiązania gdzie konieczna jest inwestycja (bez określenia stopy zwrotu)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219640" y="765000"/>
            <a:ext cx="34560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Oszczędnośc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331640" y="2565000"/>
            <a:ext cx="7313400" cy="20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zacunkowa suma możliwych oszczędności                    w obiektach województwa kujawsko-pomorskiego wynosi około: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660.000 zł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763280" y="981000"/>
            <a:ext cx="72010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zewidywany wynik finansowy                             dla działań bezinwestycyjnych w elektroenergetyce 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1370160" y="2133720"/>
          <a:ext cx="3489120" cy="4219560"/>
        </p:xfrm>
        <a:graphic>
          <a:graphicData uri="http://schemas.openxmlformats.org/drawingml/2006/table">
            <a:tbl>
              <a:tblPr/>
              <a:tblGrid>
                <a:gridCol w="1746000"/>
                <a:gridCol w="1743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1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6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1" name=""/>
          <p:cNvGraphicFramePr/>
          <p:nvPr/>
        </p:nvGraphicFramePr>
        <p:xfrm>
          <a:off x="5094360" y="2133720"/>
          <a:ext cx="3294000" cy="4219560"/>
        </p:xfrm>
        <a:graphic>
          <a:graphicData uri="http://schemas.openxmlformats.org/drawingml/2006/table">
            <a:tbl>
              <a:tblPr/>
              <a:tblGrid>
                <a:gridCol w="1647720"/>
                <a:gridCol w="16462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8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2" name=""/>
          <p:cNvSpPr txBox="1"/>
          <p:nvPr/>
        </p:nvSpPr>
        <p:spPr>
          <a:xfrm rot="20887800">
            <a:off x="971640" y="3068280"/>
            <a:ext cx="914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816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707070"/>
                    </a:gs>
                    <a:gs pos="50000">
                      <a:srgbClr val="ffffff"/>
                    </a:gs>
                    <a:gs pos="100000">
                      <a:srgbClr val="707070"/>
                    </a:gs>
                  </a:gsLst>
                  <a:lin ang="13500000"/>
                </a:gradFill>
                <a:latin typeface="Impact"/>
              </a:rPr>
              <a:t>Narastająco     4.426.000     z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707070"/>
                  </a:gs>
                  <a:gs pos="50000">
                    <a:srgbClr val="ffffff"/>
                  </a:gs>
                  <a:gs pos="100000">
                    <a:srgbClr val="707070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293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77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770" fill="hold"/>
                                        <p:tgtEl>
                                          <p:spTgt spid="29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9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1" dur="77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Szacowany wynik finansowy - ogółem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1370160" y="1827360"/>
          <a:ext cx="3417480" cy="4525920"/>
        </p:xfrm>
        <a:graphic>
          <a:graphicData uri="http://schemas.openxmlformats.org/drawingml/2006/table">
            <a:tbl>
              <a:tblPr/>
              <a:tblGrid>
                <a:gridCol w="1710000"/>
                <a:gridCol w="170748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9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.26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.4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1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0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97" name=""/>
          <p:cNvGraphicFramePr/>
          <p:nvPr/>
        </p:nvGraphicFramePr>
        <p:xfrm>
          <a:off x="5094360" y="1827360"/>
          <a:ext cx="3509640" cy="4525920"/>
        </p:xfrm>
        <a:graphic>
          <a:graphicData uri="http://schemas.openxmlformats.org/drawingml/2006/table">
            <a:tbl>
              <a:tblPr/>
              <a:tblGrid>
                <a:gridCol w="1756080"/>
                <a:gridCol w="1753560"/>
              </a:tblGrid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ok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szczędność [zł]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2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.4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3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0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1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14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.500.000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 rot="20887800">
            <a:off x="1476360" y="2707920"/>
            <a:ext cx="9145440" cy="23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180000"/>
                    </a:gs>
                    <a:gs pos="50000">
                      <a:srgbClr val="800000">
                        <a:alpha val="80392"/>
                      </a:srgbClr>
                    </a:gs>
                    <a:gs pos="100000">
                      <a:srgbClr val="180000"/>
                    </a:gs>
                  </a:gsLst>
                  <a:lin ang="14214000"/>
                </a:gradFill>
                <a:latin typeface="Impact"/>
              </a:rPr>
              <a:t>Narastająco     24.560.000     zł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180000"/>
                  </a:gs>
                  <a:gs pos="50000">
                    <a:srgbClr val="800000">
                      <a:alpha val="80392"/>
                    </a:srgbClr>
                  </a:gs>
                  <a:gs pos="100000">
                    <a:srgbClr val="180000"/>
                  </a:gs>
                </a:gsLst>
                <a:lin ang="14214000"/>
              </a:gradFill>
              <a:latin typeface="Impact"/>
              <a:ea typeface="Impact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2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12944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zęść 3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Planowanie energetyczne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763280" y="4581000"/>
            <a:ext cx="4953240" cy="186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468360" y="620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042920" y="620640"/>
            <a:ext cx="336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708360" y="765000"/>
            <a:ext cx="497520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Gminne planowanie energetycz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1403280" y="1844640"/>
          <a:ext cx="7301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844640"/>
                    <a:ext cx="7301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3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524016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ujawsko – Pomorskie na tle Polski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8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476360" y="1484280"/>
          <a:ext cx="6985080" cy="5187960"/>
        </p:xfrm>
        <a:graphic>
          <a:graphicData uri="http://schemas.openxmlformats.org/drawingml/2006/table">
            <a:tbl>
              <a:tblPr/>
              <a:tblGrid>
                <a:gridCol w="3959280"/>
                <a:gridCol w="3025800"/>
              </a:tblGrid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yszczególnien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Udzia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dkarpa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ube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dla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Lubu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Mazowiec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Dolnoślą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1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ielk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Mał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Łódz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Warmińsko-Mazu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Zachodnio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Świętokrzy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3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Ślą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Kujawsko-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Opol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4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Pomorsk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Tahoma"/>
                        </a:rPr>
                        <a:t>9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ahoma"/>
                        </a:rPr>
                        <a:t>Pols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ff3300"/>
                          </a:solidFill>
                          <a:latin typeface="Verdana"/>
                          <a:ea typeface="Tahoma"/>
                        </a:rPr>
                        <a:t>2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13" name=""/>
          <p:cNvSpPr txBox="1"/>
          <p:nvPr/>
        </p:nvSpPr>
        <p:spPr>
          <a:xfrm rot="16200000">
            <a:off x="-628560" y="5133600"/>
            <a:ext cx="25336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Źródło: AM PREDA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8066160" cy="14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arta Energetyczna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Protokół Karty Energetycznej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o efektywności energetycznej                  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                                     i odnośnych aspektach środowiska             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1741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lska ratyfikowała Traktat Karty Energetycznej (TKE) oraz Protokół Karty Energetycznej o Efektywności Energetycznej i Odnośnych Aspektach Ochrony Środowiska (PEEREA) w 2000 roku.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Zapisy TKE zobowiązują umawiające się strony do sformułowania polityki efektywności energetycznej wraz z odpowiednimi unormowaniami prawnymi i regulacyjnymi, obejmującymi m.in. efektywne funkcjonowanie mechanizmów rynkowych, łagodzenie barier dla efektywności energetycznej, mechanizmy finansowania inwestycji energetycznych, przejrzystość struktury prawnej i regulacyjnej, działania wspierające transfer technologii oraz rozwój wiedzy i świadomości społecznej w tej dziedzinie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Cele strategiczne powinny być sformułowane w kategoriach mierzalnych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116000" y="47628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211280" y="764640"/>
            <a:ext cx="4608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lanowanie energetyczne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804000" y="5084640"/>
            <a:ext cx="16002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min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971640" y="1700280"/>
            <a:ext cx="1676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lska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484360" y="2852640"/>
            <a:ext cx="3448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Województwo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219640" y="3933720"/>
            <a:ext cx="17240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cebf5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Powia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cebf5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321" name=""/>
          <p:cNvSpPr/>
          <p:nvPr/>
        </p:nvSpPr>
        <p:spPr>
          <a:xfrm rot="5400000">
            <a:off x="2037960" y="1974600"/>
            <a:ext cx="3627360" cy="5761080"/>
          </a:xfrm>
          <a:custGeom>
            <a:avLst/>
            <a:gdLst>
              <a:gd name="textAreaLeft" fmla="*/ 1567080 w 3627360"/>
              <a:gd name="textAreaRight" fmla="*/ 2761920 w 3627360"/>
              <a:gd name="textAreaTop" fmla="*/ 3863160 h 5761080"/>
              <a:gd name="textAreaBottom" fmla="*/ 4386960 h 5761080"/>
            </a:gdLst>
            <a:ahLst/>
            <a:rect l="textAreaLeft" t="textAreaTop" r="textAreaRight" b="textAreaBottom"/>
            <a:pathLst>
              <a:path w="21600" h="21600">
                <a:moveTo>
                  <a:pt x="0" y="19637"/>
                </a:moveTo>
                <a:lnTo>
                  <a:pt x="14484" y="19637"/>
                </a:lnTo>
                <a:lnTo>
                  <a:pt x="14484" y="9331"/>
                </a:lnTo>
                <a:lnTo>
                  <a:pt x="9331" y="9331"/>
                </a:lnTo>
                <a:lnTo>
                  <a:pt x="15466" y="0"/>
                </a:lnTo>
                <a:lnTo>
                  <a:pt x="21600" y="9331"/>
                </a:lnTo>
                <a:lnTo>
                  <a:pt x="16447" y="9331"/>
                </a:lnTo>
                <a:lnTo>
                  <a:pt x="1644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>
              <a:alpha val="14000"/>
            </a:srgbClr>
          </a:solidFill>
          <a:ln w="177840">
            <a:solidFill>
              <a:srgbClr val="993366">
                <a:alpha val="7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ubCross"/>
          <p:cNvSpPr/>
          <p:nvPr/>
        </p:nvSpPr>
        <p:spPr>
          <a:xfrm rot="2471400">
            <a:off x="3492360" y="2565360"/>
            <a:ext cx="1576440" cy="1584360"/>
          </a:xfrm>
          <a:custGeom>
            <a:avLst/>
            <a:gdLst>
              <a:gd name="textAreaLeft" fmla="*/ 693360 w 1576440"/>
              <a:gd name="textAreaRight" fmla="*/ 883080 w 1576440"/>
              <a:gd name="textAreaTop" fmla="*/ 692280 h 1584360"/>
              <a:gd name="textAreaBottom" fmla="*/ 892080 h 1584360"/>
            </a:gdLst>
            <a:ahLst/>
            <a:rect l="textAreaLeft" t="textAreaTop" r="textAreaRight" b="textAreaBottom"/>
            <a:pathLst>
              <a:path w="21600" h="21600">
                <a:moveTo>
                  <a:pt x="9503" y="0"/>
                </a:moveTo>
              </a:path>
              <a:path w="21600" h="21600">
                <a:moveTo>
                  <a:pt x="9503" y="9438"/>
                </a:moveTo>
                <a:lnTo>
                  <a:pt x="0" y="9438"/>
                </a:lnTo>
                <a:lnTo>
                  <a:pt x="0" y="12162"/>
                </a:lnTo>
              </a:path>
              <a:path w="21600" h="21600">
                <a:moveTo>
                  <a:pt x="9503" y="12162"/>
                </a:moveTo>
                <a:lnTo>
                  <a:pt x="9503" y="21600"/>
                </a:lnTo>
                <a:lnTo>
                  <a:pt x="12097" y="21600"/>
                </a:lnTo>
              </a:path>
              <a:path w="21600" h="21600">
                <a:moveTo>
                  <a:pt x="12097" y="12162"/>
                </a:moveTo>
                <a:lnTo>
                  <a:pt x="21600" y="12162"/>
                </a:lnTo>
                <a:lnTo>
                  <a:pt x="21600" y="9438"/>
                </a:lnTo>
                <a:lnTo>
                  <a:pt x="12097" y="9438"/>
                </a:lnTo>
                <a:lnTo>
                  <a:pt x="12097" y="0"/>
                </a:lnTo>
              </a:path>
            </a:pathLst>
          </a:custGeom>
          <a:solidFill>
            <a:srgbClr val="ff0000">
              <a:alpha val="49000"/>
            </a:srgbClr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64000" y="3789360"/>
            <a:ext cx="1368720" cy="1419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859280" y="1989000"/>
            <a:ext cx="4048200" cy="201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ojewódzki Program</a:t>
            </a:r>
            <a:endParaRPr b="0" lang="en-US" sz="2800" spc="1" strike="noStrike">
              <a:ln w="2556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800" spc="1" strike="noStrike">
                <a:ln w="25560">
                  <a:solidFill>
                    <a:srgbClr val="800080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Rozwoju Energetyki</a:t>
            </a:r>
            <a:endParaRPr b="0" lang="en-US" sz="2800" spc="1" strike="noStrike">
              <a:ln w="25560">
                <a:solidFill>
                  <a:srgbClr val="800080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77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8" dur="770" fill="hold"/>
                                        <p:tgtEl>
                                          <p:spTgt spid="3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0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2" dur="77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1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3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77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0" dur="770" fill="hold"/>
                                        <p:tgtEl>
                                          <p:spTgt spid="32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2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4" dur="77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859280" y="765000"/>
            <a:ext cx="3673440" cy="6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Dziękuję za uwagę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124000" y="1700280"/>
            <a:ext cx="6335640" cy="4681440"/>
          </a:xfrm>
          <a:prstGeom prst="verticalScroll">
            <a:avLst>
              <a:gd name="adj" fmla="val 12500"/>
            </a:avLst>
          </a:prstGeom>
          <a:gradFill rotWithShape="0">
            <a:gsLst>
              <a:gs pos="0">
                <a:srgbClr val="008080">
                  <a:alpha val="62352"/>
                </a:srgbClr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KONTA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omasz Moracze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Dyrek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Departamentu Infrastruktu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Urząd Marszałkow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Województwa Kujawsko-Pomorski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87-100 Toru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ul. M. Skłodowskiej-Curie 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el. +48 56 656 11 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gsm +48 693 160 8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fax +48 56 656 11 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Verdana"/>
              </a:rPr>
              <a:t>t.moraczewski@kujawsko-pomorskie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619280" y="404280"/>
            <a:ext cx="752472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lan działania w celu poprawy efektywności energetycznej we Wspólnocie Europejskiej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50920" y="1628280"/>
            <a:ext cx="8640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Dokument zainspirowany został głównie dążeniem do wypełnienia zobowiązań zawartych w protokole z Kioto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Nakreśla cele dodatkowe - zwiększenie ochrony środowiska, prowadzenie zrównoważonej polityki energetycznej i wzmocnienie bezpieczeństwa energetycznego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700" spc="-1" strike="noStrike">
                <a:solidFill>
                  <a:srgbClr val="000000"/>
                </a:solidFill>
                <a:latin typeface="Verdana"/>
              </a:rPr>
              <a:t>Action Plan prezentuje zasady i środki, które pomogą usunąć bariery wykorzystania potencjału efektywności energetycznej.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Zaproponowano: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środki pozwalające zaprojektować zintegrowanie działań w zakresie efektywności energetycznej oraz polityk i programów nie energetycznych takich jak polityka transportowa, polityka przedsiębiorstw, polityka regionalna i miejska, polityka podatkowa i taryfowa, współpraca międzynarodowa, polityka i mechanizmy poszczególnych krajów Unii Europejskiej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środki pozwalające wzmocnić i poszerzyć obecną politykę i mechanizmy służące efektywności energetycznej, np. poprawa wydajności w transporcie, schematy etykietowania, umowy negocjowane i minimalne standardy efektywności energetycznej, dobrowolne zobowiązania w przemyśle, kogeneracja, upowszechnianie nowych technologii i badań naukowych, finansowanie przez trzecią stronę (TPF), rozpowszechnianie informacji, monitorowanie i ocena wyników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nowe reguły i mechanizmy w zakresie efektywności energetycznej, np. publiczne upowszechnianie nowych technologii energooszczędnych w sektorach transportowym i mieszkaniowym, wdrażanie programów audytów energetycznych w przemyśle i budownictwie, rozpowszechnianie i wprowadzanie zasad wymiany dobrych praktyk.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1042920" y="404640"/>
            <a:ext cx="300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771280" y="765000"/>
            <a:ext cx="58690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Program Zapobiegający Zmianie Klimatu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6756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la realizacji zainicjowanego w 2000 roku programu zaproponowano trzy grupy przedsięwzięć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o pierwszej grupy zaliczają się 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drażająca schemat handlu emisjami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efektywności energetycznej budynków,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biopaliw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yrektywa w sprawie przetargów publicznych związanych z efektywnością energetyczną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rugą grupę przedsięwzięć, stanowią uregulowania prawne w postaci dyrektyw: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kogeneracji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 usługach energetycznych i minimalnych standardach wydajności energetycznej dla sprzętu elektrycznego; nowelizacja przepisów z zakresu efektywności energetycznej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pieranie inicjatyw z zakresu technologii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nicjatywa programu silnikowego;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8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wsparcie poprawy infrastruktury badań nad projektami z zakresu zmian klimatycznych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zecia kategoria to środki zaliczane jako potrzebne w przyszłych przedsięwzięciach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o tej grupy zaliczają się: promocja ciepła wytwarzanego z odnawialnych źródeł energii, dobrowolne umowy w przemyśle, zachęty podatkowe dla użytkowników samochodów oraz dalsza poprawa technologii paliw i pojazdów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042920" y="404640"/>
            <a:ext cx="293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843280" y="620640"/>
            <a:ext cx="575928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Zielona księga europejskiej strategii bezpieczeństwa energetycznego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5676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lem tego dokumentu było zainicjowanie debaty                        o bezpieczeństwie energetycznym, które zostało uznane za najważniejszy element niezależności polityczno-ekonomicznej U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ebata powinna uwzględniać, fakt że aktualne zapotrzebowanie na energię pokrywane jest w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41% przez ropę naftową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22 % gaz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6 % węgiel (kamienny, brunatny i torf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5 % energię jądrową i w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6 % przez odnawialne źródła energii.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Jeżeli nie zostaną podjęte zdecydowane kroki, to całościowy obraz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ergetyki w roku 2030 zdominowany będzie nadal przez paliwa kopalne: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opę naftową (38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gaz (29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paliwa stałe (19 %),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odnawialne źródła energii (8 %) i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34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energię jądrową (zaledwie 6 %).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68436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187280" y="404640"/>
            <a:ext cx="2862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03640" y="549000"/>
            <a:ext cx="53640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Krajowy Plan Działań dotyczący </a:t>
            </a:r>
            <a:br>
              <a:rPr sz="2400"/>
            </a:b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efektywności energetycznej (EEAP)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89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Dokument przyjęty w czerwcu 2007 r. przez Ministerstwo Gospodarki  stanowi realizację zapisu art. 14 ust. 2 Dyrektywy 2006/32/WE Parlamentu Europejskiego i Rady z dnia 5 kwietnia 2006 r. w sprawie efektywności końcowego wykorzystania energii i usług energetycznych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Zaproponowane w ramach Krajowego Planu Działań środki                    i działania mają za zadanie: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siągnięcie celu indykatywnego oszczędności energii na poziomie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9% w roku 2016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 algn="just">
              <a:lnSpc>
                <a:spcPct val="80000"/>
              </a:lnSpc>
              <a:spcBef>
                <a:spcPts val="476"/>
              </a:spcBef>
              <a:buClr>
                <a:srgbClr val="006666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osiągnięcie celu pośredniego oszczędności energii na poziomie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6094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% w roku 2010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187280" y="404640"/>
            <a:ext cx="2953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916360" y="333000"/>
            <a:ext cx="56880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Środki służące poprawie efektywności energetycznej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mieszkalnictwa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usług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przemysłu*,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Środki służące poprawie efektywności energetycznej w sektorze transportu**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</a:rPr>
              <a:t>*  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z wyłączeniem instalacji objętych wspólnotowym systemem   handlu emisjami,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Verdana"/>
              </a:rPr>
              <a:t>**   </a:t>
            </a:r>
            <a:r>
              <a:rPr b="0" lang="en-US" sz="900" spc="-1" strike="noStrike">
                <a:solidFill>
                  <a:srgbClr val="000000"/>
                </a:solidFill>
                <a:latin typeface="Verdana"/>
              </a:rPr>
              <a:t>z wyłączeniem lotnictwa i żeglugi.</a:t>
            </a: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116000" y="404640"/>
            <a:ext cx="314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24360" y="404280"/>
            <a:ext cx="496872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2000"/>
            </a:b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752480"/>
            <a:ext cx="8134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0" y="2349360"/>
          <a:ext cx="9144000" cy="4508640"/>
        </p:xfrm>
        <a:graphic>
          <a:graphicData uri="http://schemas.openxmlformats.org/drawingml/2006/table">
            <a:tbl>
              <a:tblPr/>
              <a:tblGrid>
                <a:gridCol w="538200"/>
                <a:gridCol w="3041640"/>
                <a:gridCol w="3825720"/>
                <a:gridCol w="1738440"/>
              </a:tblGrid>
              <a:tr h="1284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anowane środki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ziałanie w celu popra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efektywności energetyczn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 odbiorcy końcow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4dcba"/>
                    </a:solidFill>
                  </a:tcPr>
                </a:tc>
              </a:tr>
              <a:tr h="1160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prowadzenie systemu oceny energetycznej budynkó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Certyfikacja nowych i istniejąc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udynków mieszkalnych realizowa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w wyniku wdrażania Dyrektyw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2002/91/W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9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undusz Termomodernizacj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Prowadzenie przedsięwzięć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termomodernizacyjnych dl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budynków mieszkaln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8 do 2016 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  <a:tr h="116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owanie racjonalne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ykorzystania energii w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gospodarstwach domowyc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Ogólnopolska kampania informacyjn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na temat celowości i opłacalnoś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stosowania wyrobów najbardziej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efektywnych energetyczn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8 do 2016 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ces ciągł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ffd9"/>
                    </a:solidFill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0" y="498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3017880"/>
            <a:ext cx="9144000" cy="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838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546120" cy="603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116000" y="404640"/>
            <a:ext cx="2879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Urząd Marszałk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Województwa Kujawsko –  Pomorskie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6633"/>
                </a:solidFill>
                <a:latin typeface="Verdana"/>
              </a:rPr>
              <a:t>Departament Infrastruktu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765000"/>
            <a:ext cx="656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Verdana"/>
              </a:rPr>
              <a:t>Środki służące poprawie efektywności energetycznej w sektorze mieszkalnic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9:48:02Z</dcterms:created>
  <dc:creator>JACEK WALSKI</dc:creator>
  <dc:description/>
  <dc:language>en-US</dc:language>
  <cp:lastModifiedBy>JACEK WALSKI</cp:lastModifiedBy>
  <dcterms:modified xsi:type="dcterms:W3CDTF">2008-10-29T06:49:00Z</dcterms:modified>
  <cp:revision>23</cp:revision>
  <dc:subject/>
  <dc:title>Racjonalizacja zużycia energii i optymalizacja kosztów w obiektach publicznych na przykładzie województwa kujawsko-pomorskiego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929390025</vt:r8>
  </property>
  <property fmtid="{D5CDD505-2E9C-101B-9397-08002B2CF9AE}" pid="3" name="_AuthorEmail">
    <vt:lpwstr>preda@preda.pl</vt:lpwstr>
  </property>
  <property fmtid="{D5CDD505-2E9C-101B-9397-08002B2CF9AE}" pid="4" name="_AuthorEmailDisplayName">
    <vt:lpwstr>AM PREDA</vt:lpwstr>
  </property>
  <property fmtid="{D5CDD505-2E9C-101B-9397-08002B2CF9AE}" pid="5" name="_EmailSubject">
    <vt:lpwstr>do poprawek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