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9.png" ContentType="image/png"/>
  <Override PartName="/ppt/media/image13.png" ContentType="image/png"/>
  <Override PartName="/ppt/media/image8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07FB-1B98-4036-99C2-B80F16D95CA0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C4E2-6ED2-4BEB-A70D-09730CC33A8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C042D-3710-452D-BB4F-63CCA547E2E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089D-6324-479F-851C-136C6A7D577B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4A19-AF02-4625-AA3F-74C7458EFF09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A7694-0625-4774-A981-E4EE976D76FC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D31A7-056F-4F5D-A472-634D555B4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901C-0E92-45C9-BE04-4ABA8BC0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098C-6F1A-4F2A-AB72-6968DAB4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CE71C-1981-44B2-9E2F-DEDBD9A9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7805E-EAF9-4680-956D-F5BBF0B6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E21B-E7F2-47DB-9532-2983D8073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5D1C-FB61-4373-B926-B1CF42FF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E323-4244-48B7-B4E0-E8E11DBF7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4FA2-7B30-44EC-9D50-38E56591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5DF2-570B-4BD0-9765-5E07729E2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939-CF29-4A5B-86B7-B1AC046C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B052-BF2D-41D6-B85F-8306C7E0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62E39-7781-4AD3-B75D-A756D23CD2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Monotype Corsiva"/>
              </a:rPr>
              <a:t>Ekonomiczny i ekologiczny wymiar efektywności energetycznej</a:t>
            </a: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76360" y="4292640"/>
            <a:ext cx="6400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dań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9 października 200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preda"/>
          <p:cNvPicPr/>
          <p:nvPr/>
        </p:nvPicPr>
        <p:blipFill>
          <a:blip r:embed="rId1"/>
          <a:stretch/>
        </p:blipFill>
        <p:spPr>
          <a:xfrm>
            <a:off x="395280" y="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8"/>
          <p:cNvSpPr/>
          <p:nvPr/>
        </p:nvSpPr>
        <p:spPr>
          <a:xfrm>
            <a:off x="395280" y="5445000"/>
            <a:ext cx="820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Ambasada Brytyjska w ramach program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Low Carbon High Growth Strategic Programme  F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przekazała grant na realizację seminari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00"/>
                </a:solidFill>
                <a:latin typeface="Times New Roman"/>
              </a:rPr>
              <a:t>stanowiący 83 % kosztów wydarzenia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ambasada_brytyjska"/>
          <p:cNvPicPr/>
          <p:nvPr/>
        </p:nvPicPr>
        <p:blipFill>
          <a:blip r:embed="rId2"/>
          <a:stretch/>
        </p:blipFill>
        <p:spPr>
          <a:xfrm>
            <a:off x="6084720" y="549360"/>
            <a:ext cx="2448000" cy="179856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atroni Honorow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0" descr="ambasada_brytyjska"/>
          <p:cNvPicPr/>
          <p:nvPr/>
        </p:nvPicPr>
        <p:blipFill>
          <a:blip r:embed="rId1"/>
          <a:stretch/>
        </p:blipFill>
        <p:spPr>
          <a:xfrm>
            <a:off x="2411280" y="1844640"/>
            <a:ext cx="2448000" cy="1798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1" descr="ministerstwo_gospodarki_z_n"/>
          <p:cNvPicPr/>
          <p:nvPr/>
        </p:nvPicPr>
        <p:blipFill>
          <a:blip r:embed="rId2"/>
          <a:stretch/>
        </p:blipFill>
        <p:spPr>
          <a:xfrm>
            <a:off x="5076720" y="1700280"/>
            <a:ext cx="1712880" cy="201600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2"/>
          <p:cNvSpPr/>
          <p:nvPr/>
        </p:nvSpPr>
        <p:spPr>
          <a:xfrm>
            <a:off x="684360" y="436572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Ekonomiczny i ekologiczny wymiar efektywności energetycznej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33"/>
          <p:cNvSpPr/>
          <p:nvPr/>
        </p:nvSpPr>
        <p:spPr>
          <a:xfrm>
            <a:off x="1332000" y="5589720"/>
            <a:ext cx="64008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dań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9 października 200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6" descr=""/>
          <p:cNvPicPr/>
          <p:nvPr/>
        </p:nvPicPr>
        <p:blipFill>
          <a:blip r:embed="rId3"/>
          <a:stretch/>
        </p:blipFill>
        <p:spPr>
          <a:xfrm>
            <a:off x="468360" y="1700280"/>
            <a:ext cx="1744560" cy="2016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7" descr=""/>
          <p:cNvPicPr/>
          <p:nvPr/>
        </p:nvPicPr>
        <p:blipFill>
          <a:blip r:embed="rId4"/>
          <a:stretch/>
        </p:blipFill>
        <p:spPr>
          <a:xfrm>
            <a:off x="6948360" y="1700280"/>
            <a:ext cx="1636920" cy="201600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atroni medial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/>
          <p:cNvSpPr/>
          <p:nvPr/>
        </p:nvSpPr>
        <p:spPr>
          <a:xfrm>
            <a:off x="684360" y="4365720"/>
            <a:ext cx="77724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Monotype Corsiva"/>
              </a:rPr>
              <a:t>Ekonomiczny i ekologiczny wymiar efektywności energetycznej</a:t>
            </a:r>
            <a:r>
              <a:rPr b="0" lang="en-US" sz="36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1332000" y="5589720"/>
            <a:ext cx="640080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Gdań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Corsiva"/>
              </a:rPr>
              <a:t>29 października 200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http://www.cpee.eu/grafika/Logo/NP_WNP_poziom.gif"/>
          <p:cNvPicPr/>
          <p:nvPr/>
        </p:nvPicPr>
        <p:blipFill>
          <a:blip r:embed="rId1"/>
          <a:stretch/>
        </p:blipFill>
        <p:spPr>
          <a:xfrm>
            <a:off x="539640" y="1557360"/>
            <a:ext cx="4105440" cy="777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http://www.cpee.eu/grafika/Logo/czysta_energia.gif"/>
          <p:cNvPicPr/>
          <p:nvPr/>
        </p:nvPicPr>
        <p:blipFill>
          <a:blip r:embed="rId2"/>
          <a:stretch/>
        </p:blipFill>
        <p:spPr>
          <a:xfrm>
            <a:off x="2124000" y="2708280"/>
            <a:ext cx="4969080" cy="8269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3"/>
          <a:stretch/>
        </p:blipFill>
        <p:spPr>
          <a:xfrm>
            <a:off x="5219640" y="1341360"/>
            <a:ext cx="3348000" cy="11368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19" descr="Electrabel_GS_RVB"/>
          <p:cNvPicPr/>
          <p:nvPr/>
        </p:nvPicPr>
        <p:blipFill>
          <a:blip r:embed="rId1"/>
          <a:stretch/>
        </p:blipFill>
        <p:spPr>
          <a:xfrm>
            <a:off x="468360" y="981000"/>
            <a:ext cx="3058920" cy="142092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Partnerz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684360" y="5661000"/>
            <a:ext cx="7772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Monotype Corsiva"/>
              </a:rPr>
              <a:t>Ekonomiczny i ekologiczny wymiar efektywności energetycznej</a:t>
            </a:r>
            <a:r>
              <a:rPr b="0" lang="en-US" sz="28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332000" y="6308640"/>
            <a:ext cx="64008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otype Corsiva"/>
              </a:rPr>
              <a:t>Gdańsk, 29 października 2008 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7" descr="logo"/>
          <p:cNvPicPr/>
          <p:nvPr/>
        </p:nvPicPr>
        <p:blipFill>
          <a:blip r:embed="rId2"/>
          <a:stretch/>
        </p:blipFill>
        <p:spPr>
          <a:xfrm>
            <a:off x="395280" y="3789360"/>
            <a:ext cx="2916360" cy="1031760"/>
          </a:xfrm>
          <a:prstGeom prst="rect">
            <a:avLst/>
          </a:prstGeom>
          <a:ln w="0">
            <a:noFill/>
          </a:ln>
        </p:spPr>
      </p:pic>
      <p:grpSp>
        <p:nvGrpSpPr>
          <p:cNvPr id="71" name="Group 11"/>
          <p:cNvGrpSpPr/>
          <p:nvPr/>
        </p:nvGrpSpPr>
        <p:grpSpPr>
          <a:xfrm>
            <a:off x="684360" y="2421000"/>
            <a:ext cx="2520360" cy="1152360"/>
            <a:chOff x="684360" y="2421000"/>
            <a:chExt cx="2520360" cy="1152360"/>
          </a:xfrm>
        </p:grpSpPr>
        <p:sp>
          <p:nvSpPr>
            <p:cNvPr id="72" name="Freeform 12"/>
            <p:cNvSpPr/>
            <p:nvPr/>
          </p:nvSpPr>
          <p:spPr>
            <a:xfrm>
              <a:off x="2641320" y="2631240"/>
              <a:ext cx="563400" cy="72288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  <a:effectLst>
              <a:outerShdw dist="17819" dir="2700000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13"/>
            <p:cNvSpPr/>
            <p:nvPr/>
          </p:nvSpPr>
          <p:spPr>
            <a:xfrm>
              <a:off x="2876400" y="2525040"/>
              <a:ext cx="186480" cy="8604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  <a:effectLst>
              <a:outerShdw dist="17819" dir="2700000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14"/>
            <p:cNvSpPr/>
            <p:nvPr/>
          </p:nvSpPr>
          <p:spPr>
            <a:xfrm>
              <a:off x="1544760" y="2604600"/>
              <a:ext cx="904320" cy="76824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  <a:effectLst>
              <a:outerShdw dist="17819" dir="2700000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15"/>
            <p:cNvSpPr/>
            <p:nvPr/>
          </p:nvSpPr>
          <p:spPr>
            <a:xfrm>
              <a:off x="1298160" y="2421000"/>
              <a:ext cx="1344960" cy="115236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  <a:effectLst>
              <a:outerShdw dist="17819" dir="2700000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16"/>
            <p:cNvSpPr/>
            <p:nvPr/>
          </p:nvSpPr>
          <p:spPr>
            <a:xfrm>
              <a:off x="684360" y="2640240"/>
              <a:ext cx="603360" cy="715320"/>
            </a:xfrm>
            <a:prstGeom prst="pie">
              <a:avLst/>
            </a:prstGeom>
            <a:solidFill>
              <a:srgbClr val="003300"/>
            </a:solidFill>
            <a:ln w="0">
              <a:noFill/>
            </a:ln>
            <a:effectLst>
              <a:outerShdw dist="17819" dir="2700000" blurRad="0" rotWithShape="0">
                <a:srgbClr val="babab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WordArt 20"/>
          <p:cNvSpPr txBox="1"/>
          <p:nvPr/>
        </p:nvSpPr>
        <p:spPr>
          <a:xfrm>
            <a:off x="6156360" y="3716280"/>
            <a:ext cx="244800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BKEE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3851280" y="1197000"/>
            <a:ext cx="1488960" cy="165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" descr=""/>
          <p:cNvPicPr/>
          <p:nvPr/>
        </p:nvPicPr>
        <p:blipFill>
          <a:blip r:embed="rId6"/>
          <a:stretch/>
        </p:blipFill>
        <p:spPr>
          <a:xfrm>
            <a:off x="5580000" y="1484280"/>
            <a:ext cx="3313080" cy="8938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"/>
          <p:cNvPicPr/>
          <p:nvPr/>
        </p:nvPicPr>
        <p:blipFill>
          <a:blip r:embed="rId7"/>
          <a:stretch/>
        </p:blipFill>
        <p:spPr>
          <a:xfrm>
            <a:off x="3851280" y="3141720"/>
            <a:ext cx="1494000" cy="1727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-171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Monotype Corsiva"/>
              </a:rPr>
              <a:t>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0" y="623880"/>
          <a:ext cx="9144000" cy="6234120"/>
        </p:xfrm>
        <a:graphic>
          <a:graphicData uri="http://schemas.openxmlformats.org/drawingml/2006/table">
            <a:tbl>
              <a:tblPr/>
              <a:tblGrid>
                <a:gridCol w="1828800"/>
                <a:gridCol w="2573280"/>
                <a:gridCol w="4741920"/>
              </a:tblGrid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elegen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rganizacj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emat prelekcj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esław Byczkows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ndrzej Kantha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rtosz Nowac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icemarszałek Województwa 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Konsul Honorowy Wielkiej Brytanii w Gdańsku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złonek Zarządu Województwa Kujawsko-Pomorskieg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twarcie seminarium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ohn Thorp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hameswey Ltd i Energy Centre for Sustainable Communities</a:t>
                      </a: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konomiczna i ekologiczna racjonalizacja energetyki gminnej na przykładzie okręgu Wok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ariusz Schark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ząd Regulacji Energety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adania jednostek samorządu terytorialnego na rynku energetycznym w kontekście ustawy Prawo Energetyczne i Krajowego Planu Działań dotyczącego efektywności energetycznej (EEAP)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zena Budnik-Ródź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ząd Marszałkowski Województwa Zachodnio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zpieczeństwo energetyczne w skali regionu i gminy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Jacek Wals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M PRED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udyt energetyczny – działania racjonalizujące zużycie energii i optymalizujące koszty utrzymania infrastruktury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gata Matl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LECTRABEL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żliwości współpracy z niezależnymi sprzedawcami energi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r Tadeusz Żure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ząd Marszałkowski Województwa 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minne planowanie energetyczne na przykładzie województwa 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dward Reszkowsk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rząd Marszałkowski Województwa Kujawsko – 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cjonalizacja zużycia energii i optymalizacja kosztów w obiektach publicznych na przykładzie województwa kujawsko-pomorskiego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f. Jan Kicińsk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ałtycki Klaster Ekoenergetyczny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Współpraca środowiska naukowego, biznesu i samorządu w realizacji gminnej efektywności energetycznej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aria Arendarczy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OŚ SA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nansowanie inwestycji energetycznych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yszard Marciniak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MA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ROM@R MONITORING SYSTEM - sterowanie i zarządzanie mediami energetycznym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 advTm="15000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4T19:50:13Z</dcterms:created>
  <dc:creator>JACEK WALSKI</dc:creator>
  <dc:description/>
  <dc:language>en-US</dc:language>
  <cp:lastModifiedBy>JW</cp:lastModifiedBy>
  <dcterms:modified xsi:type="dcterms:W3CDTF">2008-10-30T20:11:45Z</dcterms:modified>
  <cp:revision>23</cp:revision>
  <dc:subject/>
  <dc:title>Ekonomiczny wymiar efektywności energetycznej.</dc:title>
</cp:coreProperties>
</file>