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3.png" ContentType="image/png"/>
  <Override PartName="/ppt/media/image8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4CFF-EC1F-49BB-97DA-A9AB580448A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5C12-8C42-4360-B016-291D3F8CA74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B1E6-4C08-426A-843E-1937E9D76F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DEC7-C681-4546-BC34-DBD4F807A6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ADFB-F77B-4236-87C7-028D40226F7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7142-0C79-4638-BB5F-C9D91A6A53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F63-0941-491B-895B-DE36D786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089-E814-4543-8456-C94E8DA6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C3E-0705-410C-87B4-04CC3FE2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889-D505-4DFC-B2D8-C7499A46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4FA-CC82-4D0E-8A8D-C0025A4E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845-1822-49C4-89CF-2B0821AC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7B3-98C8-4FDD-80DA-C1680AEB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D9E-2D84-4749-98D0-0FA82958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3083-5C73-46CD-8F37-CA9FA069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A45-E970-464B-A18A-4334A905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B20-772C-48B1-9F05-AB0BE77E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110-0FD9-466D-B39F-9899D0BF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8878-560E-441F-AF37-84082DEC7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Ekonomiczny i ekologiczny wymiar efektywności energetycznej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4292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dań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9 października 2008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reda"/>
          <p:cNvPicPr/>
          <p:nvPr/>
        </p:nvPicPr>
        <p:blipFill>
          <a:blip r:embed="rId1"/>
          <a:stretch/>
        </p:blipFill>
        <p:spPr>
          <a:xfrm>
            <a:off x="395280" y="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95280" y="5445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Ambasada Brytyjska w ramach program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Low Carbon High Growth Strategic Programme 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zekazała grant na realizację semina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stanowiący 83 % kosztów wydarzen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mbasada_brytyjska"/>
          <p:cNvPicPr/>
          <p:nvPr/>
        </p:nvPicPr>
        <p:blipFill>
          <a:blip r:embed="rId2"/>
          <a:stretch/>
        </p:blipFill>
        <p:spPr>
          <a:xfrm>
            <a:off x="6084720" y="549360"/>
            <a:ext cx="2448000" cy="1798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Patroni Honorow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0" descr="ambasada_brytyjska"/>
          <p:cNvPicPr/>
          <p:nvPr/>
        </p:nvPicPr>
        <p:blipFill>
          <a:blip r:embed="rId1"/>
          <a:stretch/>
        </p:blipFill>
        <p:spPr>
          <a:xfrm>
            <a:off x="2411280" y="1844640"/>
            <a:ext cx="244800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ministerstwo_gospodarki_z_n"/>
          <p:cNvPicPr/>
          <p:nvPr/>
        </p:nvPicPr>
        <p:blipFill>
          <a:blip r:embed="rId2"/>
          <a:stretch/>
        </p:blipFill>
        <p:spPr>
          <a:xfrm>
            <a:off x="5076720" y="1700280"/>
            <a:ext cx="1712880" cy="2016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2"/>
          <p:cNvSpPr/>
          <p:nvPr/>
        </p:nvSpPr>
        <p:spPr>
          <a:xfrm>
            <a:off x="684360" y="436572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Ekonomiczny i ekologiczny wymiar efektywności energetycznej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3"/>
          <p:cNvSpPr/>
          <p:nvPr/>
        </p:nvSpPr>
        <p:spPr>
          <a:xfrm>
            <a:off x="1332000" y="5589720"/>
            <a:ext cx="64008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dań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9 października 2008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6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1744560" cy="201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"/>
          <p:cNvPicPr/>
          <p:nvPr/>
        </p:nvPicPr>
        <p:blipFill>
          <a:blip r:embed="rId4"/>
          <a:stretch/>
        </p:blipFill>
        <p:spPr>
          <a:xfrm>
            <a:off x="6948360" y="1700280"/>
            <a:ext cx="1636920" cy="2016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Patroni medial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84360" y="436572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Ekonomiczny i ekologiczny wymiar efektywności energetycznej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332000" y="5589720"/>
            <a:ext cx="64008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dań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9 października 2008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cpee.eu/grafika/Logo/NP_WNP_poziom.gif"/>
          <p:cNvPicPr/>
          <p:nvPr/>
        </p:nvPicPr>
        <p:blipFill>
          <a:blip r:embed="rId1"/>
          <a:stretch/>
        </p:blipFill>
        <p:spPr>
          <a:xfrm>
            <a:off x="539640" y="1557360"/>
            <a:ext cx="4105440" cy="77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www.cpee.eu/grafika/Logo/czysta_energia.gif"/>
          <p:cNvPicPr/>
          <p:nvPr/>
        </p:nvPicPr>
        <p:blipFill>
          <a:blip r:embed="rId2"/>
          <a:stretch/>
        </p:blipFill>
        <p:spPr>
          <a:xfrm>
            <a:off x="2124000" y="2708280"/>
            <a:ext cx="4969080" cy="82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3"/>
          <a:stretch/>
        </p:blipFill>
        <p:spPr>
          <a:xfrm>
            <a:off x="5219640" y="1341360"/>
            <a:ext cx="3348000" cy="1136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9" descr="Electrabel_GS_RVB"/>
          <p:cNvPicPr/>
          <p:nvPr/>
        </p:nvPicPr>
        <p:blipFill>
          <a:blip r:embed="rId1"/>
          <a:stretch/>
        </p:blipFill>
        <p:spPr>
          <a:xfrm>
            <a:off x="468360" y="981000"/>
            <a:ext cx="3058920" cy="1420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Partnerz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684360" y="566100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Ekonomiczny i ekologiczny wymiar efektywności energetycznej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332000" y="6308640"/>
            <a:ext cx="6400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Gdańsk, 29 października 2008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logo"/>
          <p:cNvPicPr/>
          <p:nvPr/>
        </p:nvPicPr>
        <p:blipFill>
          <a:blip r:embed="rId2"/>
          <a:stretch/>
        </p:blipFill>
        <p:spPr>
          <a:xfrm>
            <a:off x="395280" y="3789360"/>
            <a:ext cx="2916360" cy="103176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1"/>
          <p:cNvGrpSpPr/>
          <p:nvPr/>
        </p:nvGrpSpPr>
        <p:grpSpPr>
          <a:xfrm>
            <a:off x="684360" y="2421000"/>
            <a:ext cx="2520360" cy="1152360"/>
            <a:chOff x="684360" y="2421000"/>
            <a:chExt cx="2520360" cy="1152360"/>
          </a:xfrm>
        </p:grpSpPr>
        <p:sp>
          <p:nvSpPr>
            <p:cNvPr id="72" name="Freeform 12"/>
            <p:cNvSpPr/>
            <p:nvPr/>
          </p:nvSpPr>
          <p:spPr>
            <a:xfrm>
              <a:off x="2641320" y="2631240"/>
              <a:ext cx="563400" cy="72288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  <a:effectLst>
              <a:outerShdw dist="17819" dir="2700000" blurRad="0" rotWithShape="0">
                <a:srgbClr val="baba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3"/>
            <p:cNvSpPr/>
            <p:nvPr/>
          </p:nvSpPr>
          <p:spPr>
            <a:xfrm>
              <a:off x="2876400" y="2525040"/>
              <a:ext cx="186480" cy="8604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  <a:effectLst>
              <a:outerShdw dist="17819" dir="2700000" blurRad="0" rotWithShape="0">
                <a:srgbClr val="baba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4"/>
            <p:cNvSpPr/>
            <p:nvPr/>
          </p:nvSpPr>
          <p:spPr>
            <a:xfrm>
              <a:off x="1544760" y="2604600"/>
              <a:ext cx="904320" cy="76824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  <a:effectLst>
              <a:outerShdw dist="17819" dir="2700000" blurRad="0" rotWithShape="0">
                <a:srgbClr val="baba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5"/>
            <p:cNvSpPr/>
            <p:nvPr/>
          </p:nvSpPr>
          <p:spPr>
            <a:xfrm>
              <a:off x="1298160" y="2421000"/>
              <a:ext cx="1344960" cy="11523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  <a:effectLst>
              <a:outerShdw dist="17819" dir="2700000" blurRad="0" rotWithShape="0">
                <a:srgbClr val="baba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6"/>
            <p:cNvSpPr/>
            <p:nvPr/>
          </p:nvSpPr>
          <p:spPr>
            <a:xfrm>
              <a:off x="684360" y="2640240"/>
              <a:ext cx="603360" cy="71532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  <a:effectLst>
              <a:outerShdw dist="17819" dir="2700000" blurRad="0" rotWithShape="0">
                <a:srgbClr val="baba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WordArt 20"/>
          <p:cNvSpPr txBox="1"/>
          <p:nvPr/>
        </p:nvSpPr>
        <p:spPr>
          <a:xfrm>
            <a:off x="6156360" y="3716280"/>
            <a:ext cx="244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BKE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3851280" y="1197000"/>
            <a:ext cx="1488960" cy="165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"/>
          <p:cNvPicPr/>
          <p:nvPr/>
        </p:nvPicPr>
        <p:blipFill>
          <a:blip r:embed="rId6"/>
          <a:stretch/>
        </p:blipFill>
        <p:spPr>
          <a:xfrm>
            <a:off x="5580000" y="1484280"/>
            <a:ext cx="3313080" cy="893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7"/>
          <a:stretch/>
        </p:blipFill>
        <p:spPr>
          <a:xfrm>
            <a:off x="3851280" y="3141720"/>
            <a:ext cx="1494000" cy="1727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623880"/>
          <a:ext cx="9144000" cy="6234120"/>
        </p:xfrm>
        <a:graphic>
          <a:graphicData uri="http://schemas.openxmlformats.org/drawingml/2006/table">
            <a:tbl>
              <a:tblPr/>
              <a:tblGrid>
                <a:gridCol w="1828800"/>
                <a:gridCol w="2573280"/>
                <a:gridCol w="47419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leg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ac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at prelekcj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esław Byczkows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rzej Kanthak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rtosz Nowac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cemarszałek Województwa Pomorskieg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sul Honorowy Wielkiej Brytanii w Gdańsk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złonek Zarządu Województwa Kujawsko-Pomor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warcie seminariu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hn Thor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meswey Ltd i Energy Centre for Sustainable Communities</a:t>
                      </a: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konomiczna i ekologiczna racjonalizacja energetyki gminnej na przykładzie okręgu Wo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riusz Sch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ząd Regulacji Energety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dania jednostek samorządu terytorialnego na rynku energetycznym w kontekście ustawy Prawo Energetyczne i Krajowego Planu Działań dotyczącego efektywności energetycznej (EEAP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zena Budnik-Ród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ząd Marszałkowski Województwa Zachodniopomorskieg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zpieczeństwo energetyczne w skali regionu i gminy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acek Wals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 PRE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yt energetyczny – działania racjonalizujące zużycie energii i optymalizujące koszty utrzymania infrastruktury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ata Matl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CTRABE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żliwości współpracy z niezależnymi sprzedawcami energi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 Tadeusz Żurek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ząd Marszałkowski Województwa Pomorskieg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minne planowanie energetyczne na przykładzie województwa pomorskieg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dward Reszkows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ząd Marszałkowski Województwa Kujawsko – Pomorskieg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cjonalizacja zużycia energii i optymalizacja kosztów w obiektach publicznych na przykładzie województwa kujawsko-pomorskieg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. Jan Kicińsk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łtycki Klaster Ekoenergetyczny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spółpraca środowiska naukowego, biznesu i samorządu w realizacji gminnej efektywności energetycznej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ia Arendarczyk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Ś S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nansowanie inwestycji energetycznych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yszard Marciniak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MA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M@R MONITORING SYSTEM - sterowanie i zarządzanie mediami energetycznym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5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9:50:13Z</dcterms:created>
  <dc:creator>JACEK WALSKI</dc:creator>
  <dc:description/>
  <dc:language>en-US</dc:language>
  <cp:lastModifiedBy>JW</cp:lastModifiedBy>
  <dcterms:modified xsi:type="dcterms:W3CDTF">2008-10-30T20:11:45Z</dcterms:modified>
  <cp:revision>23</cp:revision>
  <dc:subject/>
  <dc:title>Ekonomiczny wymiar efektywności energetycznej.</dc:title>
</cp:coreProperties>
</file>